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52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26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52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F8BA1-F522-4D44-B556-C65B79BB2A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A40-E6FE-407D-8823-793C61BE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CA9-C057-469C-8A03-2B759CE2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1B2-8786-4FAD-9F2A-5D206986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F49-6CDC-4B11-91E0-85A4D03B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865-CF6C-45FD-BF9A-1A73BA0A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A35-DFA0-496D-8AC5-AAEB5642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C2A-A366-41A1-81BB-D5D95DD1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D18-0426-42A4-A542-CA995FF8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9E4-0A9B-4B7F-8BFF-33461B51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5C9-ADC3-4DB4-80B3-39BFFD7C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42E-5A22-459C-9349-E292F9A8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7FB-B800-45FA-A06A-201ABB93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03130-3027-4A35-9052-7F95091474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268280"/>
            <a:ext cx="7848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. 3º Constituem diretrizes gerais de ação para implementação da Política Nacional de Recursos Híd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- a gestão sistemática dos recursos hídricos, sem dissociação dos aspectos de quantidade e qual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 - a adequação da gestão de recursos hídricos às diversidades físicas, bióticas, demográficas, econômicas, sociais e culturais das diversas regiões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I - a integração da gestão de recursos hídricos com a gestão ambi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V - a articulação do planejamento de recursos hídricos com o dos setores usuários e com os planejamentos regional, estadual e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- a articulação da gestão de recursos hídricos com a do uso do so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 - a integração da gestão das bacias hidrográficas com a dos sistemas estuarinos e zonas cost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520" y="404640"/>
            <a:ext cx="594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LEI Nº 9.433, DE 8 DE JANEIRO DE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3240" y="3956040"/>
            <a:ext cx="7238880" cy="1981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upo de Integração do Gerenciamento Cost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I - GE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0440" y="4032360"/>
            <a:ext cx="83808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tro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1560" y="5708520"/>
            <a:ext cx="761760" cy="38124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251320"/>
            <a:ext cx="60948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1846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18240" y="39560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3760" y="471816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89840" y="4641840"/>
            <a:ext cx="685800" cy="5335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2920" y="3727440"/>
            <a:ext cx="76212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7320" y="37274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41720" y="372744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80160" y="3803760"/>
            <a:ext cx="68580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74840" y="380376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9560" y="52513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65960" y="5479920"/>
            <a:ext cx="76176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C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320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7640" y="55562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B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37160" y="57848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T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464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960" y="43369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9720" y="12128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iado no âmbito do PNGCII para promover a articulação das ações federais incidentes na Zona Costeira, a partir da aprovação de planos de ação fed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960" y="297972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s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06280"/>
            <a:ext cx="763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Articulação política e institucional na Esfera Federal para a condução do PN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14940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Institui a Câmara Técnica de Integração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Gestão das Bacias Hidrográficas e dos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-CNR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no uso das competências que lhe são conferidas pelas Leis nos 9.433, de 8 de janeiro de 1997, e 9.984, de 17 de julho de 2000, e tendo em vista o disposto nos arts. 22 e 23 do seu Regimento Interno;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que o art. 3o, inciso VI, da Lei no 9.433, de 1997, prevê a integração da gestão das bacias hidrográficas com a dos sistemas estuarinos e zonas costeiras como uma das diretrizes gerais de ação para a implementação da Política Nacional de Recursos Hídric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o constante da Lei no 7.661, de 16 de maio de 1988, que instituiu o Plano Nacional de Gerenciamento Costei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a necessidade de otimizar esforços para maior integração das ações entre os colegiados costeiros e os comitês de bacia hidrográfica, resol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1o Instituir a Câmara Técnica de Integração da Gestão das Bacias Hidrográficas e dos Sistemas 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4200" y="22068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2o São competências da Câmara Técn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 - analisar e propor mecanismos de integração das políticas de gestão de recursos hídricos e de gerenciamento costeiro, considerando também as demais políticas públicas inciden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 - propor mecanismos de integração dos instrumentos das políticas e indicadores comuns para o gerenciament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I - analisar e propor ações visando a minimização ou solução de conflitos de us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V - propor mecanismos de intercâmbio técnico e institucional entre as instâncias responsáveis pelas respectivas polític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 - analisar, estudar e emitir pareceres sobre assuntos af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I - exercer competências do CNRH que lhe forem especialmente delegadas pelo Plená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3o A composição da Câmara Técnica e o mandato dos seus membros serão definidos conforme estabelecido no Regimento Interno do CNR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4o A Câmara Técnica terá prazo de dois meses, a partir da publicação desta Resoluçã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ra sua instalação, cabendo à Secretaria -Executiva cooperar com sua efetiv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5o Esta Resolução entra em vigor na data de sua publ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0720" y="1324080"/>
            <a:ext cx="77389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São instrumentos de gestão dos Recursos Hídricos, conforme art. 5o. da Lei n. 9433, de 08 de janeiro de 199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s Planos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enquadramento dos corpos de água em classes, segundo os usos preponderantes da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outorga dos direitos de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cobrança pelo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Sistema de Informações sobr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0" y="158760"/>
            <a:ext cx="669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NSTRUMENTOS DE GESTÃO DOS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8720" y="551664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3, de 25 de setembr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a implementação do Sistema Nacional de Informações sobr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700280"/>
            <a:ext cx="792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2, de 19 de julh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procedimentos para o enquadramento de corpos de água em classes segundo os usos preponder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92428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6, de 08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outorga de direito de uso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0560" y="40464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7, de 29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elaboração dos Planos de Recursos Hídricos de Bacia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22100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48, de 21 de março de 200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cobrança pelo us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9280" y="194076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S RESOLUÇÕES CNRH Nº. 12, 13, 16, 17 E 48 E PROPOR EVENTUAIS AJUSTES NELAS VISANDO A INTEGRAÇÃO DOS INSTRUMENTOS DAS POLÍTICAS E INDICADORES COMUNS PARA O GERENCIAMENTO DE RECURSOS HÍDRICOS NA ZONA COSTEIRA E SISTEMAS ESTUARI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0" y="55548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2800" y="2101680"/>
            <a:ext cx="71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 MINUTA DO PL 1616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1800" y="339840"/>
            <a:ext cx="261612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ori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560" y="14842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DETALHAR O PROGRAMA SOBRE ZONA COSTEIRA QUE CONSTA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2640" y="3427560"/>
            <a:ext cx="75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omponente de Programas Regionais de Recursos Hídricos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5640" y="4763160"/>
            <a:ext cx="70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 ao Gerenciamento Costeir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997360"/>
            <a:ext cx="8064360" cy="3311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7280" y="1916280"/>
            <a:ext cx="80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O DECRETO Nº 5.300, DE 07 DE DEZEMBRO DE 2004 QUE REGULAMENTOU A LEI N° 7661, DE 16 DE MAIO DE 1988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aquim</dc:creator>
  <dc:description/>
  <dc:language>en-US</dc:language>
  <cp:lastModifiedBy>joaquim</cp:lastModifiedBy>
  <cp:revision>0</cp:revision>
  <dc:subject/>
  <dc:title>Slide 1</dc:title>
</cp:coreProperties>
</file>