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3064-397C-43F4-A4CC-B2623F5D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2283-30A0-4796-9673-A2C4C7E3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1B55-CD5B-4056-A48F-C4EDADB5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81DF-FDF9-4CC5-982D-39611527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B14B-DFFD-4B48-A99B-DDA4FAE5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FC2D-F72C-487F-800E-D7BF609A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2392-2BE4-4ABB-9CA7-6905896D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71A0-8ADD-4E6F-810B-F58BF144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2766-0178-4C9F-9EFC-875F7B20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68D3-7E00-4FA4-B0F4-FEFCDC6F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F29F-7980-403A-A6A2-F13BD6BB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2FAD9-454F-482F-9788-468B10EA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DBD6-453F-4C48-9526-E075F36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3647-B89C-4219-B15A-C7E853A1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8FAB-8ED1-4A0D-8044-E056FADD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3EA0-5C13-498A-8210-6BF32397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F11B-1046-4766-B39E-25036A8B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AE89-96CD-41EB-B6F5-7B536C28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3F9C-6945-46F4-8EA7-A79ED9A0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F862-5EC6-4422-B512-1C9373BA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F9BD-A8F7-4B61-A48C-7CB384AA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1763-8C42-477A-AEDB-3E18FC8D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8197-C2F4-4BE3-893B-8348270B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17AA-B1FE-4614-AEC1-DCA91758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36F4-6FA4-45F6-9CC3-402D7902559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04E9-07D7-4458-9790-A0A1AD70749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Mecanismos e Valores da Cobrança pelo Uso da Água na Bacia do Rio São Francisco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4ª Reunião CTCOB- CNR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maz Matta Mach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.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61720" y="6237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ropriá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800000">
            <a:off x="3779640" y="97992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68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Garajú - AL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962280" y="4320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12160" y="615780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18240" y="649116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876440" y="42469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20" y="476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SE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65088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7400" y="4292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550080" y="578736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50120" y="213372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655308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45720" y="6165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253720" y="54540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aramond"/>
              </a:rPr>
              <a:t>Rede </a:t>
            </a:r>
            <a:r>
              <a:rPr b="1" lang="pt-BR" sz="4400" spc="-1" strike="noStrike" u="sng">
                <a:solidFill>
                  <a:srgbClr val="ffffff"/>
                </a:solidFill>
                <a:uFillTx/>
                <a:latin typeface="Garamond"/>
              </a:rPr>
              <a:t>EcoVaz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Com vistas à definição de um regime ou hidrograma de vazões ecológicas para o baixo curso do Rio São Francisco, estão sendo realizados estudos por uma rede de pesquisa formada por universidades, localizadas na Bacia (UFBA, UFMG, UFS, UFPE, UFLA), financiada pelo CT-Hidro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(Edital MCT/CNPq – CT-HIDRO 45/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A rede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coVazão</a:t>
            </a: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 tem como objetivo a articulação de iniciativas, no campo da produção do conhecimento, que avance no sentido da construção de um saber mais próximo das múltiplas e complexas determinações naturais e socia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Trebuchet MS"/>
              </a:rPr>
              <a:t>COMITÊ DA BACIA DO RIO SÃO FRANCISC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nstituído por Decreto Presidencial de 05 de junho de 200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4 Membros: 62 titulares e 62 suplen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osição: 32,79% Poder Público; 37,70% Usuários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4,59% Sociedade Civil; 4,92% Comunidade Tradicion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iretoria: Presidência – Sociedade Civil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ce Presidência – Poder Público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retaria Executiva - Poder Público/ 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to - Poder Público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édio - Sociedade Civil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ub-médio - Poder Público/ P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aixo - Sociedade Civil/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60280"/>
            <a:ext cx="87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AVALIAÇÃO DAS ALTERAÇÕES NAS COMUNIDADES DE PEIXES DE LAGOAS MARGINAIS DO BAIXO CURSO DO RIO SÃO FRANCISCO EM FUNÇÃO DE BARRAMENTO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198900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Defesa de mestrado em Ecologia Apl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16640"/>
            <a:ext cx="5832360" cy="1072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rília Lourenço dos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rientador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aulo dos Santos Pom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-orientad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los Bernardo M. A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57560" y="88920"/>
            <a:ext cx="4998960" cy="6680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" y="764640"/>
            <a:ext cx="3673800" cy="496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O DAS VELHA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uente em volume e extensão (761 Km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jeto Manuelzão para Revitalização do Rio das Velh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822240"/>
            <a:ext cx="4464000" cy="5846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335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ÉDIO SÃO FRANCISC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cho (600 km) entre Pirapora (MG) e Sobradinho (B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 em lagoas margi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53880"/>
            <a:ext cx="8929800" cy="6503760"/>
            <a:chOff x="0" y="353880"/>
            <a:chExt cx="8929800" cy="6503760"/>
          </a:xfrm>
        </p:grpSpPr>
        <p:grpSp>
          <p:nvGrpSpPr>
            <p:cNvPr id="155" name=""/>
            <p:cNvGrpSpPr/>
            <p:nvPr/>
          </p:nvGrpSpPr>
          <p:grpSpPr>
            <a:xfrm>
              <a:off x="2486160" y="2370240"/>
              <a:ext cx="6443280" cy="4487400"/>
              <a:chOff x="2486160" y="2370240"/>
              <a:chExt cx="6443280" cy="44874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7569" r="5869" b="0"/>
              <a:stretch/>
            </p:blipFill>
            <p:spPr>
              <a:xfrm>
                <a:off x="2486160" y="2370240"/>
                <a:ext cx="6411600" cy="44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90859" t="1499" r="0" b="83368"/>
              <a:stretch/>
            </p:blipFill>
            <p:spPr>
              <a:xfrm>
                <a:off x="8431920" y="2442600"/>
                <a:ext cx="49752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0" y="353880"/>
              <a:ext cx="8929800" cy="819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marL="205560" indent="-20556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  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BAIXO SÃO FRANCISCO</a:t>
              </a:r>
              <a:r>
                <a:rPr b="0" lang="en-US" sz="3100" spc="-1" strike="noStrike">
                  <a:solidFill>
                    <a:srgbClr val="ffffff"/>
                  </a:solidFill>
                  <a:latin typeface="Garamond"/>
                </a:rPr>
                <a:t>: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Trecho mais curto (274 km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11280" y="692280"/>
            <a:ext cx="8532720" cy="6024600"/>
            <a:chOff x="611280" y="692280"/>
            <a:chExt cx="8532720" cy="6024600"/>
          </a:xfrm>
        </p:grpSpPr>
        <p:sp>
          <p:nvSpPr>
            <p:cNvPr id="160" name=""/>
            <p:cNvSpPr/>
            <p:nvPr/>
          </p:nvSpPr>
          <p:spPr>
            <a:xfrm>
              <a:off x="3349800" y="692280"/>
              <a:ext cx="57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queza espécies migrado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2362" t="3549" r="43648" b="4170"/>
            <a:stretch/>
          </p:blipFill>
          <p:spPr>
            <a:xfrm>
              <a:off x="611280" y="1557360"/>
              <a:ext cx="453528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rcRect l="76779" t="0" r="0" b="73383"/>
            <a:stretch/>
          </p:blipFill>
          <p:spPr>
            <a:xfrm>
              <a:off x="5435640" y="1773360"/>
              <a:ext cx="165564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66360" y="5094360"/>
              <a:ext cx="35974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uscal-Wallis: p = 0,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RESULTADOS E DISCUS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n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016000"/>
            <a:ext cx="7993080" cy="4149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6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se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cap  Qcons   CODBO 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ap = Qcap x PPUcap x Kc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ons = Qcons x PPUcons x Kc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DBO = CODBO x PPULanç x Klan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In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 total = Valorcap  +  Valorcons + ValorDBO x Kgestã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Valor total</a:t>
            </a:r>
            <a:r>
              <a:rPr b="1" lang="en-A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=  valorcap+ valorcons x kprioridade x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VALORES UNITÁRIOS DE COBRANÇA PPUS NA BACIA DO RIO SÃO FRANCIS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06064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po de us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 (R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taçã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um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nçamento de carga orgânica DB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5,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D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VALORES DOS COEFICIENTES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MULTIPLICADORES DE COBRANÇ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cap 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cons ir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 (para irrigação, criação animal e aquicultur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(demais setores usu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lan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prioridad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bastecimen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3º - Deliberação CBHSF nº1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492/2004 (coordenadas específicas e distint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390/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1º, do art. 7º - Resolução CNRH nº 48 (diferenciação dos val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lução nº 1 /2005 Outorga Vale (barragem, captação e lançament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de 26,40m3/s ( Outorga 11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prioridade Deliberação CBHSF nº18/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Leste 10,29m³/s K prioridade= 0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Norte 16,11m³/s K prioridade é igual a 1,0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média plurianual outorga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SIDERAÇÕES FINAI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ponibilidade hídrica – NEST-109,9m³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s 44,45,46.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azão firme em cada eix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ferenciação dos eixos: K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Garamond"/>
              </a:rPr>
              <a:t>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 2, artigo I, Deliberação 45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O/Sergi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a que comitê de baci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rebuchet MS"/>
              </a:rPr>
              <a:t>DADOS DEMOGRÁFIC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da bacia: 634.781 km²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8% do território 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6 Estados: Minas Gerais, Bahia, Pernambuco, Alagoas, Sergipe, Goiá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to Fed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503 municíp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opulação estimada: 12.796.082 h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USO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0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eração de energia elétric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dústr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ane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esca e aqu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vegaçã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urismo e laz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1. Quantidade de á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) Geração de energia x outros usos (vazões crítica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)Agricultura irrigada x outros usos, sub-bacias do Paracatu (Entre Ribeiros), Jequitaí-Pacuí (Riachinho), Salitre e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912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2. Qualidade da água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aop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das Vel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Verde-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rechos da Ca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DECISÕES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oridade de outorga: uso interno à b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locação externa: abastecimento humano comprovada a escassez hídr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alocável: 36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mínima diária na foz: 130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stituição do Processo Administrativo 01/200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tureza jurídica da Agên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ecanismos e valores de cobrança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AGENDA EM DISCUSSÃO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cação da Entidade Delegatária com funções de Agência da B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to de Gest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to da Águas (vazões de entre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talizaç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o administrativo da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ção da vazão ambi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4:58Z</dcterms:created>
  <dc:creator>Medicina Preventiva e Social</dc:creator>
  <dc:description/>
  <dc:language>en-US</dc:language>
  <cp:lastModifiedBy>ANA</cp:lastModifiedBy>
  <dcterms:modified xsi:type="dcterms:W3CDTF">2010-02-24T12:27:08Z</dcterms:modified>
  <cp:revision>8</cp:revision>
  <dc:subject/>
  <dc:title>Mecanismos  Valores da Cobrança pelo Uso da Água na Bacia do Rio São Francisco   </dc:title>
</cp:coreProperties>
</file>