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fcb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14"/>
          <p:cNvSpPr/>
          <p:nvPr/>
        </p:nvSpPr>
        <p:spPr>
          <a:xfrm rot="16200000">
            <a:off x="4648320" y="1733040"/>
            <a:ext cx="609480" cy="9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– SAG/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5"/>
          <p:cNvSpPr/>
          <p:nvPr/>
        </p:nvSpPr>
        <p:spPr>
          <a:xfrm>
            <a:off x="0" y="6165720"/>
            <a:ext cx="99061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5"/>
          <p:cNvSpPr/>
          <p:nvPr/>
        </p:nvSpPr>
        <p:spPr>
          <a:xfrm rot="16200000">
            <a:off x="4632480" y="1444320"/>
            <a:ext cx="609480" cy="9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3366"/>
                </a:solidFill>
                <a:latin typeface="Tahoma"/>
              </a:rPr>
              <a:t>Gerência de Cobrança pelo Uso de Recursos Hídricos – GECO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272880" y="1989000"/>
            <a:ext cx="928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Ações a serem priorizadas pela ANA em 2010 e 2011, conforme Resolução CNRH nº 70, de 19 de março de 2007. 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9"/>
          <p:cNvSpPr/>
          <p:nvPr/>
        </p:nvSpPr>
        <p:spPr>
          <a:xfrm>
            <a:off x="4016520" y="4267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aio/200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2720880" y="3860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gência Nacional de Águ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88880" y="692280"/>
            <a:ext cx="90727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6160" y="333360"/>
            <a:ext cx="8209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-303120" y="1125360"/>
            <a:ext cx="53848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Rodrigo Flecha Ferreira A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Superintendente de Apoio à Gestão de Recursos Híd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016520" y="620640"/>
            <a:ext cx="58896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Patrick Th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Gerente de Cobrança pelo Uso de Recurso Híd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657600" y="476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E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849240" y="4941720"/>
            <a:ext cx="8425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Arial"/>
              </a:rPr>
              <a:t>Agência Nacional de Águas – 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Arial"/>
              </a:rPr>
              <a:t>Setor Policial Sul – Área 5 – Quadra 3 – Bloco B - Brasília – DF – 70610-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Arial"/>
              </a:rPr>
              <a:t>Tel: (61) 2109 – 54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66"/>
                </a:solidFill>
                <a:latin typeface="Arial"/>
              </a:rPr>
              <a:t>www.ana.gov.br/Cobranca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44520" y="2276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5024520" y="2205000"/>
            <a:ext cx="460836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Marianne da Silva S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Arial"/>
              </a:rPr>
              <a:t>Estagiá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415800" y="549360"/>
            <a:ext cx="931572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76160" y="739080"/>
            <a:ext cx="835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3753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Resolução CNRH nº 70, de 19 de março de 2007 </a:t>
            </a:r>
            <a:r>
              <a:rPr b="1" lang="pt-BR" sz="22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(alterada pela Res. CNRH nº 97, de 14 de dezembro de 2008):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344520" y="1773360"/>
            <a:ext cx="93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Visa o levantamento das ações prioritárias a serem custeadas mediante a aplicação dos  recursos de que trata o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inc. II do § 1º do art. 17 da Lei nº 9.648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, de 1998, com redação dada pelo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rt. 28 da Lei nº 9.984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, de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92160" y="3213000"/>
            <a:ext cx="7921800" cy="230508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1063800" y="3357720"/>
            <a:ext cx="7777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"II –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0,75%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 do valor da energia produzida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serão destinados ao Ministério do Meio Ambiente, par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plicação na implementação da Política Nacional de Recursos Hídricos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e do Sistema Nacional de Gerenciamento de Recursos Hídricos, nos termos do art. 22 da Lei nº 9.433, de 8 de janeiro de 1997, e do disposto nesta Lei."    </a:t>
            </a:r>
            <a:r>
              <a:rPr b="1" i="1" lang="pt-BR" sz="2400" spc="-1" strike="noStrike">
                <a:solidFill>
                  <a:srgbClr val="000099"/>
                </a:solidFill>
                <a:latin typeface="Arial"/>
              </a:rPr>
              <a:t>(Fonte 1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0"/>
          <p:cNvSpPr/>
          <p:nvPr/>
        </p:nvSpPr>
        <p:spPr>
          <a:xfrm>
            <a:off x="1208160" y="3213000"/>
            <a:ext cx="7416720" cy="503280"/>
          </a:xfrm>
          <a:prstGeom prst="rect">
            <a:avLst/>
          </a:prstGeom>
          <a:solidFill>
            <a:srgbClr val="bbe0e3"/>
          </a:solidFill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784520" y="1486080"/>
            <a:ext cx="6265800" cy="574560"/>
          </a:xfrm>
          <a:prstGeom prst="rect">
            <a:avLst/>
          </a:prstGeom>
          <a:solidFill>
            <a:srgbClr val="bbe0e3"/>
          </a:solidFill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176880" y="404640"/>
            <a:ext cx="2808360" cy="93672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76160" y="404640"/>
            <a:ext cx="2808360" cy="936720"/>
          </a:xfrm>
          <a:prstGeom prst="rect">
            <a:avLst/>
          </a:prstGeom>
          <a:solidFill>
            <a:srgbClr val="bbe0e3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75360" y="64440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CER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66800" y="4478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CB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(domínio da Uni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41600" y="155736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Formulário contido no Anexo I da Res. CNRH nº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48240" y="278136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rot="5400000">
            <a:off x="4708080" y="2214360"/>
            <a:ext cx="504720" cy="485640"/>
          </a:xfrm>
          <a:custGeom>
            <a:avLst/>
            <a:gdLst>
              <a:gd name="textAreaLeft" fmla="*/ 63000 w 504720"/>
              <a:gd name="textAreaRight" fmla="*/ 441720 w 5047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006440" y="9558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preenc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208160" y="325296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latório específico contendo as ações a serem prior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668000" y="231156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té 15 de abr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434840" y="45086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 rot="5400000">
            <a:off x="4720680" y="3870360"/>
            <a:ext cx="505080" cy="485640"/>
          </a:xfrm>
          <a:custGeom>
            <a:avLst/>
            <a:gdLst>
              <a:gd name="textAreaLeft" fmla="*/ 63000 w 505080"/>
              <a:gd name="textAreaRight" fmla="*/ 442080 w 505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63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7513920" y="3968640"/>
            <a:ext cx="194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té 30 de abri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2606760" y="5013360"/>
            <a:ext cx="4752720" cy="503280"/>
          </a:xfrm>
          <a:prstGeom prst="rect">
            <a:avLst/>
          </a:prstGeom>
          <a:solidFill>
            <a:srgbClr val="bbe0e3"/>
          </a:solidFill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535120" y="50529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definição das prioridades de apl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400520" y="5048280"/>
            <a:ext cx="20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té 30 de ju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5435640" y="277344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elab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1159200" y="281160"/>
            <a:ext cx="76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99"/>
                </a:solidFill>
                <a:uFillTx/>
                <a:latin typeface="Arial"/>
              </a:rPr>
              <a:t>17 de fevereiro de 2009 a 16 de abril d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70200" y="1362240"/>
            <a:ext cx="24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Arial"/>
              </a:rPr>
              <a:t>22 respos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427400" y="2298600"/>
            <a:ext cx="50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10 de CERHs e órgãos ge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22360" y="30909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4 de CBHs de rios de domínio da Uni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422720" y="3979800"/>
            <a:ext cx="60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8 de CBHs de rios de domínio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425240" y="4869000"/>
            <a:ext cx="78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foram selecionados 12 dentre os 36 sub-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15800" y="62064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Espírito Santo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: Não foi possível considerar as prioridades selecionadas pelo Conselho Estadual de Recursos Hídricos do Espírito Santo, em razão da metodologia não ter sido seguida da maneira corr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8880" y="2492280"/>
            <a:ext cx="90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CBHSF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: optou por selecionar apenas o subprograma III.7 – Aplicação de instrumentos econômicos à gestão de recursos hídricos (Ofício 021/2009 SECEX/CBHS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88880" y="4292640"/>
            <a:ext cx="90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Estados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que fizeram reuniões 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plenárias dos CERHs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para selecionar as priorid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5157720"/>
            <a:ext cx="9906120" cy="459720"/>
          </a:xfrm>
          <a:prstGeom prst="rect">
            <a:avLst/>
          </a:prstGeom>
          <a:solidFill>
            <a:srgbClr val="99cc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 algn="just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89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BA; PR; RS; e 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72880" y="836640"/>
          <a:ext cx="9360000" cy="4548240"/>
        </p:xfrm>
        <a:graphic>
          <a:graphicData uri="http://schemas.openxmlformats.org/drawingml/2006/table">
            <a:tbl>
              <a:tblPr/>
              <a:tblGrid>
                <a:gridCol w="6193080"/>
                <a:gridCol w="1582560"/>
                <a:gridCol w="1584360"/>
              </a:tblGrid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OR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a o Exercício de 2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Resolução nº 71 de 14/06/2007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a o Exercício de 200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Resolução nº 90, de 04/06/20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8"/>
                        </a:spcBef>
                        <a:spcAft>
                          <a:spcPts val="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poluição de bacias hidrográf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os de recursos hídricos e enquadramento de corpos de água em classes de u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ias e sistemas de outorga de direitos de us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pacitação e educação, em especial ambiental, para 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poio à organização de Sistemas Estaduais de Gerenciamento de Recursos Hídricos-SEGR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plicação de instrumentos econômicos à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entabilidade econômico-financeira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488880" y="189000"/>
            <a:ext cx="87138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272880" y="620640"/>
            <a:ext cx="9145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28520" y="907920"/>
            <a:ext cx="95616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3:39:54Z</dcterms:created>
  <dc:creator>Carlos Motta Nunes</dc:creator>
  <dc:description/>
  <dc:language>en-US</dc:language>
  <cp:lastModifiedBy>70178372153</cp:lastModifiedBy>
  <dcterms:modified xsi:type="dcterms:W3CDTF">2009-05-15T20:02:43Z</dcterms:modified>
  <cp:revision>907</cp:revision>
  <dc:subject/>
  <dc:title>Slide 1</dc:title>
</cp:coreProperties>
</file>