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9C009-CDF2-4C69-BB27-3FEFA7826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E9C88-39D9-4AC6-9DE9-4D738B71F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2AEFC-8082-4CEB-B361-A6DEFC415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7C9C9-EA2B-4F76-A3A0-EB7E1D575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22E33-8D2A-484B-932A-53F05B97E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A8BD1-D072-4F03-B1BA-B6C297940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CE255-C68D-4A32-9B8F-4735489D3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C3FDB-6D2F-4BF8-9776-3ADC586EC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8731C-E049-4D9D-91FD-2357AD17D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645F6-4332-496B-8224-BCA0E7030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9DAB9-2652-4D20-B817-D9504BD4B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3E0FE-2085-46D8-B605-B33F4E05B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B609-EBD3-4384-BBB3-68CF9171D5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MPLEMENTAÇÃO DA COBRANÇA PELO USO DE </a:t>
            </a:r>
            <a:br>
              <a:rPr sz="3200"/>
            </a:br>
            <a:r>
              <a:rPr b="0" lang="en-US" sz="3200" spc="-1" strike="noStrike">
                <a:solidFill>
                  <a:srgbClr val="000000"/>
                </a:solidFill>
                <a:latin typeface="Bookman Old Style"/>
              </a:rPr>
              <a:t>RECURSOS HÍDRICOS </a:t>
            </a:r>
            <a:br>
              <a:rPr sz="3200"/>
            </a:br>
            <a:r>
              <a:rPr b="0" lang="en-US" sz="3200" spc="-1" strike="noStrike">
                <a:solidFill>
                  <a:srgbClr val="000000"/>
                </a:solidFill>
                <a:latin typeface="Bookman Old Style"/>
              </a:rPr>
              <a:t>NA </a:t>
            </a:r>
            <a:br>
              <a:rPr sz="3200"/>
            </a:br>
            <a:r>
              <a:rPr b="0" lang="en-US" sz="3200" spc="-1" strike="noStrike">
                <a:solidFill>
                  <a:srgbClr val="000000"/>
                </a:solidFill>
                <a:latin typeface="Bookman Old Style"/>
              </a:rPr>
              <a:t>BACIA HIDROGRÁFICA DO </a:t>
            </a:r>
            <a:br>
              <a:rPr sz="3200"/>
            </a:br>
            <a:r>
              <a:rPr b="0" lang="en-US" sz="3200" spc="-1" strike="noStrike">
                <a:solidFill>
                  <a:srgbClr val="000000"/>
                </a:solidFill>
                <a:latin typeface="Bookman Old Style"/>
              </a:rPr>
              <a:t>RIO </a:t>
            </a:r>
            <a:br>
              <a:rPr sz="3200"/>
            </a:br>
            <a:r>
              <a:rPr b="0" lang="en-US" sz="3200" spc="-1" strike="noStrike">
                <a:solidFill>
                  <a:srgbClr val="000000"/>
                </a:solidFill>
                <a:latin typeface="Bookman Old Style"/>
              </a:rPr>
              <a:t>SÃO FRANCISCO </a:t>
            </a:r>
            <a:br>
              <a:rPr sz="3200"/>
            </a:br>
            <a:r>
              <a:rPr b="0" lang="en-US" sz="3200" spc="-1" strike="noStrike">
                <a:solidFill>
                  <a:srgbClr val="000000"/>
                </a:solidFill>
                <a:latin typeface="Bookman Old Style"/>
              </a:rPr>
              <a:t>E CRIAÇÃO DA AGENCIA DA BACIA</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5157360"/>
            <a:ext cx="6400800" cy="8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TOC - CBHS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DASTRAMENTO DE USUÁRIOS – RESULTADOS 1ª FASE - CENSO</a:t>
            </a:r>
            <a:endParaRPr b="0" lang="en-US" sz="3200" spc="-1" strike="noStrike">
              <a:solidFill>
                <a:srgbClr val="000000"/>
              </a:solidFill>
              <a:latin typeface="Arial"/>
            </a:endParaRPr>
          </a:p>
        </p:txBody>
      </p:sp>
      <p:graphicFrame>
        <p:nvGraphicFramePr>
          <p:cNvPr id="63" name=""/>
          <p:cNvGraphicFramePr/>
          <p:nvPr/>
        </p:nvGraphicFramePr>
        <p:xfrm>
          <a:off x="457200" y="1600200"/>
          <a:ext cx="8229600" cy="4525560"/>
        </p:xfrm>
        <a:graphic>
          <a:graphicData uri="http://schemas.openxmlformats.org/drawingml/2006/table">
            <a:tbl>
              <a:tblPr/>
              <a:tblGrid>
                <a:gridCol w="2057400"/>
                <a:gridCol w="3902040"/>
                <a:gridCol w="2270160"/>
              </a:tblGrid>
              <a:tr h="6278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ESTADO</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CADASTROS REALIZADOS</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UNIVERSO ESTIMADO</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20492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MG</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24.000 </a:t>
                      </a:r>
                      <a:r>
                        <a:rPr b="1" lang="pt-BR" sz="1400" spc="-1" strike="noStrike">
                          <a:solidFill>
                            <a:srgbClr val="000000"/>
                          </a:solidFill>
                          <a:latin typeface="Tahoma"/>
                        </a:rPr>
                        <a:t>(Verde Grande, Paracatu, Paraopeba e Norte do Es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16.000 </a:t>
                      </a:r>
                      <a:r>
                        <a:rPr b="1" lang="pt-BR" sz="1400" spc="-1" strike="noStrike">
                          <a:solidFill>
                            <a:srgbClr val="000000"/>
                          </a:solidFill>
                          <a:latin typeface="Tahoma"/>
                        </a:rPr>
                        <a:t>(Bacia rio Pará)</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50.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80028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E</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00 </a:t>
                      </a:r>
                      <a:r>
                        <a:rPr b="1" lang="en-US" sz="1400" spc="-1" strike="noStrike">
                          <a:solidFill>
                            <a:srgbClr val="000000"/>
                          </a:solidFill>
                          <a:latin typeface="Tahoma"/>
                        </a:rPr>
                        <a:t>(cadastr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000 </a:t>
                      </a:r>
                      <a:r>
                        <a:rPr b="1" lang="en-US" sz="1400" spc="-1" strike="noStrike">
                          <a:solidFill>
                            <a:srgbClr val="000000"/>
                          </a:solidFill>
                          <a:latin typeface="Tahoma"/>
                        </a:rPr>
                        <a:t>usuários (perímetros)</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5.000 </a:t>
                      </a:r>
                      <a:r>
                        <a:rPr b="1" lang="en-US" sz="1400" spc="-1" strike="noStrike">
                          <a:solidFill>
                            <a:srgbClr val="000000"/>
                          </a:solidFill>
                          <a:latin typeface="Tahoma"/>
                        </a:rPr>
                        <a:t>(cadastr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000 </a:t>
                      </a:r>
                      <a:r>
                        <a:rPr b="1" lang="en-US" sz="1400" spc="-1" strike="noStrike">
                          <a:solidFill>
                            <a:srgbClr val="000000"/>
                          </a:solidFill>
                          <a:latin typeface="Tahoma"/>
                        </a:rPr>
                        <a:t>(perímetros)</a:t>
                      </a:r>
                      <a:endParaRPr b="0" lang="en-US" sz="14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L</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5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8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47592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BA</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0.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4.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47268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SE</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r h="47268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97.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18.000</a:t>
                      </a:r>
                      <a:endParaRPr b="0" lang="en-US" sz="1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SPECTIVAS PARA 2009</a:t>
            </a:r>
            <a:endParaRPr b="0" lang="en-US" sz="4400" spc="-1" strike="noStrike">
              <a:solidFill>
                <a:srgbClr val="000000"/>
              </a:solidFill>
              <a:latin typeface="Arial"/>
            </a:endParaRPr>
          </a:p>
        </p:txBody>
      </p:sp>
      <p:sp>
        <p:nvSpPr>
          <p:cNvPr id="65"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clusão do cadastramento de usuários de recursos hídricos 2ª Fase – Jun / S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provação pelo CBHSF, dos mecanismos e valores para cobrança, na Reunião Plenária de Barreiras - 05 e 06 de Maio (deliberaçã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provação do Roteiro para seleção da Entidade Delegatária/Agência de Bacia – 05 e 06 de ma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presentação das Deliberações ao CNRH com os estudos e relatórios desenvolvidos – Junh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stução do Pacto das Águas da Bacia entre Estados e entre Comitê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trato de Gestão ANA – Entidade Delegatá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0920" y="836280"/>
            <a:ext cx="2592360" cy="25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dades de Planejamento</a:t>
            </a:r>
            <a:br>
              <a:rPr sz="2800"/>
            </a:br>
            <a:br>
              <a:rPr sz="2800"/>
            </a:br>
            <a:r>
              <a:rPr b="0" lang="en-US" sz="2800" spc="-1" strike="noStrike">
                <a:solidFill>
                  <a:srgbClr val="000000"/>
                </a:solidFill>
                <a:latin typeface="Arial"/>
              </a:rPr>
              <a:t>SUB-BACIAS</a:t>
            </a:r>
            <a:br>
              <a:rPr sz="2800"/>
            </a:br>
            <a:r>
              <a:rPr b="0" lang="en-US" sz="2800" spc="-1" strike="noStrike">
                <a:solidFill>
                  <a:srgbClr val="000000"/>
                </a:solidFill>
                <a:latin typeface="Arial"/>
              </a:rPr>
              <a:t>HIDROGRÁFICAS</a:t>
            </a:r>
            <a:endParaRPr b="0" lang="en-US" sz="2800" spc="-1" strike="noStrike">
              <a:solidFill>
                <a:srgbClr val="000000"/>
              </a:solidFill>
              <a:latin typeface="Arial"/>
            </a:endParaRPr>
          </a:p>
        </p:txBody>
      </p:sp>
      <p:pic>
        <p:nvPicPr>
          <p:cNvPr id="44" name="" descr=""/>
          <p:cNvPicPr/>
          <p:nvPr/>
        </p:nvPicPr>
        <p:blipFill>
          <a:blip r:embed="rId1"/>
          <a:stretch/>
        </p:blipFill>
        <p:spPr>
          <a:xfrm>
            <a:off x="3851280" y="260280"/>
            <a:ext cx="4608360" cy="633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Bookman Old Style"/>
              </a:rPr>
              <a:t>Deliberação nº 16, de 30 de Julho de 2004</a:t>
            </a:r>
            <a:endParaRPr b="0" lang="en-US" sz="2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Dispõe sobre as diretrizes e critérios para a cobrança pelo uso dos recursos hídricos na Bacia do Rio São Francisco.</a:t>
            </a: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Bookman Old Style"/>
              </a:rPr>
              <a:t>Deliberação nº 30, de 14 de Julho de 2006</a:t>
            </a:r>
            <a:endParaRPr b="0" lang="en-US" sz="2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Dispõe sobre mecanismos para criação de Agência de Água da Bacia Hidrográfica do Rio São Francisc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Bookman Old Style"/>
              </a:rPr>
              <a:t>Deliberação nº 31, de 14 de Julho de 2006</a:t>
            </a:r>
            <a:endParaRPr b="0" lang="en-US" sz="2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Dispõe sobre mecanismos para a implantação da Cobrança pelo Uso de Recursos Hídricos na Bacia Hidrográfica do Rio São Francisc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ulações CBHSF e Comitês Estaduais</a:t>
            </a:r>
            <a:endParaRPr b="0" lang="en-US" sz="3200" spc="-1" strike="noStrike">
              <a:solidFill>
                <a:srgbClr val="000000"/>
              </a:solidFill>
              <a:latin typeface="Arial"/>
            </a:endParaRPr>
          </a:p>
        </p:txBody>
      </p:sp>
      <p:graphicFrame>
        <p:nvGraphicFramePr>
          <p:cNvPr id="48" name=""/>
          <p:cNvGraphicFramePr/>
          <p:nvPr/>
        </p:nvGraphicFramePr>
        <p:xfrm>
          <a:off x="466560" y="1692360"/>
          <a:ext cx="8210880" cy="4494240"/>
        </p:xfrm>
        <a:graphic>
          <a:graphicData uri="http://schemas.openxmlformats.org/presentationml/2006/ole">
            <p:oleObj progId="Excel.Sheet.12" r:id="rId1" spid="">
              <p:embed/>
              <p:pic>
                <p:nvPicPr>
                  <p:cNvPr id="49" name="" descr=""/>
                  <p:cNvPicPr/>
                  <p:nvPr/>
                </p:nvPicPr>
                <p:blipFill>
                  <a:blip r:embed="rId2"/>
                  <a:stretch/>
                </p:blipFill>
                <p:spPr>
                  <a:xfrm>
                    <a:off x="466560" y="1692360"/>
                    <a:ext cx="8210880" cy="44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Bookman Old Style"/>
              </a:rPr>
              <a:t>Histórico do Processo de Implementação da Agência e da Cobrança</a:t>
            </a:r>
            <a:br>
              <a:rPr sz="4000"/>
            </a:br>
            <a:endParaRPr b="0" lang="en-US" sz="2800" spc="-1" strike="noStrike">
              <a:solidFill>
                <a:srgbClr val="000000"/>
              </a:solidFill>
              <a:latin typeface="Arial"/>
            </a:endParaRPr>
          </a:p>
        </p:txBody>
      </p:sp>
      <p:graphicFrame>
        <p:nvGraphicFramePr>
          <p:cNvPr id="51" name=""/>
          <p:cNvGraphicFramePr/>
          <p:nvPr/>
        </p:nvGraphicFramePr>
        <p:xfrm>
          <a:off x="463680" y="1338120"/>
          <a:ext cx="8269200" cy="4559400"/>
        </p:xfrm>
        <a:graphic>
          <a:graphicData uri="http://schemas.openxmlformats.org/presentationml/2006/ole">
            <p:oleObj progId="Excel.Sheet.12" r:id="rId1" spid="">
              <p:embed/>
              <p:pic>
                <p:nvPicPr>
                  <p:cNvPr id="52" name="" descr=""/>
                  <p:cNvPicPr/>
                  <p:nvPr/>
                </p:nvPicPr>
                <p:blipFill>
                  <a:blip r:embed="rId2"/>
                  <a:stretch/>
                </p:blipFill>
                <p:spPr>
                  <a:xfrm>
                    <a:off x="463680" y="1338120"/>
                    <a:ext cx="8269200" cy="45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Histórico do Processo de Implementação da Agência e da Cobrança</a:t>
            </a:r>
            <a:br>
              <a:rPr sz="4000"/>
            </a:br>
            <a:endParaRPr b="0" lang="en-US" sz="2800" spc="-1" strike="noStrike">
              <a:solidFill>
                <a:srgbClr val="000000"/>
              </a:solidFill>
              <a:latin typeface="Arial"/>
            </a:endParaRPr>
          </a:p>
        </p:txBody>
      </p:sp>
      <p:graphicFrame>
        <p:nvGraphicFramePr>
          <p:cNvPr id="54" name=""/>
          <p:cNvGraphicFramePr/>
          <p:nvPr/>
        </p:nvGraphicFramePr>
        <p:xfrm>
          <a:off x="466560" y="1614600"/>
          <a:ext cx="8210880" cy="4494240"/>
        </p:xfrm>
        <a:graphic>
          <a:graphicData uri="http://schemas.openxmlformats.org/presentationml/2006/ole">
            <p:oleObj progId="Excel.Sheet.12" r:id="rId1" spid="">
              <p:embed/>
              <p:pic>
                <p:nvPicPr>
                  <p:cNvPr id="55" name="" descr=""/>
                  <p:cNvPicPr/>
                  <p:nvPr/>
                </p:nvPicPr>
                <p:blipFill>
                  <a:blip r:embed="rId2"/>
                  <a:stretch/>
                </p:blipFill>
                <p:spPr>
                  <a:xfrm>
                    <a:off x="466560" y="1614600"/>
                    <a:ext cx="8210880" cy="44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Pendências para implementação da cobrança nos Estados da Bacia Hidrográfica do SF</a:t>
            </a:r>
            <a:endParaRPr b="0" lang="en-US" sz="2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Bookman Old Style"/>
              </a:rPr>
              <a:t>Minas Gerais</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provação de etapa específica do Plano Estadual de Recursos Hídricos (condicionante legal), que contemple:</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Caracterização dos usuários na bacia hidrográfica;</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Caracterização das disponibilidades hídricas da bacia;</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Simulação de aplicação da cobrança para os principais usos e usuários caracterizados na bacia, 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 Elaboração, com apoio do agente financeiro oficial o Manual Técnico - Econômico - Financeiro e Operacional de Cobrança pelo Uso de Recursos Hídricos, contendo as normas, condições e procedimentos para aplicação de recursos financeiros decorrentes da cobrança pelo uso de recursos hídricos, para aprovação pelo CERH - M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ookman Old Style"/>
              </a:rPr>
              <a:t>Bahia</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ookman Old Style"/>
              </a:rPr>
              <a:t>criação e operacionalização de outros comitê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mplementação na legislação para criação da figura da entidade delegatária das funções de agência, do contrato de gestão e para garantir a aplicação dos recursos arrecadados à bacia de orig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Bookman Old Style"/>
              </a:rPr>
              <a:t>Pernambuco</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man Old Style"/>
              </a:rPr>
              <a:t>criação e operacionalização de comitês,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ookman Old Style"/>
              </a:rPr>
              <a:t>promulgação da lei que regulamenta a cobrança (condicionante legal), criando também a figura da entidade delegatária das funções de agência, o contrato de gestão e a garantia da aplicação dos recursos arrecadados à bacia de origem.</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ookman Old Style"/>
              </a:rPr>
              <a:t>Alagoas e Sergip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Bookman Old Style"/>
              </a:rPr>
              <a:t>Regiões da bacia do São Francisco dependem quase que totalmente do rio São Francisco. Por conseqüência, cobrança pelo uso de recursos hídricos de domínio estadual com potencial de arrecadação muito baixo.</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Bookman Old Style"/>
              </a:rPr>
              <a:t>Caso se decida implementar a cobrança, recomenda-se alterar a legislação para criar a figura da entidade delegatária das funções de agência, o contrato de gestão e a garantia da aplicação dos recursos arrecadados à bacia de origem (Projeto de Lei em tramitação em Alagoa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9:07:54Z</dcterms:created>
  <dc:creator>Roberto.Lobo</dc:creator>
  <dc:description/>
  <dc:language>en-US</dc:language>
  <cp:lastModifiedBy>Roberto Lobo</cp:lastModifiedBy>
  <dcterms:modified xsi:type="dcterms:W3CDTF">2009-03-12T16:22:02Z</dcterms:modified>
  <cp:revision>18</cp:revision>
  <dc:subject/>
  <dc:title>IMPLEMENTAÇÃO DA COBRANÇA PELO USO DE  RECURSOS HÍDRICOS  NA  BACIA HIDROGRÁFICA DO  RIO  SÃO FRANCISCO</dc:title>
</cp:coreProperties>
</file>