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480C-9D32-4AD7-B84A-AA61CFEC95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EF31-AA9F-4E06-BFCC-8D5F0699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0A34-7EE3-466B-8FE4-F4AD2447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6458-E277-4ED8-9956-03F938CD5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17F3-B28F-4285-B29B-00F8CAE2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D7346-7973-4392-9EE7-47501083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3496-A2A0-44CF-9E18-0847FE38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5222-9BBF-4C84-89A0-495F9DFE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09B0-FFD1-4886-BF5A-A3DFDA67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5103-FB07-46FD-B7C1-36A5FF9B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9768-5F37-48B4-8516-6BA9129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AF09-B366-4C31-B5D4-41EA2944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3E00-C40D-48C0-8AE0-B77790F209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5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TO DE GESTÃO ANA AGE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62280" y="1104840"/>
            <a:ext cx="48006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E PRODUTOS PARA A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8120" y="388620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381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TOS IMPOR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3400" y="3352680"/>
            <a:ext cx="54676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UBLICAÇÃO SOBRE A SITUAÇÃO DA B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ELATÓRIO COM SUBSÍDIOS À REGUL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NUAL DE 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RIÓDICA DA COBRANÇ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62040" y="182880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16292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21932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O PROGRAMA DE TRABAL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8960"/>
            <a:ext cx="914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7880" y="781200"/>
            <a:ext cx="64580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ÁRIO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2076480"/>
            <a:ext cx="459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0/05 – Avaliação AGEVA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5/05 – 3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6/06 – 4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360" y="455292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01680" y="4815000"/>
            <a:ext cx="603900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9/06 – Conselho Administração AGE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20/06 – Discussão ANA / CT IL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7/07 – Plenária do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9080" y="2933640"/>
            <a:ext cx="4457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É 10/05 – APRECIAÇÃO DIRE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RI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243080"/>
            <a:ext cx="914400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7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ÊNCIA E COB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38760" y="257004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3080" y="2495520"/>
            <a:ext cx="426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5,4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 –  6,3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6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2 REPAS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–  3,4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,5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OVAÇÃO ATÉ 30 JUNHO 2016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257640"/>
            <a:ext cx="35244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LANO DE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ISTEMA DE INFORM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DMINISTRAÇÃO INTE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3800" y="3168720"/>
            <a:ext cx="148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7,6   8,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7,6   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10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97720" y="3137040"/>
            <a:ext cx="254628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LANO EM REV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STEMA NO SI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257640"/>
            <a:ext cx="39816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ADASTRO DE USU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TRATAÇÃO DE O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LICAÇÃO 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USTENTABILIDADE FINANC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3800" y="316872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N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2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9   6,6   8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10 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92760" y="3137040"/>
            <a:ext cx="245124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ONSID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TEND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619440"/>
            <a:ext cx="308628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VISIBIL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71960" y="3606840"/>
            <a:ext cx="163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7,9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9,5   7,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3,8    3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3594240"/>
            <a:ext cx="165096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62280" y="1104840"/>
            <a:ext cx="480060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° DE JULH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0 DE JUNHO DE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1800" y="2914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G -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7680" y="3962520"/>
            <a:ext cx="318132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LUIZ - S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LY TERRELL - S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ILTON CESÁRIO - A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ICK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ILDE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29210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5440" y="3602160"/>
            <a:ext cx="4952880" cy="32889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NDREA FRANCOMANO – CA/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PARECIDA VARGAS – SEC EXECU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LOISE BRANT – CA/IG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NDRIK MANSUR – COORD.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JOÃO JERÔNIMO - 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MARILENE RAMOS – CA/SE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PATRÍCIA BOSON – CA/FIE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ELIANE BARBOSA - AGE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62000" y="24573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PE DE NEGOC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467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314360"/>
            <a:ext cx="824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EFINIÇÃO OBJETIVA DE ATRIBUIÇÕES DA 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52520" y="3733920"/>
            <a:ext cx="64580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RANTIA DE TÉRMINO DE CONTRATOS PEL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857840"/>
            <a:ext cx="579132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RROGAÇÃO ATÉ 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2080" y="6338880"/>
            <a:ext cx="74293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SE MENSAL SEM 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280" y="3029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ADA LIMITAÇÃO SALARIA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2197080"/>
            <a:ext cx="7867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ÇÃO OBJETIVA DAS ATRIBUIÇÕES D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73080" y="5568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BRICA ÚNICA PARA O REP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5796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11400" y="2376360"/>
            <a:ext cx="5535720" cy="44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86200"/>
            <a:ext cx="53352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6720" y="2933640"/>
            <a:ext cx="4495680" cy="370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DISPONÍ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ATUALI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TEMPO DE APLICAÇÃO R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$ COBRANÇA / R$ CONTRAPA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ONTUALIDADE CONTRA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67360" y="2387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2959200"/>
            <a:ext cx="3676680" cy="120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SULTAS À PÁ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LO COMIT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wilde</cp:lastModifiedBy>
  <dcterms:modified xsi:type="dcterms:W3CDTF">2006-07-15T13:52:20Z</dcterms:modified>
  <cp:revision>822</cp:revision>
  <dc:subject>Apresentação do Dr. Oscar Cordeiro Netto</dc:subject>
  <dc:title>Água: um problema de segurança alimen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435130</vt:r8>
  </property>
  <property fmtid="{D5CDD505-2E9C-101B-9397-08002B2CF9AE}" pid="3" name="_AuthorEmail">
    <vt:lpwstr>flavia.barros@ana.gov.br</vt:lpwstr>
  </property>
  <property fmtid="{D5CDD505-2E9C-101B-9397-08002B2CF9AE}" pid="4" name="_AuthorEmailDisplayName">
    <vt:lpwstr>Flavia Gomes de Barros</vt:lpwstr>
  </property>
  <property fmtid="{D5CDD505-2E9C-101B-9397-08002B2CF9AE}" pid="5" name="_EmailSubject">
    <vt:lpwstr>apresentação</vt:lpwstr>
  </property>
  <property fmtid="{D5CDD505-2E9C-101B-9397-08002B2CF9AE}" pid="6" name="_PreviousAdHocReviewCycleID">
    <vt:r8>376229889</vt:r8>
  </property>
  <property fmtid="{D5CDD505-2E9C-101B-9397-08002B2CF9AE}" pid="7" name="_ReviewingToolsShownOnce">
    <vt:lpwstr/>
  </property>
</Properties>
</file>