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7AC-3A71-41A8-9232-22415382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33E-B209-4E4F-A843-09B24A74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91C-5D18-4609-AA14-9D7F57EC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936-543D-410E-B79F-07BF1715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EC9C-E2C2-4088-8513-2FCA9403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9E97-8FC9-4067-91C2-67D8525A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63DD-81F2-4BB3-A7C2-D143E456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EAFB-3B2E-40E4-8A03-94BCCDE6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58E7-4E66-4BD4-924E-0E22ACDB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EEA7-8475-4E46-8003-1802F4A6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7DC2-AAF5-42E5-A0E5-6F71A28A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5C6-85F3-4113-B6E2-639E6C0E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095A-12DE-435B-9AB3-5CE4CA74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023A-FE65-46FB-A746-CD5831EC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C903-9AEC-4EC3-95C0-7F9D93F0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CF8D-B509-491E-9015-84688425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6AD1-E822-4919-AC5A-4EFF7E55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234-CD41-4E67-A94A-08361DC8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441-90D6-41F9-9058-9E5B0D22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B0F-60D5-48CF-9C3F-1782F00C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224-EB79-4912-AEB5-5ABB85BF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7F6-B467-44DE-ADB6-03FAEAC9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1EF-2C54-411D-86D5-B780F34F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EF6-C97B-4281-9F80-BD059CA6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FA31-48C7-4041-9F31-C8ED74D9330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0577-9519-4313-8743-7BEE02467A5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brança pelo uso dos recursos híd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ício: a partir de 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de janeiro de 2006, com Plano e Agênci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odos usos significantes: CT-OL usos insignificant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gressividade: 60% (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75% (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100% (3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Validade da proposta: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eneficiários: tod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o de regularização dos usos e campanha de divulg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plicação $: Programas do Plano e regras de hierarquiz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ntribuição Regional Voluntária” - FEHIDR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ontuação extra: PE = PE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ax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P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extingue-se com a cobrança estadu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rreção de valores e compensação no ano posterio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gamento com atraso: multa de 2% e SELI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2460600"/>
                <a:ext cx="2160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obrança será feita levando-se em consideração os seguintes aspecto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o d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ca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a e transposta para outras bacias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trans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lançado n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lanç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onsumido do corpo hídrico (diferença entre o volume captado e o lançado), que será denotado por “Qcons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carga orgânica lançada no corpo hídrico, denotada por “CO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DBO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060640"/>
            <a:ext cx="835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arcelas e valor mínimo: R$ 20,00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a C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pelo setor rur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gularização de débit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ndicionantes para acesso e indic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ores dos PUB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8839440" cy="3795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stimativa preliminar de arrecad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05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474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380360" y="508464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0-27T00:55:16Z</dcterms:modified>
  <cp:revision>13</cp:revision>
  <dc:subject/>
  <dc:title>Cobrança pelo uso das águas</dc:title>
</cp:coreProperties>
</file>