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9D8-76F5-4407-8723-93FCC4B3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9C3-DFCF-46F0-BF1F-5973DDB4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643-3B25-4922-9AC1-CC5866E6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08D-9FFC-41C1-A5CC-6FEAC8E6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2273-C917-4B4D-A5FD-1E705D92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586E-2289-4360-AD7E-6E672B61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069B-181A-497F-B5D3-C83E6E1C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8889-097F-40E9-A67D-F763DA4F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82B9-FEE6-4003-A307-B2B60676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E2CB-EBC2-431B-A276-7F7A4B2B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ADA2-E9E1-4127-9CE3-D2AE391B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1DE-6BFF-42A4-AC52-317D6241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23E4-E9EE-44F6-98C5-9F82924D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5010-15AC-457D-9178-9AE001F1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C60B-568B-423C-8A96-9E5FCA20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60ED-4AAC-4305-825F-C926D9E1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5AEB-446C-47D3-B792-122B40B3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F30-EC08-4F69-B139-6BE82C05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4DF-2662-40F0-B1C8-5E0878E8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697-FD37-49BD-9DEC-633C4C9F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6F6-1587-4ADC-A50A-73275A00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5C4-C671-438C-8C9D-73FE624F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037-0D73-4A74-B017-DD290FD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F22-A51D-41DA-86E0-7933A30A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57B-4A78-4669-9B76-0E4A44A7DF2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E9FC-9D03-4B21-BC34-79F1AFA1A82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rança pelo uso dos recursos híd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ício: a partir de 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de janeiro de 2006, com Plano e Agênci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odos usos significantes: CT-OL usos insignificant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gressividade: 60% (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75% (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100% (3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alidade da proposta: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eneficiários: tod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o de regularização dos usos e campanha de divulg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plicação $: Programas do Plano e regras de hierarquiz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ntribuição Regional Voluntária” - FEHIDR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ontuação extra: PE = PE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ax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P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extingue-se com a cobrança estadu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rreção de valores e compensação no ano posterio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gamento com atraso: multa de 2% e SELI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460600"/>
                <a:ext cx="216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obrança será feita levando-se em consideração os seguintes aspecto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o d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ca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a e transposta para outras bacias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trans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lançado n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lanç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onsumido do corpo hídrico (diferença entre o volume captado e o lançado), que será denotado por “Qcons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carga orgânica lançada no corpo hídrico, denotada por “CO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DBO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060640"/>
            <a:ext cx="835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arcelas e valor mínimo: R$ 20,00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a C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pelo setor rur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gularização de débit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ndicionantes para acesso e indic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ores dos PUB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839440" cy="379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stimativa preliminar de arrecad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474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0-27T00:55:16Z</dcterms:modified>
  <cp:revision>13</cp:revision>
  <dc:subject/>
  <dc:title>Cobrança pelo uso das águas</dc:title>
</cp:coreProperties>
</file>