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D900-AC66-4529-B90C-71610DC9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247-046E-4C93-A9C0-0D061436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22D-191F-4024-9059-CF73D8802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C0AA-C0FF-452A-8BCB-46FF074A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F494-9B7A-4740-847F-7CF57EEB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535A-9C7F-4A72-9061-404FBDBA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A091-1587-4C0C-A358-BA76E62F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0004-7608-4877-BC3E-2A229CD0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273D-218D-486A-AD69-86301779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F9F6-FE70-45DB-8F4F-87BA5D22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95D4-31C8-44B6-A317-CC74D77D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762-86A2-410F-AFAD-73FE3ADA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6616-6C50-46AF-8F25-A8B5C982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8776-2E63-436F-8270-A5A3881F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F40D-5B07-43EF-9003-B25C638A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188D-98D2-4D22-802B-A952AA4F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728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601600" y="372888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7332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728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601600" y="4445640"/>
            <a:ext cx="206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C794-4AD8-4DF3-A993-162F2157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9E7-C549-4460-8518-7514819F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5EB8-9C98-443D-A7A6-2E4E9A80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AF42-1369-45A1-8172-41C75BD8C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186804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D55-945E-46F2-B053-798AF1B5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A44C-3514-43B5-9EF3-51C2B85D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53280" y="444564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25DC-01E2-40CF-8D4C-B4C430E1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7332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3280" y="3728880"/>
            <a:ext cx="312336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73320" y="4445640"/>
            <a:ext cx="640080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C2E0-F48A-4D00-B1B5-6C8D38B6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7626-C884-4303-AF57-22722D9DD215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D377-DCE8-4ABA-8B6C-8362FE4D83FE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brança pelo uso dos recursos hídr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42920" y="3728880"/>
            <a:ext cx="705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posta aprovada pelos Comitês PCJ em 21/10/2005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060640"/>
            <a:ext cx="83516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Início: a partir de 1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de janeiro de 2006, com Plano e Agência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Todos usos significantes: CT-OL usos insignificante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gressividade: 60% (1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 75% (2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 100% (3</a:t>
            </a:r>
            <a:r>
              <a:rPr b="0" lang="en-US" sz="2400" spc="-1" strike="noStrike" baseline="30000">
                <a:solidFill>
                  <a:srgbClr val="545472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ano)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Validade da proposta: 2 an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Beneficiários: tod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rocesso de regularização dos usos e campanha de divulg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plicação $: Programas do Plano e regras de hierarquiz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dições Gera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060640"/>
            <a:ext cx="835164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ntribuição Regional Voluntária” - FEHIDR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RV </a:t>
            </a:r>
            <a:r>
              <a:rPr b="0" lang="pt-BR" sz="2400" spc="-1" strike="noStrike">
                <a:solidFill>
                  <a:srgbClr val="545472"/>
                </a:solidFill>
                <a:latin typeface="Wingdings"/>
                <a:ea typeface="Wingdings"/>
              </a:rPr>
              <a:t>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pontuação extra: PE = PE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max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545472"/>
                </a:solidFill>
                <a:latin typeface="Times New Roman"/>
              </a:rPr>
              <a:t>PE</a:t>
            </a: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RV extingue-se com a cobrança estadu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Correção de valores e compensação no ano posterior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45472"/>
                </a:solidFill>
                <a:latin typeface="Times New Roman"/>
              </a:rPr>
              <a:t>Pagamento com atraso: multa de 2% e SELIC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2460600"/>
                <a:ext cx="21607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órmul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A cobrança será feita levando-se em consideração os seguintes aspectos: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aptado do corpo hídrico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cap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aptada e transposta para outras bacias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transp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lançado no corpo hídrico, que será denotado por “Q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lanç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volume anual de água consumido do corpo hídrico (diferença entre o volume captado e o lançado), que será denotado por “Qcons”;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carga orgânica lançada no corpo hídrico, denotada por “CO</a:t>
            </a:r>
            <a:r>
              <a:rPr b="0" lang="pt-BR" sz="2000" spc="-1" strike="noStrike" baseline="-25000">
                <a:solidFill>
                  <a:srgbClr val="545472"/>
                </a:solidFill>
                <a:latin typeface="Times New Roman"/>
              </a:rPr>
              <a:t>DBO</a:t>
            </a:r>
            <a:r>
              <a:rPr b="0" lang="pt-BR" sz="2000" spc="-1" strike="noStrike">
                <a:solidFill>
                  <a:srgbClr val="545472"/>
                </a:solidFill>
                <a:latin typeface="Times New Roman"/>
              </a:rPr>
              <a:t>”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lemen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2060640"/>
            <a:ext cx="835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Parcelas e valor mínimo: R$ 20,00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batimento do Valor devido a C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Abatimento do valor devido pelo setor rural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Regularização de débitos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Condicionantes para acesso e indicação;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alores dos PUB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217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032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52280" y="1905120"/>
            <a:ext cx="8839440" cy="3795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380360" y="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stimativa preliminar de arrecadaçã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21752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503244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2806560"/>
                <a:tab algn="r" pos="5611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05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9144000" cy="4740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7380360" y="5084640"/>
            <a:ext cx="1763640" cy="10382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1:28:47Z</dcterms:created>
  <dc:creator>lmoretti</dc:creator>
  <dc:description/>
  <dc:language>en-US</dc:language>
  <cp:lastModifiedBy>Windows</cp:lastModifiedBy>
  <dcterms:modified xsi:type="dcterms:W3CDTF">2005-10-27T00:55:16Z</dcterms:modified>
  <cp:revision>13</cp:revision>
  <dc:subject/>
  <dc:title>Cobrança pelo uso das águas</dc:title>
</cp:coreProperties>
</file>