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6ECD-FAEE-4CC6-B734-FA5532188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50D1-E4FA-4DAF-A091-9D0DA5C7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EB36-9C2D-4D2C-AE9B-7A341F475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175B-4CF5-4E23-B857-1FE6BB65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D3E04-73CD-49D9-847F-5B4546F6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F6EE4-C92C-49EC-836A-B3F4F5D8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551C9-5239-4558-9E2F-1A3AD43B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C26D6-F00C-44B9-9E90-C1017B52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8AC69-086E-4549-9330-9BB6EE4F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C6411-C240-432C-9E2E-604316C4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55D6C-381A-47AC-A54E-6D400B16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4FB1-1440-46B1-9A46-E48D8979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E42E7E-313F-498D-9439-ED8D5A44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908DC-57C1-4161-B2F2-0492E8EA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43780-C829-45CB-B37D-E9233DCD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A75CA-F24D-485D-B9A3-BBB859CC6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FB2CA-BBF2-4AD1-B554-FF9143B60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F678-43F0-443F-B129-E4AF5B88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5705-487F-48D9-AF1B-7F24A3FC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AB7B-57DF-4FD5-AB98-240E9B4A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DCB5-4772-4F32-98FB-3CB6D90D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1E57-E812-447E-A234-BFAA8FAC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3092-E0A7-4391-89BF-4E5BFB29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AF93-1E73-4610-9535-7A58B239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0C2D-1F5B-48CC-966A-26A1405C88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8676-1EBB-432E-9A4D-BE88B045E9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ondições Peculiares do Ceará e Pontos da Legislação de Especial Interess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ntonio Nunes de Miran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Consultor Independe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Peculiaridades Regionais</a:t>
            </a:r>
            <a:br>
              <a:rPr sz="44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tegração de Baci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8964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á estudos que sugerem a integração da bacia do rio Curú também com as bacias metropolitanas. Caso seja efetivada tal interligação, o gerenciamento das bacias do Jaguaribe, Metropolitanas e do Curú poderá dispor, de forma muito flexível, de diversas possibilidades de transferência de vazões entre áreas dessa grande região, de acordo com as demandas locais e a oferta regi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utros estudos indicam a integração das bacias do Acaraú, Poti e Coreaú. As interligações previstas pressupõem a construção de alguns novos barramentos, além da implantação de canais e de adutora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Peculiaridades Regionais</a:t>
            </a:r>
            <a:br>
              <a:rPr sz="44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tegração de Baci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2420640"/>
            <a:ext cx="89647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integrações já existentes e as programadas no curto e médio prazo trazem uma nova realidade para a gestão dos recursos hídricos do Ceará. As transferências de vazões entre bacias trarão conseqüências na formação, na constituição e nas atribuições dos comitês de bacias. O Sistema de Gestão deverá adaptar-se a essa nova realidad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Peculiaridades Regionais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estão Conservadora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147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ce à grande variabilidade da pluviosidade no Semi-árido, a gestão dos recursos hídricos é praticada com cauteloso conservadorismo, no sentido de preservar os mananciais para os prováveis momentos de escassez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Peculiaridades Regionais</a:t>
            </a:r>
            <a:br>
              <a:rPr sz="44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estão Integr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1471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art. 2 da Lei Estadual das Águas (Lei nº 11.996, de 24 de julho de 1992), estão definidos os princípios fundamentais sobre os quais tal política deve ser construída: 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 gerenciamento dos Recursos Hídricos deve ser integrado, descentralizado e participativo sem a dissociação dos aspectos qualitativos e quantitativos, considerando as fases aérea, superficial e subterrânea do ciclo hidrológic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unidade básica a ser adotada para o gerenciamento dos potenciais hídricos é a bacia hidrográfica, com decorrência de condicionante natural que governa as interdependências entre as disponibilidades e demandas de recursos hídricos em cada regiã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Peculiaridades Regionais</a:t>
            </a:r>
            <a:br>
              <a:rPr sz="44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estão Integr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o mesmo tempo que eram implantados os Comitês de Bacia, optou-se  pelo gerenciamento através da COGERH, tendo em vist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 bacias do Ceará são estaduais, com exceção do rio Poti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 bacias do Ceará são pequen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itas das bacias metropolitanas já estão interligad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principal bacia hidrográfica do Estado, do rio Jaguaribe, está interligada com as bacias Metropolitanas, por meio do Canal do Trabalhador e está em construção o Eixo da Integração Castanhão / RMF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tão em elaboração outros projetos de interligação de baci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á a possibilidade de importação de águas, como a transposição de águas do rio São Francisco, que aportará cerca de 36 m3/s na bacia do rio Jaguarib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Peculiaridades Regionais</a:t>
            </a:r>
            <a:br>
              <a:rPr sz="44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estão Integr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ém de onerosa, a criação de várias agências de gestão, ao invés de tornar o gerenciamento mais eficiente, o tornaria caótico, dadas as importantes interligações de bacias já em operação ou previstas para futuro próxim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decisão política de criar a COGERH, com atribuição de gerenciar de forma integrada todos os mananciais do Ceará, tem embasamento técnico e visa maior eficiência no acompanhamento da oferta e da demanda de recursos hídric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Peculiaridades Regionais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 Importância da Água para a Agricult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o o regime de chuvas é muito irregular, o risco aliado à agricultura de “sequeiro” é tão elevado que transforma a atividade em jogo de azar. Estudos demonstram que, para culturas com ciclo de 60 dias, o risco de perdas chega a 50%; quando a cultura é cultivada em 90 dias, o risco de perdas alcança 75%. São riscos inaceitáveis para qualquer atividade econômica. Estas perdas elevadas e freqüentes explicam em parte a pobreza no meio rural nordesti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im, a irrigação é de fundamental importância, não só para o desenvolvimento econômico da região, mas também como política de inclusão social. A única forma de conferir maior garantia para o êxito das colheitas é o uso da água para irrigar as cultur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Pontos da Legislação de Especial Interesse para o Ceará 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 Aplicação dos Recursos Arrecadado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713800" cy="47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Lei 9433, no art. 22, determina que os valores arrecadados sejam, prioritariamente, aplicados na bacia hidrográfica em que foram gerado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 parágrafo primeiro limita a 7,5% dos recursos arrecadados, os gastos com implantação e custeio administrativo dos órgãos de gerenciament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das as especificidades dos recursos hídricos do Ceará, os custos de gerenciamento são mais elevados, se comparados com os praticados em outras regiões do Paí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sa diferenciação exige que maiores percentuais dos recursos possam ser aplicados na manutenção do órgão de gerenciamento, a COGERH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flexibilização da aplicação dos recursos no próprio sistema de gerenciamento é a garantia da continuidade do trabalho da COGERH e a possibilidade de seu aperfeiçoamen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Pontos da Legislação de Especial Interesse para o Ceará </a:t>
            </a:r>
            <a:br>
              <a:rPr sz="40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 Organização dos Comitê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713800" cy="47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Lei das Águas, no artigo 37, determina que os comitês de bacia devem ter como área de atuação: a totalidade de uma bacia hidrográfica; sub-bacia hidrográfica de tributário do curso de água principal da bacia, ou de tributário desse tributário; ou grupo de bacias ou sub-bacias hidrográficas contínu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 estado do Ceará está dividido em 11 bacias hidrográficas: Alto Jaguaribe, Salgado, Médio Jaguaribe, Banabuiú, Baixo Jaguaribe, Metropolitanas, Acaraú, Coreaú, Poti, Curú e Litorânea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 cinco primeiras são, na realidade sub-bacias do rio Jaguaribe, sendo que apenas os rios Banabuiú e Salgado são tributários do curso principal.  As chamadas bacias do Alto, Médio e Baixo Jaguaribe são frações da bacia do Jaguaribe, seu rio princip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Pontos da Legislação de Especial Interesse para o Ceará 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 Organização dos Comitê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871380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interpretação linear do artigo 37 da Lei das Águas leva à conclusão de que deveria haver ou um único comitê para toda a bacia do Jaguaribe, ou três comitês para as bacias do Banabuiú, Salgado e Jaguarib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 Bacias Metropolitanas abrangem um conjunto de quinze bacias independentes e contígu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bacia do rio Curú teve seu comitê instalado com prioridade, em face de conflitos pelo uso da água já existentes e com potencial de exacerbamento pelas projeções de desequilíbrio entre oferta e demanda para os próximos an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 Bacias Litorâneas constituem um agregado de pequenas bacias, na costa oeste do Esta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Peculiaridades Regionai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1844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aracterização da Semi-aridez do Nordes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 intermitência dos rios e os açudes para regularização de vazõ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tegração de Baci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estão Conservado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estão Integra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 Importância da Água para a Agricult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Pontos da Legislação de Especial Interesse para o Ceará </a:t>
            </a:r>
            <a:br>
              <a:rPr sz="40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mitê de Bacia, Cobrança da Água e Agência de Água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2133360"/>
            <a:ext cx="871380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 artigo 38 da Lei das Águas dá várias competências ao Comitê de Bacia, destacando-se o item VI dá poderes ao Comitê para “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estabelecer os mecanismos de cobrança pelo uso de recursos hídricos e sugerir os valores a serem cobr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artigo 41 fica estabelecido que “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as Agências de Água exercerão a função de secretaria executiva do respectivo ou respectivos Comitês da Bacia Hidrográfic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 artigo 44, item III confere competência às Agências de Água, para efetuar, mediante delegação do outorgante, a cobrança pelo uso de recursos hídrico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item IV, as agências de águas recebem a competência para acompanhar a administração financeira dos recursos arrecadados com a cobrança pelo uso de recursos hídrico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Pontos da Legislação de Especial Interesse para o Ceará </a:t>
            </a:r>
            <a:br>
              <a:rPr sz="40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mitê de Bacia, Cobrança da Água e Agência de Água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2276640"/>
            <a:ext cx="8713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interpretação dos artigos 38, 41 e 44 da Lei das Águas levam à necessidade de  estreita sintonia entre o Comitê de Bacia e a Agência de Águas, no tocante à cobrança pelo uso da água e ao acompanhamento e administração financeira dos recursos arrecada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caso do Ceará, como são vários comitês e uma só agência, deve-se buscar a melhor forma de relacionamento funcional entre a COGERH e os comitês para que se possa “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estabelecer os mecanismos de cobrança pelo uso dos recursos hídricos e sugerir os valores a serem cobrado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, bem como  “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efetuar a cobrança pelo uso de recursos hídrico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 e “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acompanhar a administração financeira dos recursos arrecadados com a cobrança pelo uso de recursos hídricos  em sua área de atuação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Pontos da Legislação de Especial Interesse para o Ceará 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 COGERH como Agência de Águ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560" y="2276640"/>
            <a:ext cx="8713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COGERH exerce as funções de Agência de Água para todas as bacias hidrográficas do estado. Esta prerrogativa é prevista no artigo 41 da Lei das Águas,”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Art. 41 – As agências de água exercerão a função de secretaria executiva do respectivo Comitê ou respectivos Comitês de Bacia hidrográfic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.  Essa possibilidade é aprofundada no artigo 42 da mesma lei: “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Art. 42 – As agências de água terão a mesma área de atuação de um ou mais Comitês de bacia Hidrográfic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o Agencia de Água, a COGERH fixa, em consonância com os Comitês de Bacia, os parâmetros para o estabelecimento dos mecanismos de cobrança e efetua a cobrança dos usuário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Pontos da Legislação de Especial Interesse para o Ceará 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 COGERH como Agência de Águ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2276640"/>
            <a:ext cx="8713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s recursos arrecadados são internalizados no caixa da Companhia e alocados na manutenção do próprio sistema de gestão dos recursos hídricos e nos processos de operação e manutenção das estruturas de reservação e de derivação de água, em todas as bacias hidrográficas do Estado.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am, também, atribuídas à COGERH, outras funções de caráter executivo, próprias de ente público. O exercício dessas funções conferem à COGERH atribuições que ultrapassam os limites de Agência de Águ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Pontos da Legislação de Especial Interesse para o Ceará 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lanejam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2276640"/>
            <a:ext cx="8713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política de integração entre bacias hidrográficas, posta em prática nos últimos anos pelo Governo do Estado do Ceará, com a elaboração de projetos e a execução de obras com o objetivo de transferir vazões entre bacias, em especial para atender as demandas da Região Metropolitana de Fortaleza, tem suscitado a discussão sobre a necessidade de criação de novos instrumentos de planejamento e gestão dos recursos hídric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integração entre bacias ou sub-bacias pressupõe a transferência de vazões entre elas e envolve a atuação dos respectivos comitês de bacias na discussão de interesses diversos e, até mesmo, conflitant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Pontos da Legislação de Especial Interesse para o Ceará </a:t>
            </a:r>
            <a:br>
              <a:rPr sz="40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 CONCEITO DE POLUIDOR PAGADOR NO SEMI-ÁRIDO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2276640"/>
            <a:ext cx="8713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 conceito de poluidor pagador é decorrente do entendimento que o uso das águas com finalidade de diluir e transportar efluentes de sistemas de esgoto deve ser objeto de outorga e cobranç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e entendimento está consubstanciado em diversos textos legais que versam sobre políticas de água e cobrança de seu uso, tanto a nível nacional como estadual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Pontos da Legislação de Especial Interesse para o Ceará </a:t>
            </a:r>
            <a:br>
              <a:rPr sz="40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 CONCEITO DE POLUIDOR PAGADOR NO SEMI-ÁRIDO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2276640"/>
            <a:ext cx="8713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s rios do Ceará, na sua forma natural, são intermitentes. Em grande parte do tempo a vazão do caudal é nula, somente por ocasião da estação das chuvas os rios correm naturalment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rvatórios interanuais construídos pela União ou pelo Estado permitem a regularização de vazões, com a conseqüente “perenização” dos cursos d’águ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as vazões normalmente muito pequenas criam uma corrente de água que meandra na calha menor dos rios, com fluxo de baixa velocidade e regime laminar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Pontos da Legislação de Especial Interesse para o Ceará </a:t>
            </a:r>
            <a:br>
              <a:rPr sz="40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 CONCEITO DE POLUIDOR PAGADOR NO SEMI-ÁRIDO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2276640"/>
            <a:ext cx="8713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u seja, nas estações secas, os rios funcionam como canais que disponibilizam para as populações ribeirinhas a água armazenada nos inúmeros açudes construídos com este obje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equena vazão, o fluxo laminar e o aproveitamento da água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in natur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ela população distribuída ao longo de suas margens, proíbem o lançamento de esgotos tratados, ou não, em nossos ri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Pontos da Legislação de Especial Interesse para o Ceará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904760"/>
            <a:ext cx="829152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 Aplicação dos Recursos Arrecad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 Organização dos Comitê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mitê de Bacia, Cobrança pelo Uso da Água e Agência de Águ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 COGERH como Agência de Águ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lanejam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 Conceito de Poluidor Pagador no Semi-Ári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Peculiaridades Regionais</a:t>
            </a:r>
            <a:br>
              <a:rPr sz="44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aracterização da Semi-aride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 Ceará tem 90% do seu território encravado na região semi-árida do Nordest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 semi-árido se caracteriz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ixa pluviosidad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centração do período chuvoso em apenas dois ou três mes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rregularidade das precipitações pluviai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s solos do Estado são, na grande maioria, originários de rochas cristalinas, apresentando-se impróprios para explorações intensivas, pois são rasos, pouco férteis, com substrato impermeável e pedregos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Peculiaridades Regionais</a:t>
            </a:r>
            <a:br>
              <a:rPr sz="44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aracterização da Semi-aride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... em conseqüênci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s rios são intermitentes na sua forma natural, com elevadas vazões nas grandes cheias e vazões zero nos períodos sec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s coeficientes de escoamento superficial são elev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reservas subterrâneas são escassas e os aqüíferos são confinados e de recarga len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evapotranspiração é eleva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á ocorrência tanto de secas severas quanto de grandes enchen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Peculiaridades Regionais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 intermitência dos rios e os açudes para regularização de vazõ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s rios da região são intermitent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rvatórios interanuais permitem a regularização de vazões e “perenização” dos cursos d’águ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gestão dos recursos hídricos  se inicia no reservatório, com o controle das comportas, estendendo-se ao acompanhamento das captações ao longo do curso dos rios ou cana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infra-estruturas de reservação, condução e derivação de água exigem um complexo e oneroso arcabouço institucional, que é mantido pelo Governo do Estado e pelos recursos cobrados aos usuários do siste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Peculiaridades Regionais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 intermitência dos rios e os açudes para regularização de vazõ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8964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 gerenciamento das barragens consiste no acompanhamento da reserva volumétrica, operação de comportas, e de serviços de escritório, como os cálculos da oferta de água, a avaliação das demandas, a construção de cenários para o curto e o longo praz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os custos de gestão, devem ser acrescid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s elevados investimentos de construção das barragens e cana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s custos permanentes de manutenção e recuperação destas obra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Peculiaridades Regionais</a:t>
            </a:r>
            <a:br>
              <a:rPr sz="44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tegração de Baci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8964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bacias metropolitanas estão interligadas num complexo sistema de barragens, canais e adutoras, denominado Sistema Pacajús / Pacotí / Riachão / Gaviã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bacia do Jaguaribe está interligada às bacias metropolitanas, por meio do Canal do Trabalhador, obra construída em 1993, com captação no rio Jaguaribe no seu baixo curso e com capacidade máxima de transferência de 6m3/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Peculiaridades Regionais</a:t>
            </a:r>
            <a:br>
              <a:rPr sz="44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tegração de Baci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8964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 Governo do Estado está construindo o Eixo de Integração Castanhão / Região Metropolitana de Fortaleza, canal com capacidade de transporte de 22m3/s, para transferência de vazões da barragem do Castanhão, no Médio Jaguaribe, para o Sistema Pacajús / Pacotí / Riachão / Gaviã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 Eixão, em sua última etapa, chegará até o Complexo Industrial e Portuário do Pecém, integrando-se também com as bacias dos rios metropolitanos situadas a oeste de Fortaleza, rios Cauhipe e São Gonçal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19:43:57Z</dcterms:created>
  <dc:creator>Sinapse Consultoria</dc:creator>
  <dc:description/>
  <dc:language>en-US</dc:language>
  <cp:lastModifiedBy>Sinapse Consultoria</cp:lastModifiedBy>
  <dcterms:modified xsi:type="dcterms:W3CDTF">2005-08-16T22:16:06Z</dcterms:modified>
  <cp:revision>6</cp:revision>
  <dc:subject/>
  <dc:title>Condições Peculiares do Ceará e Pontos da Legislação de Especial Interesse</dc:title>
</cp:coreProperties>
</file>