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907588" cy="6858000"/>
  <p:notesSz cx="9925050" cy="6664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F975-3013-4351-ADF3-56BBEEC91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732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6368-9A85-4F09-8921-A6797054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732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B411-BF03-46F7-BA35-4BB2C7852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732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97E1-D559-4BB7-B2AD-A35CB3B11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7581-874D-4189-A052-D17E7B942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732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2B50-3932-4443-8B35-28771D6F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732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43A2-4F7C-4C1F-867E-EACC090C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32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6A17-97D3-4C5E-A23B-48D7019D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732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EC98-0B91-444F-BCF8-5D51B3DA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7320" y="4568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61A2-6C87-46E4-913D-7DDE0F7D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732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DD1D-A3F4-4B23-A599-3EA810FF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732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F910-CA39-4C99-963C-DAB12144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732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103D-110A-497A-B9DC-025C2B79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732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8C6C-B44B-4342-8549-151BEF07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732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78B0-A83F-445D-B86D-09D97AF7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32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D8E6-6AF3-4D8C-844C-B13B216FB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732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750C-2369-4221-9191-E5097FDE9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732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0600-34EF-4955-A086-79C25FCC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732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B4E4-C7A7-49F8-B46D-07BD0543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732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85F2-2EB0-4139-AC8E-CA1FEDC4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47320" y="4568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AB24-B46C-4A89-A3A0-22193343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732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9EEC-4D59-44D0-9C4E-431C7F7D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732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5589-A93F-4864-8D0F-68D642C0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732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570C-F68A-4BFF-A420-0ED8D306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7320" y="4568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0B17-4119-416F-9897-F87EEE1633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78400"/>
            <a:ext cx="9906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2680" y="21333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CC9C-2066-4B4D-9D28-7AAA027577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6816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0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7600" y="0"/>
            <a:ext cx="9047160" cy="5300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VFORUM  DE SECRETRÁRIOS DE RECURSOS HÍDRICO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 NORDESTE E MINAS GERAIS</a:t>
            </a:r>
            <a:br>
              <a:rPr sz="2400"/>
            </a:br>
            <a:br>
              <a:rPr sz="2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brança pel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Uso dos Recursos Hídricos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Francisco Lopes Viana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Superintendente de Outorga e Cobrança (SOC)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Agência Nacional de Águas (ANA)</a:t>
            </a:r>
            <a:br>
              <a:rPr sz="2000"/>
            </a:b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3137040" y="5560200"/>
            <a:ext cx="40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io/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84280" y="3284640"/>
            <a:ext cx="38606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SOS SUJEITOS À COBRANÇ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4484520" y="4680"/>
            <a:ext cx="5421600" cy="6492960"/>
          </a:xfrm>
          <a:prstGeom prst="rect">
            <a:avLst/>
          </a:prstGeom>
          <a:solidFill>
            <a:srgbClr val="99c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Unicode MS"/>
              </a:rPr>
              <a:t>esgotamento sanitário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Unicode MS"/>
              </a:rPr>
              <a:t>aqüicultur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Unicode MS"/>
              </a:rPr>
              <a:t>irrigação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Unicode MS"/>
              </a:rPr>
              <a:t>indústri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Unicode MS"/>
              </a:rPr>
              <a:t>mineração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Unicode MS"/>
              </a:rPr>
              <a:t>dessedentação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 Unicode MS"/>
              </a:rPr>
              <a:t>e criação animal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Unicode MS"/>
              </a:rPr>
              <a:t>obras hidráulica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Unicode MS"/>
              </a:rPr>
              <a:t>termelétrica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Unicode MS"/>
              </a:rPr>
              <a:t>hidrelétrica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Unicode MS"/>
              </a:rPr>
              <a:t>travessi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Unicode MS"/>
              </a:rPr>
              <a:t>abastecimento público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Unicode MS"/>
              </a:rPr>
              <a:t>combate à incêndio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Unicode MS"/>
              </a:rPr>
              <a:t>Serviço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Unicode MS"/>
              </a:rPr>
              <a:t>outro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logo" descr=""/>
          <p:cNvPicPr/>
          <p:nvPr/>
        </p:nvPicPr>
        <p:blipFill>
          <a:blip r:embed="rId2"/>
          <a:stretch/>
        </p:blipFill>
        <p:spPr>
          <a:xfrm>
            <a:off x="3219480" y="844560"/>
            <a:ext cx="3137040" cy="12636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476440" y="2286000"/>
            <a:ext cx="4953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00160" y="1979640"/>
            <a:ext cx="7594560" cy="30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Superintendência de Outorga e Cobrança (SOC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rancisco Lopes Viana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E-mail: fcoviana@ana.gov.br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Tel.:  (61) 2109.5251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4520" y="5373720"/>
            <a:ext cx="9283680" cy="703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Obrigado pela atenção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41240" y="488520"/>
            <a:ext cx="850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FUNDAMENTOS  DA POLÍTICA NACIONAL DE RECURSOS HÍDRICO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343480" y="4508640"/>
            <a:ext cx="456264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US" sz="2800" spc="-1" strike="noStrike">
                <a:solidFill>
                  <a:srgbClr val="ccecff"/>
                </a:solidFill>
                <a:latin typeface="Arial Unicode MS"/>
              </a:rPr>
              <a:t>A ÁGUA É UM RECURSO NATURAL LIMITADO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, </a:t>
            </a:r>
            <a:r>
              <a:rPr b="1" lang="en-US" sz="2800" spc="-1" strike="noStrike">
                <a:solidFill>
                  <a:srgbClr val="ffff00"/>
                </a:solidFill>
                <a:latin typeface="Arial Unicode MS"/>
              </a:rPr>
              <a:t>DOTADO DE VALOR ECONÔMICO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110200" y="1981080"/>
            <a:ext cx="3591000" cy="2221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819000" y="3683160"/>
            <a:ext cx="4445280" cy="2482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819000" y="2342160"/>
            <a:ext cx="37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ÁGUA, BEM DE DOMÍNIO PÚBLICO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-82440" y="0"/>
            <a:ext cx="9988560" cy="68580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33640" y="3257640"/>
            <a:ext cx="3962520" cy="947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lanos de Recursos Hídrico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857160" y="3726360"/>
            <a:ext cx="2939760" cy="2718720"/>
            <a:chOff x="857160" y="3726360"/>
            <a:chExt cx="2939760" cy="2718720"/>
          </a:xfrm>
        </p:grpSpPr>
        <p:sp>
          <p:nvSpPr>
            <p:cNvPr id="94" name=""/>
            <p:cNvSpPr/>
            <p:nvPr/>
          </p:nvSpPr>
          <p:spPr>
            <a:xfrm rot="10740600">
              <a:off x="2000160" y="3733560"/>
              <a:ext cx="838440" cy="990360"/>
            </a:xfrm>
            <a:custGeom>
              <a:avLst/>
              <a:gdLst>
                <a:gd name="textAreaLeft" fmla="*/ 279360 w 838440"/>
                <a:gd name="textAreaRight" fmla="*/ 700560 w 838440"/>
                <a:gd name="textAreaTop" fmla="*/ 587160 h 990360"/>
                <a:gd name="textAreaBottom" fmla="*/ 82728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363"/>
                  </a:moveTo>
                  <a:lnTo>
                    <a:pt x="12804" y="16363"/>
                  </a:lnTo>
                  <a:lnTo>
                    <a:pt x="12804" y="7200"/>
                  </a:lnTo>
                  <a:lnTo>
                    <a:pt x="9245" y="7200"/>
                  </a:lnTo>
                  <a:lnTo>
                    <a:pt x="15423" y="0"/>
                  </a:lnTo>
                  <a:lnTo>
                    <a:pt x="21600" y="7200"/>
                  </a:lnTo>
                  <a:lnTo>
                    <a:pt x="18041" y="7200"/>
                  </a:lnTo>
                  <a:lnTo>
                    <a:pt x="180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cc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33440" y="4800600"/>
              <a:ext cx="1828800" cy="45972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Diretrizes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2000520" y="5334120"/>
              <a:ext cx="456840" cy="457200"/>
            </a:xfrm>
            <a:prstGeom prst="upArrow">
              <a:avLst>
                <a:gd name="adj1" fmla="val 50000"/>
                <a:gd name="adj2" fmla="val 25020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00cc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57160" y="5924520"/>
              <a:ext cx="2939760" cy="520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2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Enquadramento</a:t>
              </a:r>
              <a:endParaRPr b="0" lang="en-US" sz="2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489640" y="3727080"/>
            <a:ext cx="4303440" cy="2756160"/>
            <a:chOff x="5489640" y="3727080"/>
            <a:chExt cx="4303440" cy="2756160"/>
          </a:xfrm>
        </p:grpSpPr>
        <p:sp>
          <p:nvSpPr>
            <p:cNvPr id="99" name=""/>
            <p:cNvSpPr/>
            <p:nvPr/>
          </p:nvSpPr>
          <p:spPr>
            <a:xfrm flipH="1" rot="10859400">
              <a:off x="7009560" y="3733920"/>
              <a:ext cx="839160" cy="990000"/>
            </a:xfrm>
            <a:custGeom>
              <a:avLst/>
              <a:gdLst>
                <a:gd name="textAreaLeft" fmla="*/ 279360 w 839160"/>
                <a:gd name="textAreaRight" fmla="*/ 700560 w 839160"/>
                <a:gd name="textAreaTop" fmla="*/ 586800 h 990000"/>
                <a:gd name="textAreaBottom" fmla="*/ 826920 h 99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363"/>
                  </a:moveTo>
                  <a:lnTo>
                    <a:pt x="12804" y="16363"/>
                  </a:lnTo>
                  <a:lnTo>
                    <a:pt x="12804" y="7200"/>
                  </a:lnTo>
                  <a:lnTo>
                    <a:pt x="9245" y="7200"/>
                  </a:lnTo>
                  <a:lnTo>
                    <a:pt x="15423" y="0"/>
                  </a:lnTo>
                  <a:lnTo>
                    <a:pt x="21600" y="7200"/>
                  </a:lnTo>
                  <a:lnTo>
                    <a:pt x="18041" y="7200"/>
                  </a:lnTo>
                  <a:lnTo>
                    <a:pt x="180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cc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419880" y="4832280"/>
              <a:ext cx="2578680" cy="45972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Banco de dados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7391880" y="5391000"/>
              <a:ext cx="457560" cy="45720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00cc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89640" y="5962680"/>
              <a:ext cx="4303440" cy="520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32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Sistema de Informações</a:t>
              </a:r>
              <a:endParaRPr b="0" lang="en-US" sz="2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419880" y="1028880"/>
            <a:ext cx="2341080" cy="2725560"/>
            <a:chOff x="6419880" y="1028880"/>
            <a:chExt cx="2341080" cy="2725560"/>
          </a:xfrm>
        </p:grpSpPr>
        <p:sp>
          <p:nvSpPr>
            <p:cNvPr id="104" name=""/>
            <p:cNvSpPr/>
            <p:nvPr/>
          </p:nvSpPr>
          <p:spPr>
            <a:xfrm rot="11400">
              <a:off x="7010640" y="2761920"/>
              <a:ext cx="838800" cy="990720"/>
            </a:xfrm>
            <a:custGeom>
              <a:avLst/>
              <a:gdLst>
                <a:gd name="textAreaLeft" fmla="*/ 279720 w 838800"/>
                <a:gd name="textAreaRight" fmla="*/ 700560 w 838800"/>
                <a:gd name="textAreaTop" fmla="*/ 587160 h 990720"/>
                <a:gd name="textAreaBottom" fmla="*/ 82764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363"/>
                  </a:moveTo>
                  <a:lnTo>
                    <a:pt x="12804" y="16363"/>
                  </a:lnTo>
                  <a:lnTo>
                    <a:pt x="12804" y="7200"/>
                  </a:lnTo>
                  <a:lnTo>
                    <a:pt x="9245" y="7200"/>
                  </a:lnTo>
                  <a:lnTo>
                    <a:pt x="15423" y="0"/>
                  </a:lnTo>
                  <a:lnTo>
                    <a:pt x="21600" y="7200"/>
                  </a:lnTo>
                  <a:lnTo>
                    <a:pt x="18041" y="7200"/>
                  </a:lnTo>
                  <a:lnTo>
                    <a:pt x="180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cc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05720" y="2190600"/>
              <a:ext cx="1829880" cy="45972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Diretrizes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53720" y="1619280"/>
              <a:ext cx="457200" cy="45720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00cc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19880" y="1028880"/>
              <a:ext cx="2341080" cy="52056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Outorga</a:t>
              </a:r>
              <a:endParaRPr b="0" lang="en-US" sz="2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162080" y="1047600"/>
            <a:ext cx="2158920" cy="2706840"/>
            <a:chOff x="1162080" y="1047600"/>
            <a:chExt cx="2158920" cy="2706840"/>
          </a:xfrm>
        </p:grpSpPr>
        <p:sp>
          <p:nvSpPr>
            <p:cNvPr id="109" name=""/>
            <p:cNvSpPr/>
            <p:nvPr/>
          </p:nvSpPr>
          <p:spPr>
            <a:xfrm flipH="1" rot="21588600">
              <a:off x="2000160" y="2762280"/>
              <a:ext cx="838440" cy="990720"/>
            </a:xfrm>
            <a:custGeom>
              <a:avLst/>
              <a:gdLst>
                <a:gd name="textAreaLeft" fmla="*/ 279000 w 838440"/>
                <a:gd name="textAreaRight" fmla="*/ 700200 w 838440"/>
                <a:gd name="textAreaTop" fmla="*/ 587160 h 990720"/>
                <a:gd name="textAreaBottom" fmla="*/ 82764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363"/>
                  </a:moveTo>
                  <a:lnTo>
                    <a:pt x="12804" y="16363"/>
                  </a:lnTo>
                  <a:lnTo>
                    <a:pt x="12804" y="7200"/>
                  </a:lnTo>
                  <a:lnTo>
                    <a:pt x="9245" y="7200"/>
                  </a:lnTo>
                  <a:lnTo>
                    <a:pt x="15423" y="0"/>
                  </a:lnTo>
                  <a:lnTo>
                    <a:pt x="21600" y="7200"/>
                  </a:lnTo>
                  <a:lnTo>
                    <a:pt x="18041" y="7200"/>
                  </a:lnTo>
                  <a:lnTo>
                    <a:pt x="180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cc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33440" y="2209680"/>
              <a:ext cx="1828800" cy="45972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Diretrizes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19240" y="1676520"/>
              <a:ext cx="457200" cy="45720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00cc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62080" y="1047600"/>
              <a:ext cx="2158920" cy="520560"/>
            </a:xfrm>
            <a:prstGeom prst="rect">
              <a:avLst/>
            </a:prstGeom>
            <a:solidFill>
              <a:srgbClr val="eaeaea"/>
            </a:solidFill>
            <a:ln w="648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Cobrança</a:t>
              </a:r>
              <a:endParaRPr b="0" lang="en-US" sz="2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399960" y="152280"/>
            <a:ext cx="9145800" cy="520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Instrumentos da Política Nacional de Recursos Hídrico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392640" y="1557360"/>
            <a:ext cx="3042720" cy="4255560"/>
            <a:chOff x="3392640" y="1557360"/>
            <a:chExt cx="3042720" cy="4255560"/>
          </a:xfrm>
        </p:grpSpPr>
        <p:sp>
          <p:nvSpPr>
            <p:cNvPr id="115" name=""/>
            <p:cNvSpPr/>
            <p:nvPr/>
          </p:nvSpPr>
          <p:spPr>
            <a:xfrm flipH="1" flipV="1">
              <a:off x="5108760" y="4365720"/>
              <a:ext cx="834120" cy="1425600"/>
            </a:xfrm>
            <a:prstGeom prst="line">
              <a:avLst/>
            </a:prstGeom>
            <a:ln w="76320">
              <a:solidFill>
                <a:srgbClr val="ccec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3626640" y="4365360"/>
              <a:ext cx="1014840" cy="1447560"/>
            </a:xfrm>
            <a:prstGeom prst="line">
              <a:avLst/>
            </a:prstGeom>
            <a:ln w="76320">
              <a:solidFill>
                <a:srgbClr val="ccec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92640" y="1636560"/>
              <a:ext cx="1326240" cy="1432080"/>
            </a:xfrm>
            <a:prstGeom prst="line">
              <a:avLst/>
            </a:prstGeom>
            <a:ln w="76320">
              <a:solidFill>
                <a:srgbClr val="ccec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5109120" y="1557360"/>
              <a:ext cx="1326240" cy="1584360"/>
            </a:xfrm>
            <a:prstGeom prst="line">
              <a:avLst/>
            </a:prstGeom>
            <a:ln w="76320">
              <a:solidFill>
                <a:srgbClr val="ccec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-360" y="1674720"/>
            <a:ext cx="99061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ASE LEGAL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50000"/>
              </a:lnSpc>
              <a:spcBef>
                <a:spcPts val="11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STITUIÇÃO FEDERA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lnSpc>
                <a:spcPct val="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rt. 20 e Art. 26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lnSpc>
                <a:spcPct val="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50000"/>
              </a:lnSpc>
              <a:spcBef>
                <a:spcPts val="11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I Nº 9.433, DE 8 DE JANEIRO DE 1997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lnSpc>
                <a:spcPct val="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olítica Nacional de Recursos Hídrico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lnSpc>
                <a:spcPct val="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50000"/>
              </a:lnSpc>
              <a:spcBef>
                <a:spcPts val="11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I Nº 9.984, DE 17 DE JULHO DE 2000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lnSpc>
                <a:spcPct val="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riação da ANA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soluções do CNRH – Resolução Nº 48, de 21/03/2005, estabelece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critérios gerai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para a cobrança pelo uso dos recursos hídrico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19000" y="476280"/>
            <a:ext cx="84204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COBRANÇA PELO USO DOS RECURSOS HÍDRICOS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662040" y="2349360"/>
            <a:ext cx="87390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7320" y="0"/>
            <a:ext cx="842004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OBJETIVOS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DA COBRANÇA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LEI Nº 9.433/1997 – Art. 19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746760" y="1700280"/>
            <a:ext cx="2259000" cy="28810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62040" y="3716280"/>
            <a:ext cx="5160960" cy="2656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488880" y="1006200"/>
            <a:ext cx="5459400" cy="2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Tahoma"/>
              </a:rPr>
              <a:t>I – Reconhecer a água como bem econômico e dar ao usuário uma indicação de seu real valor;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Tahoma"/>
              </a:rPr>
              <a:t>II – Incentivar a racionalização do uso da água.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Tahoma"/>
              </a:rPr>
              <a:t>III – Obter recursos financeiros para o financiamento dos programas e intervenções contemplados nos Planos de Recursos Hídrico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Tahoma"/>
              </a:rPr>
              <a:t>( operação e manutenção da infra-estrutura hídrica e o monitoramento do sistema)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04520" y="0"/>
            <a:ext cx="8420040" cy="19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ATRIBUIÇÕES da ANA referentes à cobrança</a:t>
            </a:r>
            <a:br>
              <a:rPr sz="4000"/>
            </a:b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Lei Nº 9.984/2000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rt. 4º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Inciso VIII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mplementar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, em articulação com os Comitês de Bacia Hidrográfica, a cobrança pelo uso de recursos hídricos de domínio da União;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Inciso IX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arrecadar, distribuir e aplicar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receitas auferidas por intermédio da cobrança pelo uso de recursos hídricos de domínio da União, na forma do disposto no art. 22 da Lei 9.433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20520" y="764640"/>
            <a:ext cx="83516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ATRIBUIÇÕES dos Estados referentes à cobrança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76160" y="1628640"/>
            <a:ext cx="842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is Estaduais de Recursos Hídrico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soluções dos Conselhos Estaduais de Recursos Hídricos por proposição dos Comitês de Bacia Estaduai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cretos Estaduai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xemplos: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 – Ceará – Lei Estadua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 – Rio de Janeiro – Lei Estadua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rcRect l="30584" t="17742" r="13020" b="4481"/>
          <a:stretch/>
        </p:blipFill>
        <p:spPr>
          <a:xfrm>
            <a:off x="1868400" y="933480"/>
            <a:ext cx="6361200" cy="5883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51000" y="4776840"/>
            <a:ext cx="3900240" cy="129528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65120" y="7920"/>
            <a:ext cx="803304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ecff"/>
                </a:solidFill>
                <a:latin typeface="Tahoma"/>
              </a:rPr>
              <a:t>Mananciais de domínio da União e dos Estado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" y="5099040"/>
            <a:ext cx="1016280" cy="227160"/>
          </a:xfrm>
          <a:custGeom>
            <a:avLst/>
            <a:gdLst/>
            <a:ahLst/>
            <a:rect l="l" t="t" r="r" b="b"/>
            <a:pathLst>
              <a:path w="590" h="143">
                <a:moveTo>
                  <a:pt x="0" y="98"/>
                </a:moveTo>
                <a:cubicBezTo>
                  <a:pt x="60" y="49"/>
                  <a:pt x="121" y="0"/>
                  <a:pt x="182" y="7"/>
                </a:cubicBezTo>
                <a:cubicBezTo>
                  <a:pt x="243" y="14"/>
                  <a:pt x="295" y="143"/>
                  <a:pt x="363" y="143"/>
                </a:cubicBezTo>
                <a:cubicBezTo>
                  <a:pt x="431" y="143"/>
                  <a:pt x="560" y="30"/>
                  <a:pt x="590" y="7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1480" y="5603760"/>
            <a:ext cx="1016280" cy="227160"/>
          </a:xfrm>
          <a:custGeom>
            <a:avLst/>
            <a:gdLst/>
            <a:ahLst/>
            <a:rect l="l" t="t" r="r" b="b"/>
            <a:pathLst>
              <a:path w="590" h="143">
                <a:moveTo>
                  <a:pt x="0" y="98"/>
                </a:moveTo>
                <a:cubicBezTo>
                  <a:pt x="60" y="49"/>
                  <a:pt x="121" y="0"/>
                  <a:pt x="182" y="7"/>
                </a:cubicBezTo>
                <a:cubicBezTo>
                  <a:pt x="243" y="14"/>
                  <a:pt x="295" y="143"/>
                  <a:pt x="363" y="143"/>
                </a:cubicBezTo>
                <a:cubicBezTo>
                  <a:pt x="431" y="143"/>
                  <a:pt x="560" y="30"/>
                  <a:pt x="590" y="7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70320" y="4915080"/>
            <a:ext cx="2396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omínio Estadua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70680" y="5418000"/>
            <a:ext cx="226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Domínio Federa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61680" y="475920"/>
            <a:ext cx="84200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TIPOS DE OUTORG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99061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utorga preventiva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- não confere direito de uso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- destina-se a reservar a vazão passível de outorga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- permite, aos investidores, o planejamento da atividad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utorga de direito de uso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- assegura o uso do recurso hídrico, de acordo com os critérios estabelecidos pela ANA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mbas as outorgas são passíveis de cancelamento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2T00:37:22Z</dcterms:created>
  <dc:creator>Sidney Sabbag</dc:creator>
  <dc:description/>
  <dc:language>en-US</dc:language>
  <cp:lastModifiedBy>fcoviana</cp:lastModifiedBy>
  <cp:lastPrinted>2000-08-16T13:40:46Z</cp:lastPrinted>
  <dcterms:modified xsi:type="dcterms:W3CDTF">2005-05-25T20:36:00Z</dcterms:modified>
  <cp:revision>278</cp:revision>
  <dc:subject/>
  <dc:title>ANTECEDENTES DA FISCALIZAÇÃO </dc:title>
</cp:coreProperties>
</file>