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5.wmf" ContentType="image/x-wmf"/>
  <Override PartName="/ppt/media/image22.jpeg" ContentType="image/jpeg"/>
  <Override PartName="/ppt/media/image14.png" ContentType="image/png"/>
  <Override PartName="/ppt/media/image4.png" ContentType="image/png"/>
  <Override PartName="/ppt/media/image5.png" ContentType="image/png"/>
  <Override PartName="/ppt/media/image8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D79-882F-4137-A5FE-A45490A9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514-A2EA-4199-8AD8-0BB21BCA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B70-C4DF-4B01-87C6-556C1F16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2EA-2F6B-47A6-BA1E-D24E9EC1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B9A6-9A97-456C-933F-BEBF1497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F44C-369A-403E-9D66-2B8C3E15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D079-CAEA-4F64-90A1-F4085116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30BA-FF6D-4F0D-8668-E906400D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5301-EE2B-4E10-A3B6-BC7F59F3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91C8-749B-4099-B97F-B664A055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09E3-763C-4276-BAC4-8D54EF25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AB5-DED4-4878-899A-1D02B2E4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4C91-4866-481B-96AF-1A9C6E71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7A4D-E52A-4C55-BB91-00D04327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3FAB-07C3-4C43-B164-2DD70BB3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79C4-1106-4FBB-A40B-4CE823BC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F818-F18C-49BB-805B-03B2E74B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DDF-70F1-4155-8FE4-CA5C97F1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A02-1728-443D-8466-771AF4F6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443-456A-4D3A-8134-B54C428D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764-08EE-4E9E-9A6B-8881108C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505-68EB-4A9F-AA16-80292CC0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55D-4747-452A-8CA6-CB706024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4DF-3C7A-4E09-A8A5-5FE49E20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143000" y="0"/>
            <a:ext cx="8077320" cy="685800"/>
            <a:chOff x="1143000" y="0"/>
            <a:chExt cx="8077320" cy="685800"/>
          </a:xfrm>
        </p:grpSpPr>
        <p:pic>
          <p:nvPicPr>
            <p:cNvPr id="89" name="Recursos" descr=""/>
            <p:cNvPicPr/>
            <p:nvPr/>
          </p:nvPicPr>
          <p:blipFill>
            <a:blip r:embed="rId1"/>
            <a:stretch/>
          </p:blipFill>
          <p:spPr>
            <a:xfrm>
              <a:off x="1143000" y="0"/>
              <a:ext cx="6067440" cy="68580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pic>
          <p:nvPicPr>
            <p:cNvPr id="90" name="hidricos" descr=""/>
            <p:cNvPicPr/>
            <p:nvPr/>
          </p:nvPicPr>
          <p:blipFill>
            <a:blip r:embed="rId2"/>
            <a:stretch/>
          </p:blipFill>
          <p:spPr>
            <a:xfrm>
              <a:off x="6881040" y="6120"/>
              <a:ext cx="2339280" cy="679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</p:grpSp>
      <p:pic>
        <p:nvPicPr>
          <p:cNvPr id="91" name="sohidrasender" descr=""/>
          <p:cNvPicPr/>
          <p:nvPr/>
        </p:nvPicPr>
        <p:blipFill>
          <a:blip r:embed="rId3"/>
          <a:stretch/>
        </p:blipFill>
        <p:spPr>
          <a:xfrm>
            <a:off x="8077320" y="6058080"/>
            <a:ext cx="1066680" cy="604800"/>
          </a:xfrm>
          <a:prstGeom prst="rect">
            <a:avLst/>
          </a:prstGeom>
          <a:ln w="0">
            <a:noFill/>
          </a:ln>
        </p:spPr>
      </p:pic>
      <p:pic>
        <p:nvPicPr>
          <p:cNvPr id="92" name="menu_011" descr=""/>
          <p:cNvPicPr/>
          <p:nvPr/>
        </p:nvPicPr>
        <p:blipFill>
          <a:blip r:embed="rId4"/>
          <a:stretch/>
        </p:blipFill>
        <p:spPr>
          <a:xfrm>
            <a:off x="76320" y="6019920"/>
            <a:ext cx="220500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MISSÃ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81080"/>
            <a:ext cx="8458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mover a oferta, a gestão e a preservação dos recursos hídricos de forma integrada, participativa e descentralizada, contribuindo para o desenvolvimento sustentável do Estado do Ceará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OBJETIVOS ESPECÍFIC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tar o Estado do Ceará de infra-estrutura hídrica adequada e da gestão destes recursos na busca de um desenvolvimento sustentado, através do estabelecimento de bases consistentes de convivência com a escassez de água de uma região semi-árid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uar na estrutura governamental, como atividade-meio para atender às necessidades básicas das áreas de infra-estrutura (saneamento), agricultura (irrigação), desenvolvimento econômico (indústrias) e meio ambiente (regulação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mover o gerenciamento das águas de forma integrada, descentralizada e participativa através dos comitês de bacias, com a parceria de instituições federais, estaduais e municipais e representantes da sociedade civil organizada e dos usuários de água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008000" y="1569960"/>
          <a:ext cx="7221600" cy="49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569960"/>
                    <a:ext cx="7221600" cy="49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ORGANOGRAMA DO SISTEM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905120"/>
            <a:ext cx="838188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STRUMENTOS LEG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OUTORGA DO DIREITO DE USO DA Á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LICENCIAMENTO DAS OBRAS DE OFERTA HÍD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OBRANÇA DE TARIFA DE ÁGUA BRU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INCIPAIS A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LANO ESTADUAL DE RECURSOS HÍDR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SISTEMA DE INFORMAÇÕES DE RECURSOS HÍDR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O APOIO À ORGANIZAÇÃO DOS USUÁ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OS PLANOS DE GERENCIAMENTO DAS ÁGUAS DAS BACIAS HIDROGRÁF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O MONITORAMENTO DOS SISTEMAS HÍDR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 AMPLIAÇÃO, OPERAÇÃO E MANUTENÇÃO DA INFRA-ESTRUTURA HÍD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819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RUMENTOS E PRINCIPAIS AÇÕES DA POLÍTICA ESTADUAL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pa%20Águas%20do%20Ceará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55880" y="762120"/>
            <a:ext cx="35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ÍTICA ESTADUAL 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15228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mento  da  garantia  da  oferta  hídrica  para  o  abastecimento  humano e para  o  desenvolvimento  econômico  (indústria,  turismo,  lazer,  irrigação  e  aquicultur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odução  de  nova cultura  no  trato  da  água  subterrânea  através  de  estudos  e  monitoramento  dos  principais  aqüíf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1838160"/>
            <a:ext cx="4419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stão  integrada,  descentralizada  e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cipativa  dos  recursos  hídr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105520" y="1676520"/>
            <a:ext cx="4022280" cy="4750920"/>
            <a:chOff x="5105520" y="1676520"/>
            <a:chExt cx="4022280" cy="4750920"/>
          </a:xfrm>
        </p:grpSpPr>
        <p:sp>
          <p:nvSpPr>
            <p:cNvPr id="127" name=""/>
            <p:cNvSpPr/>
            <p:nvPr/>
          </p:nvSpPr>
          <p:spPr>
            <a:xfrm>
              <a:off x="6903720" y="4890240"/>
              <a:ext cx="1010160" cy="1537200"/>
            </a:xfrm>
            <a:custGeom>
              <a:avLst/>
              <a:gdLst/>
              <a:ahLst/>
              <a:rect l="l" t="t" r="r" b="b"/>
              <a:pathLst>
                <a:path w="815" h="1152">
                  <a:moveTo>
                    <a:pt x="490" y="1132"/>
                  </a:moveTo>
                  <a:lnTo>
                    <a:pt x="508" y="1073"/>
                  </a:lnTo>
                  <a:lnTo>
                    <a:pt x="566" y="1076"/>
                  </a:lnTo>
                  <a:lnTo>
                    <a:pt x="604" y="1013"/>
                  </a:lnTo>
                  <a:lnTo>
                    <a:pt x="666" y="982"/>
                  </a:lnTo>
                  <a:lnTo>
                    <a:pt x="737" y="907"/>
                  </a:lnTo>
                  <a:lnTo>
                    <a:pt x="769" y="809"/>
                  </a:lnTo>
                  <a:lnTo>
                    <a:pt x="815" y="729"/>
                  </a:lnTo>
                  <a:lnTo>
                    <a:pt x="761" y="686"/>
                  </a:lnTo>
                  <a:lnTo>
                    <a:pt x="697" y="650"/>
                  </a:lnTo>
                  <a:lnTo>
                    <a:pt x="689" y="542"/>
                  </a:lnTo>
                  <a:lnTo>
                    <a:pt x="686" y="523"/>
                  </a:lnTo>
                  <a:lnTo>
                    <a:pt x="652" y="495"/>
                  </a:lnTo>
                  <a:lnTo>
                    <a:pt x="753" y="356"/>
                  </a:lnTo>
                  <a:lnTo>
                    <a:pt x="732" y="264"/>
                  </a:lnTo>
                  <a:lnTo>
                    <a:pt x="758" y="211"/>
                  </a:lnTo>
                  <a:lnTo>
                    <a:pt x="768" y="183"/>
                  </a:lnTo>
                  <a:lnTo>
                    <a:pt x="812" y="124"/>
                  </a:lnTo>
                  <a:lnTo>
                    <a:pt x="787" y="96"/>
                  </a:lnTo>
                  <a:lnTo>
                    <a:pt x="732" y="146"/>
                  </a:lnTo>
                  <a:lnTo>
                    <a:pt x="666" y="147"/>
                  </a:lnTo>
                  <a:lnTo>
                    <a:pt x="589" y="0"/>
                  </a:lnTo>
                  <a:lnTo>
                    <a:pt x="557" y="5"/>
                  </a:lnTo>
                  <a:lnTo>
                    <a:pt x="527" y="50"/>
                  </a:lnTo>
                  <a:lnTo>
                    <a:pt x="380" y="61"/>
                  </a:lnTo>
                  <a:lnTo>
                    <a:pt x="252" y="174"/>
                  </a:lnTo>
                  <a:lnTo>
                    <a:pt x="192" y="311"/>
                  </a:lnTo>
                  <a:lnTo>
                    <a:pt x="87" y="416"/>
                  </a:lnTo>
                  <a:lnTo>
                    <a:pt x="59" y="531"/>
                  </a:lnTo>
                  <a:lnTo>
                    <a:pt x="0" y="776"/>
                  </a:lnTo>
                  <a:lnTo>
                    <a:pt x="54" y="835"/>
                  </a:lnTo>
                  <a:lnTo>
                    <a:pt x="146" y="871"/>
                  </a:lnTo>
                  <a:lnTo>
                    <a:pt x="211" y="934"/>
                  </a:lnTo>
                  <a:lnTo>
                    <a:pt x="244" y="1051"/>
                  </a:lnTo>
                  <a:lnTo>
                    <a:pt x="354" y="1051"/>
                  </a:lnTo>
                  <a:lnTo>
                    <a:pt x="385" y="1109"/>
                  </a:lnTo>
                  <a:lnTo>
                    <a:pt x="404" y="1152"/>
                  </a:lnTo>
                  <a:lnTo>
                    <a:pt x="429" y="1127"/>
                  </a:lnTo>
                  <a:lnTo>
                    <a:pt x="490" y="1132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03720" y="4890240"/>
              <a:ext cx="1010160" cy="1537200"/>
            </a:xfrm>
            <a:custGeom>
              <a:avLst/>
              <a:gdLst/>
              <a:ahLst/>
              <a:rect l="l" t="t" r="r" b="b"/>
              <a:pathLst>
                <a:path w="815" h="1152">
                  <a:moveTo>
                    <a:pt x="490" y="1132"/>
                  </a:moveTo>
                  <a:lnTo>
                    <a:pt x="508" y="1073"/>
                  </a:lnTo>
                  <a:lnTo>
                    <a:pt x="566" y="1076"/>
                  </a:lnTo>
                  <a:lnTo>
                    <a:pt x="604" y="1013"/>
                  </a:lnTo>
                  <a:lnTo>
                    <a:pt x="666" y="982"/>
                  </a:lnTo>
                  <a:lnTo>
                    <a:pt x="737" y="907"/>
                  </a:lnTo>
                  <a:lnTo>
                    <a:pt x="769" y="809"/>
                  </a:lnTo>
                  <a:lnTo>
                    <a:pt x="815" y="729"/>
                  </a:lnTo>
                  <a:lnTo>
                    <a:pt x="761" y="686"/>
                  </a:lnTo>
                  <a:lnTo>
                    <a:pt x="697" y="650"/>
                  </a:lnTo>
                  <a:lnTo>
                    <a:pt x="689" y="542"/>
                  </a:lnTo>
                  <a:lnTo>
                    <a:pt x="686" y="523"/>
                  </a:lnTo>
                  <a:lnTo>
                    <a:pt x="652" y="495"/>
                  </a:lnTo>
                  <a:lnTo>
                    <a:pt x="753" y="356"/>
                  </a:lnTo>
                  <a:lnTo>
                    <a:pt x="732" y="264"/>
                  </a:lnTo>
                  <a:lnTo>
                    <a:pt x="758" y="211"/>
                  </a:lnTo>
                  <a:lnTo>
                    <a:pt x="768" y="183"/>
                  </a:lnTo>
                  <a:lnTo>
                    <a:pt x="812" y="124"/>
                  </a:lnTo>
                  <a:lnTo>
                    <a:pt x="787" y="96"/>
                  </a:lnTo>
                  <a:lnTo>
                    <a:pt x="732" y="146"/>
                  </a:lnTo>
                  <a:lnTo>
                    <a:pt x="666" y="147"/>
                  </a:lnTo>
                  <a:lnTo>
                    <a:pt x="589" y="0"/>
                  </a:lnTo>
                  <a:lnTo>
                    <a:pt x="557" y="5"/>
                  </a:lnTo>
                  <a:lnTo>
                    <a:pt x="527" y="50"/>
                  </a:lnTo>
                  <a:lnTo>
                    <a:pt x="380" y="61"/>
                  </a:lnTo>
                  <a:lnTo>
                    <a:pt x="252" y="174"/>
                  </a:lnTo>
                  <a:lnTo>
                    <a:pt x="192" y="311"/>
                  </a:lnTo>
                  <a:lnTo>
                    <a:pt x="87" y="416"/>
                  </a:lnTo>
                  <a:lnTo>
                    <a:pt x="59" y="531"/>
                  </a:lnTo>
                  <a:lnTo>
                    <a:pt x="0" y="776"/>
                  </a:lnTo>
                  <a:lnTo>
                    <a:pt x="54" y="835"/>
                  </a:lnTo>
                  <a:lnTo>
                    <a:pt x="146" y="871"/>
                  </a:lnTo>
                  <a:lnTo>
                    <a:pt x="211" y="934"/>
                  </a:lnTo>
                  <a:lnTo>
                    <a:pt x="244" y="1051"/>
                  </a:lnTo>
                  <a:lnTo>
                    <a:pt x="354" y="1051"/>
                  </a:lnTo>
                  <a:lnTo>
                    <a:pt x="385" y="1109"/>
                  </a:lnTo>
                  <a:lnTo>
                    <a:pt x="404" y="1152"/>
                  </a:lnTo>
                  <a:lnTo>
                    <a:pt x="429" y="1127"/>
                  </a:lnTo>
                  <a:lnTo>
                    <a:pt x="490" y="1132"/>
                  </a:lnTo>
                  <a:close/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89440" y="4065120"/>
              <a:ext cx="1904760" cy="1893960"/>
            </a:xfrm>
            <a:custGeom>
              <a:avLst/>
              <a:gdLst/>
              <a:ahLst/>
              <a:rect l="l" t="t" r="r" b="b"/>
              <a:pathLst>
                <a:path w="1536" h="1419">
                  <a:moveTo>
                    <a:pt x="257" y="1413"/>
                  </a:moveTo>
                  <a:lnTo>
                    <a:pt x="405" y="1418"/>
                  </a:lnTo>
                  <a:lnTo>
                    <a:pt x="491" y="1396"/>
                  </a:lnTo>
                  <a:lnTo>
                    <a:pt x="627" y="1419"/>
                  </a:lnTo>
                  <a:lnTo>
                    <a:pt x="724" y="1388"/>
                  </a:lnTo>
                  <a:lnTo>
                    <a:pt x="979" y="1396"/>
                  </a:lnTo>
                  <a:lnTo>
                    <a:pt x="1066" y="1034"/>
                  </a:lnTo>
                  <a:lnTo>
                    <a:pt x="1169" y="929"/>
                  </a:lnTo>
                  <a:lnTo>
                    <a:pt x="1231" y="792"/>
                  </a:lnTo>
                  <a:lnTo>
                    <a:pt x="1361" y="679"/>
                  </a:lnTo>
                  <a:lnTo>
                    <a:pt x="1506" y="668"/>
                  </a:lnTo>
                  <a:lnTo>
                    <a:pt x="1536" y="623"/>
                  </a:lnTo>
                  <a:lnTo>
                    <a:pt x="1505" y="595"/>
                  </a:lnTo>
                  <a:lnTo>
                    <a:pt x="1333" y="484"/>
                  </a:lnTo>
                  <a:lnTo>
                    <a:pt x="1194" y="420"/>
                  </a:lnTo>
                  <a:lnTo>
                    <a:pt x="1107" y="419"/>
                  </a:lnTo>
                  <a:lnTo>
                    <a:pt x="1054" y="461"/>
                  </a:lnTo>
                  <a:lnTo>
                    <a:pt x="961" y="470"/>
                  </a:lnTo>
                  <a:lnTo>
                    <a:pt x="892" y="430"/>
                  </a:lnTo>
                  <a:lnTo>
                    <a:pt x="832" y="495"/>
                  </a:lnTo>
                  <a:lnTo>
                    <a:pt x="779" y="494"/>
                  </a:lnTo>
                  <a:lnTo>
                    <a:pt x="709" y="515"/>
                  </a:lnTo>
                  <a:lnTo>
                    <a:pt x="752" y="431"/>
                  </a:lnTo>
                  <a:lnTo>
                    <a:pt x="752" y="364"/>
                  </a:lnTo>
                  <a:lnTo>
                    <a:pt x="630" y="230"/>
                  </a:lnTo>
                  <a:lnTo>
                    <a:pt x="632" y="158"/>
                  </a:lnTo>
                  <a:lnTo>
                    <a:pt x="663" y="108"/>
                  </a:lnTo>
                  <a:lnTo>
                    <a:pt x="647" y="0"/>
                  </a:lnTo>
                  <a:lnTo>
                    <a:pt x="554" y="142"/>
                  </a:lnTo>
                  <a:lnTo>
                    <a:pt x="470" y="252"/>
                  </a:lnTo>
                  <a:lnTo>
                    <a:pt x="444" y="258"/>
                  </a:lnTo>
                  <a:lnTo>
                    <a:pt x="311" y="303"/>
                  </a:lnTo>
                  <a:lnTo>
                    <a:pt x="172" y="309"/>
                  </a:lnTo>
                  <a:lnTo>
                    <a:pt x="108" y="387"/>
                  </a:lnTo>
                  <a:lnTo>
                    <a:pt x="112" y="461"/>
                  </a:lnTo>
                  <a:lnTo>
                    <a:pt x="49" y="511"/>
                  </a:lnTo>
                  <a:lnTo>
                    <a:pt x="0" y="506"/>
                  </a:lnTo>
                  <a:lnTo>
                    <a:pt x="4" y="564"/>
                  </a:lnTo>
                  <a:lnTo>
                    <a:pt x="49" y="632"/>
                  </a:lnTo>
                  <a:lnTo>
                    <a:pt x="62" y="759"/>
                  </a:lnTo>
                  <a:lnTo>
                    <a:pt x="108" y="838"/>
                  </a:lnTo>
                  <a:lnTo>
                    <a:pt x="208" y="917"/>
                  </a:lnTo>
                  <a:lnTo>
                    <a:pt x="354" y="960"/>
                  </a:lnTo>
                  <a:lnTo>
                    <a:pt x="398" y="965"/>
                  </a:lnTo>
                  <a:lnTo>
                    <a:pt x="400" y="996"/>
                  </a:lnTo>
                  <a:lnTo>
                    <a:pt x="341" y="1048"/>
                  </a:lnTo>
                  <a:lnTo>
                    <a:pt x="257" y="1146"/>
                  </a:lnTo>
                  <a:lnTo>
                    <a:pt x="215" y="1235"/>
                  </a:lnTo>
                  <a:lnTo>
                    <a:pt x="215" y="1316"/>
                  </a:lnTo>
                  <a:lnTo>
                    <a:pt x="257" y="1363"/>
                  </a:lnTo>
                  <a:lnTo>
                    <a:pt x="257" y="1413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89440" y="4065120"/>
              <a:ext cx="1904760" cy="1893960"/>
            </a:xfrm>
            <a:custGeom>
              <a:avLst/>
              <a:gdLst/>
              <a:ahLst/>
              <a:rect l="l" t="t" r="r" b="b"/>
              <a:pathLst>
                <a:path w="1536" h="1419">
                  <a:moveTo>
                    <a:pt x="257" y="1413"/>
                  </a:moveTo>
                  <a:lnTo>
                    <a:pt x="405" y="1418"/>
                  </a:lnTo>
                  <a:lnTo>
                    <a:pt x="491" y="1396"/>
                  </a:lnTo>
                  <a:lnTo>
                    <a:pt x="627" y="1419"/>
                  </a:lnTo>
                  <a:lnTo>
                    <a:pt x="724" y="1388"/>
                  </a:lnTo>
                  <a:lnTo>
                    <a:pt x="979" y="1396"/>
                  </a:lnTo>
                  <a:lnTo>
                    <a:pt x="1066" y="1034"/>
                  </a:lnTo>
                  <a:lnTo>
                    <a:pt x="1169" y="929"/>
                  </a:lnTo>
                  <a:lnTo>
                    <a:pt x="1231" y="792"/>
                  </a:lnTo>
                  <a:lnTo>
                    <a:pt x="1361" y="679"/>
                  </a:lnTo>
                  <a:lnTo>
                    <a:pt x="1506" y="668"/>
                  </a:lnTo>
                  <a:lnTo>
                    <a:pt x="1536" y="623"/>
                  </a:lnTo>
                  <a:lnTo>
                    <a:pt x="1505" y="595"/>
                  </a:lnTo>
                  <a:lnTo>
                    <a:pt x="1333" y="484"/>
                  </a:lnTo>
                  <a:lnTo>
                    <a:pt x="1194" y="420"/>
                  </a:lnTo>
                  <a:lnTo>
                    <a:pt x="1107" y="419"/>
                  </a:lnTo>
                  <a:lnTo>
                    <a:pt x="1054" y="461"/>
                  </a:lnTo>
                  <a:lnTo>
                    <a:pt x="961" y="470"/>
                  </a:lnTo>
                  <a:lnTo>
                    <a:pt x="892" y="430"/>
                  </a:lnTo>
                  <a:lnTo>
                    <a:pt x="832" y="495"/>
                  </a:lnTo>
                  <a:lnTo>
                    <a:pt x="779" y="494"/>
                  </a:lnTo>
                  <a:lnTo>
                    <a:pt x="709" y="515"/>
                  </a:lnTo>
                  <a:lnTo>
                    <a:pt x="752" y="431"/>
                  </a:lnTo>
                  <a:lnTo>
                    <a:pt x="752" y="364"/>
                  </a:lnTo>
                  <a:lnTo>
                    <a:pt x="630" y="230"/>
                  </a:lnTo>
                  <a:lnTo>
                    <a:pt x="632" y="158"/>
                  </a:lnTo>
                  <a:lnTo>
                    <a:pt x="663" y="108"/>
                  </a:lnTo>
                  <a:lnTo>
                    <a:pt x="647" y="0"/>
                  </a:lnTo>
                  <a:lnTo>
                    <a:pt x="554" y="142"/>
                  </a:lnTo>
                  <a:lnTo>
                    <a:pt x="470" y="252"/>
                  </a:lnTo>
                  <a:lnTo>
                    <a:pt x="444" y="258"/>
                  </a:lnTo>
                  <a:lnTo>
                    <a:pt x="311" y="303"/>
                  </a:lnTo>
                  <a:lnTo>
                    <a:pt x="172" y="309"/>
                  </a:lnTo>
                  <a:lnTo>
                    <a:pt x="108" y="387"/>
                  </a:lnTo>
                  <a:lnTo>
                    <a:pt x="112" y="461"/>
                  </a:lnTo>
                  <a:lnTo>
                    <a:pt x="49" y="511"/>
                  </a:lnTo>
                  <a:lnTo>
                    <a:pt x="0" y="506"/>
                  </a:lnTo>
                  <a:lnTo>
                    <a:pt x="4" y="564"/>
                  </a:lnTo>
                  <a:lnTo>
                    <a:pt x="49" y="632"/>
                  </a:lnTo>
                  <a:lnTo>
                    <a:pt x="62" y="759"/>
                  </a:lnTo>
                  <a:lnTo>
                    <a:pt x="108" y="838"/>
                  </a:lnTo>
                  <a:lnTo>
                    <a:pt x="208" y="917"/>
                  </a:lnTo>
                  <a:lnTo>
                    <a:pt x="354" y="960"/>
                  </a:lnTo>
                  <a:lnTo>
                    <a:pt x="398" y="965"/>
                  </a:lnTo>
                  <a:lnTo>
                    <a:pt x="400" y="996"/>
                  </a:lnTo>
                  <a:lnTo>
                    <a:pt x="341" y="1048"/>
                  </a:lnTo>
                  <a:lnTo>
                    <a:pt x="257" y="1146"/>
                  </a:lnTo>
                  <a:lnTo>
                    <a:pt x="215" y="1235"/>
                  </a:lnTo>
                  <a:lnTo>
                    <a:pt x="215" y="1316"/>
                  </a:lnTo>
                  <a:lnTo>
                    <a:pt x="257" y="1363"/>
                  </a:lnTo>
                  <a:lnTo>
                    <a:pt x="257" y="1413"/>
                  </a:lnTo>
                  <a:close/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63200" y="3894480"/>
              <a:ext cx="1311840" cy="1191600"/>
            </a:xfrm>
            <a:custGeom>
              <a:avLst/>
              <a:gdLst/>
              <a:ahLst/>
              <a:rect l="l" t="t" r="r" b="b"/>
              <a:pathLst>
                <a:path w="1058" h="893">
                  <a:moveTo>
                    <a:pt x="663" y="745"/>
                  </a:moveTo>
                  <a:lnTo>
                    <a:pt x="658" y="842"/>
                  </a:lnTo>
                  <a:lnTo>
                    <a:pt x="601" y="893"/>
                  </a:lnTo>
                  <a:lnTo>
                    <a:pt x="539" y="893"/>
                  </a:lnTo>
                  <a:lnTo>
                    <a:pt x="459" y="746"/>
                  </a:lnTo>
                  <a:lnTo>
                    <a:pt x="426" y="753"/>
                  </a:lnTo>
                  <a:lnTo>
                    <a:pt x="398" y="723"/>
                  </a:lnTo>
                  <a:lnTo>
                    <a:pt x="225" y="614"/>
                  </a:lnTo>
                  <a:lnTo>
                    <a:pt x="199" y="601"/>
                  </a:lnTo>
                  <a:lnTo>
                    <a:pt x="86" y="548"/>
                  </a:lnTo>
                  <a:lnTo>
                    <a:pt x="0" y="547"/>
                  </a:lnTo>
                  <a:lnTo>
                    <a:pt x="113" y="406"/>
                  </a:lnTo>
                  <a:lnTo>
                    <a:pt x="179" y="338"/>
                  </a:lnTo>
                  <a:lnTo>
                    <a:pt x="249" y="336"/>
                  </a:lnTo>
                  <a:lnTo>
                    <a:pt x="257" y="320"/>
                  </a:lnTo>
                  <a:lnTo>
                    <a:pt x="284" y="267"/>
                  </a:lnTo>
                  <a:lnTo>
                    <a:pt x="382" y="222"/>
                  </a:lnTo>
                  <a:lnTo>
                    <a:pt x="559" y="219"/>
                  </a:lnTo>
                  <a:lnTo>
                    <a:pt x="580" y="206"/>
                  </a:lnTo>
                  <a:lnTo>
                    <a:pt x="636" y="231"/>
                  </a:lnTo>
                  <a:lnTo>
                    <a:pt x="716" y="200"/>
                  </a:lnTo>
                  <a:lnTo>
                    <a:pt x="911" y="54"/>
                  </a:lnTo>
                  <a:lnTo>
                    <a:pt x="958" y="19"/>
                  </a:lnTo>
                  <a:lnTo>
                    <a:pt x="989" y="0"/>
                  </a:lnTo>
                  <a:lnTo>
                    <a:pt x="1001" y="22"/>
                  </a:lnTo>
                  <a:lnTo>
                    <a:pt x="1006" y="80"/>
                  </a:lnTo>
                  <a:lnTo>
                    <a:pt x="1032" y="157"/>
                  </a:lnTo>
                  <a:lnTo>
                    <a:pt x="1032" y="214"/>
                  </a:lnTo>
                  <a:lnTo>
                    <a:pt x="1055" y="322"/>
                  </a:lnTo>
                  <a:lnTo>
                    <a:pt x="1058" y="409"/>
                  </a:lnTo>
                  <a:lnTo>
                    <a:pt x="1007" y="501"/>
                  </a:lnTo>
                  <a:lnTo>
                    <a:pt x="938" y="581"/>
                  </a:lnTo>
                  <a:lnTo>
                    <a:pt x="870" y="657"/>
                  </a:lnTo>
                  <a:lnTo>
                    <a:pt x="812" y="625"/>
                  </a:lnTo>
                  <a:lnTo>
                    <a:pt x="750" y="684"/>
                  </a:lnTo>
                  <a:lnTo>
                    <a:pt x="663" y="745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3200" y="3894480"/>
              <a:ext cx="1311840" cy="1191600"/>
            </a:xfrm>
            <a:custGeom>
              <a:avLst/>
              <a:gdLst/>
              <a:ahLst/>
              <a:rect l="l" t="t" r="r" b="b"/>
              <a:pathLst>
                <a:path w="1058" h="893">
                  <a:moveTo>
                    <a:pt x="663" y="745"/>
                  </a:moveTo>
                  <a:lnTo>
                    <a:pt x="658" y="842"/>
                  </a:lnTo>
                  <a:lnTo>
                    <a:pt x="601" y="893"/>
                  </a:lnTo>
                  <a:lnTo>
                    <a:pt x="539" y="893"/>
                  </a:lnTo>
                  <a:lnTo>
                    <a:pt x="459" y="746"/>
                  </a:lnTo>
                  <a:lnTo>
                    <a:pt x="426" y="753"/>
                  </a:lnTo>
                  <a:lnTo>
                    <a:pt x="398" y="723"/>
                  </a:lnTo>
                  <a:lnTo>
                    <a:pt x="225" y="614"/>
                  </a:lnTo>
                  <a:lnTo>
                    <a:pt x="199" y="601"/>
                  </a:lnTo>
                  <a:lnTo>
                    <a:pt x="86" y="548"/>
                  </a:lnTo>
                  <a:lnTo>
                    <a:pt x="0" y="547"/>
                  </a:lnTo>
                  <a:lnTo>
                    <a:pt x="113" y="406"/>
                  </a:lnTo>
                  <a:lnTo>
                    <a:pt x="179" y="338"/>
                  </a:lnTo>
                  <a:lnTo>
                    <a:pt x="249" y="336"/>
                  </a:lnTo>
                  <a:lnTo>
                    <a:pt x="257" y="320"/>
                  </a:lnTo>
                  <a:lnTo>
                    <a:pt x="284" y="267"/>
                  </a:lnTo>
                  <a:lnTo>
                    <a:pt x="382" y="222"/>
                  </a:lnTo>
                  <a:lnTo>
                    <a:pt x="559" y="219"/>
                  </a:lnTo>
                  <a:lnTo>
                    <a:pt x="580" y="206"/>
                  </a:lnTo>
                  <a:lnTo>
                    <a:pt x="636" y="231"/>
                  </a:lnTo>
                  <a:lnTo>
                    <a:pt x="716" y="200"/>
                  </a:lnTo>
                  <a:lnTo>
                    <a:pt x="911" y="54"/>
                  </a:lnTo>
                  <a:lnTo>
                    <a:pt x="958" y="19"/>
                  </a:lnTo>
                  <a:lnTo>
                    <a:pt x="989" y="0"/>
                  </a:lnTo>
                  <a:lnTo>
                    <a:pt x="1001" y="22"/>
                  </a:lnTo>
                  <a:lnTo>
                    <a:pt x="1006" y="80"/>
                  </a:lnTo>
                  <a:lnTo>
                    <a:pt x="1032" y="157"/>
                  </a:lnTo>
                  <a:lnTo>
                    <a:pt x="1032" y="214"/>
                  </a:lnTo>
                  <a:lnTo>
                    <a:pt x="1055" y="322"/>
                  </a:lnTo>
                  <a:lnTo>
                    <a:pt x="1058" y="409"/>
                  </a:lnTo>
                  <a:lnTo>
                    <a:pt x="1007" y="501"/>
                  </a:lnTo>
                  <a:lnTo>
                    <a:pt x="938" y="581"/>
                  </a:lnTo>
                  <a:lnTo>
                    <a:pt x="870" y="657"/>
                  </a:lnTo>
                  <a:lnTo>
                    <a:pt x="812" y="625"/>
                  </a:lnTo>
                  <a:lnTo>
                    <a:pt x="750" y="684"/>
                  </a:lnTo>
                  <a:lnTo>
                    <a:pt x="663" y="745"/>
                  </a:lnTo>
                  <a:close/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51960" y="3216600"/>
              <a:ext cx="1275840" cy="1107360"/>
            </a:xfrm>
            <a:custGeom>
              <a:avLst/>
              <a:gdLst/>
              <a:ahLst/>
              <a:rect l="l" t="t" r="r" b="b"/>
              <a:pathLst>
                <a:path w="1029" h="830">
                  <a:moveTo>
                    <a:pt x="615" y="510"/>
                  </a:moveTo>
                  <a:lnTo>
                    <a:pt x="538" y="618"/>
                  </a:lnTo>
                  <a:lnTo>
                    <a:pt x="504" y="708"/>
                  </a:lnTo>
                  <a:lnTo>
                    <a:pt x="419" y="830"/>
                  </a:lnTo>
                  <a:lnTo>
                    <a:pt x="397" y="722"/>
                  </a:lnTo>
                  <a:lnTo>
                    <a:pt x="396" y="663"/>
                  </a:lnTo>
                  <a:lnTo>
                    <a:pt x="368" y="585"/>
                  </a:lnTo>
                  <a:lnTo>
                    <a:pt x="365" y="530"/>
                  </a:lnTo>
                  <a:lnTo>
                    <a:pt x="353" y="510"/>
                  </a:lnTo>
                  <a:lnTo>
                    <a:pt x="284" y="423"/>
                  </a:lnTo>
                  <a:lnTo>
                    <a:pt x="232" y="429"/>
                  </a:lnTo>
                  <a:lnTo>
                    <a:pt x="144" y="385"/>
                  </a:lnTo>
                  <a:lnTo>
                    <a:pt x="13" y="351"/>
                  </a:lnTo>
                  <a:lnTo>
                    <a:pt x="0" y="327"/>
                  </a:lnTo>
                  <a:lnTo>
                    <a:pt x="47" y="267"/>
                  </a:lnTo>
                  <a:lnTo>
                    <a:pt x="67" y="242"/>
                  </a:lnTo>
                  <a:lnTo>
                    <a:pt x="131" y="240"/>
                  </a:lnTo>
                  <a:lnTo>
                    <a:pt x="204" y="174"/>
                  </a:lnTo>
                  <a:lnTo>
                    <a:pt x="458" y="171"/>
                  </a:lnTo>
                  <a:lnTo>
                    <a:pt x="587" y="73"/>
                  </a:lnTo>
                  <a:lnTo>
                    <a:pt x="613" y="20"/>
                  </a:lnTo>
                  <a:lnTo>
                    <a:pt x="612" y="0"/>
                  </a:lnTo>
                  <a:lnTo>
                    <a:pt x="641" y="1"/>
                  </a:lnTo>
                  <a:lnTo>
                    <a:pt x="645" y="34"/>
                  </a:lnTo>
                  <a:lnTo>
                    <a:pt x="793" y="153"/>
                  </a:lnTo>
                  <a:lnTo>
                    <a:pt x="874" y="168"/>
                  </a:lnTo>
                  <a:lnTo>
                    <a:pt x="998" y="221"/>
                  </a:lnTo>
                  <a:lnTo>
                    <a:pt x="1014" y="251"/>
                  </a:lnTo>
                  <a:lnTo>
                    <a:pt x="1029" y="285"/>
                  </a:lnTo>
                  <a:lnTo>
                    <a:pt x="949" y="285"/>
                  </a:lnTo>
                  <a:lnTo>
                    <a:pt x="790" y="310"/>
                  </a:lnTo>
                  <a:lnTo>
                    <a:pt x="721" y="316"/>
                  </a:lnTo>
                  <a:lnTo>
                    <a:pt x="667" y="384"/>
                  </a:lnTo>
                  <a:lnTo>
                    <a:pt x="626" y="479"/>
                  </a:lnTo>
                  <a:lnTo>
                    <a:pt x="615" y="510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51960" y="3216600"/>
              <a:ext cx="1275840" cy="1107360"/>
            </a:xfrm>
            <a:custGeom>
              <a:avLst/>
              <a:gdLst/>
              <a:ahLst/>
              <a:rect l="l" t="t" r="r" b="b"/>
              <a:pathLst>
                <a:path w="1029" h="830">
                  <a:moveTo>
                    <a:pt x="615" y="510"/>
                  </a:moveTo>
                  <a:lnTo>
                    <a:pt x="538" y="618"/>
                  </a:lnTo>
                  <a:lnTo>
                    <a:pt x="504" y="708"/>
                  </a:lnTo>
                  <a:lnTo>
                    <a:pt x="419" y="830"/>
                  </a:lnTo>
                  <a:lnTo>
                    <a:pt x="397" y="722"/>
                  </a:lnTo>
                  <a:lnTo>
                    <a:pt x="396" y="663"/>
                  </a:lnTo>
                  <a:lnTo>
                    <a:pt x="368" y="585"/>
                  </a:lnTo>
                  <a:lnTo>
                    <a:pt x="365" y="530"/>
                  </a:lnTo>
                  <a:lnTo>
                    <a:pt x="353" y="510"/>
                  </a:lnTo>
                  <a:lnTo>
                    <a:pt x="284" y="423"/>
                  </a:lnTo>
                  <a:lnTo>
                    <a:pt x="232" y="429"/>
                  </a:lnTo>
                  <a:lnTo>
                    <a:pt x="144" y="385"/>
                  </a:lnTo>
                  <a:lnTo>
                    <a:pt x="13" y="351"/>
                  </a:lnTo>
                  <a:lnTo>
                    <a:pt x="0" y="327"/>
                  </a:lnTo>
                  <a:lnTo>
                    <a:pt x="47" y="267"/>
                  </a:lnTo>
                  <a:lnTo>
                    <a:pt x="67" y="242"/>
                  </a:lnTo>
                  <a:lnTo>
                    <a:pt x="131" y="240"/>
                  </a:lnTo>
                  <a:lnTo>
                    <a:pt x="204" y="174"/>
                  </a:lnTo>
                  <a:lnTo>
                    <a:pt x="458" y="171"/>
                  </a:lnTo>
                  <a:lnTo>
                    <a:pt x="587" y="73"/>
                  </a:lnTo>
                  <a:lnTo>
                    <a:pt x="613" y="20"/>
                  </a:lnTo>
                  <a:lnTo>
                    <a:pt x="612" y="0"/>
                  </a:lnTo>
                  <a:lnTo>
                    <a:pt x="641" y="1"/>
                  </a:lnTo>
                  <a:lnTo>
                    <a:pt x="645" y="34"/>
                  </a:lnTo>
                  <a:lnTo>
                    <a:pt x="793" y="153"/>
                  </a:lnTo>
                  <a:lnTo>
                    <a:pt x="874" y="168"/>
                  </a:lnTo>
                  <a:lnTo>
                    <a:pt x="998" y="221"/>
                  </a:lnTo>
                  <a:lnTo>
                    <a:pt x="1014" y="251"/>
                  </a:lnTo>
                  <a:lnTo>
                    <a:pt x="1029" y="285"/>
                  </a:lnTo>
                  <a:lnTo>
                    <a:pt x="949" y="285"/>
                  </a:lnTo>
                  <a:lnTo>
                    <a:pt x="790" y="310"/>
                  </a:lnTo>
                  <a:lnTo>
                    <a:pt x="721" y="316"/>
                  </a:lnTo>
                  <a:lnTo>
                    <a:pt x="667" y="384"/>
                  </a:lnTo>
                  <a:lnTo>
                    <a:pt x="626" y="479"/>
                  </a:lnTo>
                  <a:lnTo>
                    <a:pt x="615" y="510"/>
                  </a:lnTo>
                  <a:close/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05520" y="2147400"/>
              <a:ext cx="1405080" cy="2599560"/>
            </a:xfrm>
            <a:custGeom>
              <a:avLst/>
              <a:gdLst/>
              <a:ahLst/>
              <a:rect l="l" t="t" r="r" b="b"/>
              <a:pathLst>
                <a:path w="1133" h="1948">
                  <a:moveTo>
                    <a:pt x="24" y="0"/>
                  </a:moveTo>
                  <a:lnTo>
                    <a:pt x="0" y="50"/>
                  </a:lnTo>
                  <a:lnTo>
                    <a:pt x="190" y="490"/>
                  </a:lnTo>
                  <a:lnTo>
                    <a:pt x="268" y="609"/>
                  </a:lnTo>
                  <a:lnTo>
                    <a:pt x="270" y="748"/>
                  </a:lnTo>
                  <a:lnTo>
                    <a:pt x="234" y="818"/>
                  </a:lnTo>
                  <a:lnTo>
                    <a:pt x="173" y="888"/>
                  </a:lnTo>
                  <a:lnTo>
                    <a:pt x="226" y="949"/>
                  </a:lnTo>
                  <a:lnTo>
                    <a:pt x="242" y="1050"/>
                  </a:lnTo>
                  <a:lnTo>
                    <a:pt x="270" y="1128"/>
                  </a:lnTo>
                  <a:lnTo>
                    <a:pt x="272" y="1200"/>
                  </a:lnTo>
                  <a:lnTo>
                    <a:pt x="417" y="1389"/>
                  </a:lnTo>
                  <a:lnTo>
                    <a:pt x="406" y="1455"/>
                  </a:lnTo>
                  <a:lnTo>
                    <a:pt x="445" y="1890"/>
                  </a:lnTo>
                  <a:lnTo>
                    <a:pt x="470" y="1943"/>
                  </a:lnTo>
                  <a:lnTo>
                    <a:pt x="520" y="1948"/>
                  </a:lnTo>
                  <a:lnTo>
                    <a:pt x="583" y="1896"/>
                  </a:lnTo>
                  <a:lnTo>
                    <a:pt x="579" y="1824"/>
                  </a:lnTo>
                  <a:lnTo>
                    <a:pt x="643" y="1746"/>
                  </a:lnTo>
                  <a:lnTo>
                    <a:pt x="782" y="1742"/>
                  </a:lnTo>
                  <a:lnTo>
                    <a:pt x="876" y="1709"/>
                  </a:lnTo>
                  <a:lnTo>
                    <a:pt x="913" y="1695"/>
                  </a:lnTo>
                  <a:lnTo>
                    <a:pt x="941" y="1689"/>
                  </a:lnTo>
                  <a:lnTo>
                    <a:pt x="1025" y="1581"/>
                  </a:lnTo>
                  <a:lnTo>
                    <a:pt x="1121" y="1433"/>
                  </a:lnTo>
                  <a:lnTo>
                    <a:pt x="1133" y="1336"/>
                  </a:lnTo>
                  <a:lnTo>
                    <a:pt x="1065" y="1242"/>
                  </a:lnTo>
                  <a:lnTo>
                    <a:pt x="1054" y="1124"/>
                  </a:lnTo>
                  <a:lnTo>
                    <a:pt x="768" y="1041"/>
                  </a:lnTo>
                  <a:lnTo>
                    <a:pt x="694" y="1035"/>
                  </a:lnTo>
                  <a:lnTo>
                    <a:pt x="517" y="890"/>
                  </a:lnTo>
                  <a:lnTo>
                    <a:pt x="502" y="805"/>
                  </a:lnTo>
                  <a:lnTo>
                    <a:pt x="545" y="740"/>
                  </a:lnTo>
                  <a:lnTo>
                    <a:pt x="561" y="660"/>
                  </a:lnTo>
                  <a:lnTo>
                    <a:pt x="504" y="587"/>
                  </a:lnTo>
                  <a:lnTo>
                    <a:pt x="506" y="529"/>
                  </a:lnTo>
                  <a:lnTo>
                    <a:pt x="506" y="453"/>
                  </a:lnTo>
                  <a:lnTo>
                    <a:pt x="453" y="393"/>
                  </a:lnTo>
                  <a:lnTo>
                    <a:pt x="276" y="306"/>
                  </a:lnTo>
                  <a:lnTo>
                    <a:pt x="268" y="142"/>
                  </a:lnTo>
                  <a:lnTo>
                    <a:pt x="162" y="147"/>
                  </a:lnTo>
                  <a:lnTo>
                    <a:pt x="119" y="126"/>
                  </a:lnTo>
                  <a:lnTo>
                    <a:pt x="111" y="7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5520" y="2147400"/>
              <a:ext cx="1405080" cy="2599560"/>
            </a:xfrm>
            <a:custGeom>
              <a:avLst/>
              <a:gdLst/>
              <a:ahLst/>
              <a:rect l="l" t="t" r="r" b="b"/>
              <a:pathLst>
                <a:path w="1133" h="1948">
                  <a:moveTo>
                    <a:pt x="24" y="0"/>
                  </a:moveTo>
                  <a:lnTo>
                    <a:pt x="0" y="50"/>
                  </a:lnTo>
                  <a:lnTo>
                    <a:pt x="190" y="490"/>
                  </a:lnTo>
                  <a:lnTo>
                    <a:pt x="268" y="609"/>
                  </a:lnTo>
                  <a:lnTo>
                    <a:pt x="270" y="748"/>
                  </a:lnTo>
                  <a:lnTo>
                    <a:pt x="234" y="818"/>
                  </a:lnTo>
                  <a:lnTo>
                    <a:pt x="173" y="888"/>
                  </a:lnTo>
                  <a:lnTo>
                    <a:pt x="226" y="949"/>
                  </a:lnTo>
                  <a:lnTo>
                    <a:pt x="242" y="1050"/>
                  </a:lnTo>
                  <a:lnTo>
                    <a:pt x="270" y="1128"/>
                  </a:lnTo>
                  <a:lnTo>
                    <a:pt x="272" y="1200"/>
                  </a:lnTo>
                  <a:lnTo>
                    <a:pt x="417" y="1389"/>
                  </a:lnTo>
                  <a:lnTo>
                    <a:pt x="406" y="1455"/>
                  </a:lnTo>
                  <a:lnTo>
                    <a:pt x="445" y="1890"/>
                  </a:lnTo>
                  <a:lnTo>
                    <a:pt x="470" y="1943"/>
                  </a:lnTo>
                  <a:lnTo>
                    <a:pt x="520" y="1948"/>
                  </a:lnTo>
                  <a:lnTo>
                    <a:pt x="583" y="1896"/>
                  </a:lnTo>
                  <a:lnTo>
                    <a:pt x="579" y="1824"/>
                  </a:lnTo>
                  <a:lnTo>
                    <a:pt x="643" y="1746"/>
                  </a:lnTo>
                  <a:lnTo>
                    <a:pt x="782" y="1742"/>
                  </a:lnTo>
                  <a:lnTo>
                    <a:pt x="876" y="1709"/>
                  </a:lnTo>
                  <a:lnTo>
                    <a:pt x="913" y="1695"/>
                  </a:lnTo>
                  <a:lnTo>
                    <a:pt x="941" y="1689"/>
                  </a:lnTo>
                  <a:lnTo>
                    <a:pt x="1025" y="1581"/>
                  </a:lnTo>
                  <a:lnTo>
                    <a:pt x="1121" y="1433"/>
                  </a:lnTo>
                  <a:lnTo>
                    <a:pt x="1133" y="1336"/>
                  </a:lnTo>
                  <a:lnTo>
                    <a:pt x="1065" y="1242"/>
                  </a:lnTo>
                  <a:lnTo>
                    <a:pt x="1054" y="1124"/>
                  </a:lnTo>
                  <a:lnTo>
                    <a:pt x="768" y="1041"/>
                  </a:lnTo>
                  <a:lnTo>
                    <a:pt x="694" y="1035"/>
                  </a:lnTo>
                  <a:lnTo>
                    <a:pt x="517" y="890"/>
                  </a:lnTo>
                  <a:lnTo>
                    <a:pt x="502" y="805"/>
                  </a:lnTo>
                  <a:lnTo>
                    <a:pt x="545" y="740"/>
                  </a:lnTo>
                  <a:lnTo>
                    <a:pt x="561" y="660"/>
                  </a:lnTo>
                  <a:lnTo>
                    <a:pt x="504" y="587"/>
                  </a:lnTo>
                  <a:lnTo>
                    <a:pt x="506" y="529"/>
                  </a:lnTo>
                  <a:lnTo>
                    <a:pt x="506" y="453"/>
                  </a:lnTo>
                  <a:lnTo>
                    <a:pt x="453" y="393"/>
                  </a:lnTo>
                  <a:lnTo>
                    <a:pt x="276" y="306"/>
                  </a:lnTo>
                  <a:lnTo>
                    <a:pt x="268" y="142"/>
                  </a:lnTo>
                  <a:lnTo>
                    <a:pt x="162" y="147"/>
                  </a:lnTo>
                  <a:lnTo>
                    <a:pt x="119" y="126"/>
                  </a:lnTo>
                  <a:lnTo>
                    <a:pt x="111" y="77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31040" y="1724400"/>
              <a:ext cx="912600" cy="1259640"/>
            </a:xfrm>
            <a:custGeom>
              <a:avLst/>
              <a:gdLst/>
              <a:ahLst/>
              <a:rect l="l" t="t" r="r" b="b"/>
              <a:pathLst>
                <a:path w="736" h="944">
                  <a:moveTo>
                    <a:pt x="23" y="562"/>
                  </a:moveTo>
                  <a:lnTo>
                    <a:pt x="3" y="690"/>
                  </a:lnTo>
                  <a:lnTo>
                    <a:pt x="0" y="827"/>
                  </a:lnTo>
                  <a:lnTo>
                    <a:pt x="114" y="902"/>
                  </a:lnTo>
                  <a:lnTo>
                    <a:pt x="201" y="944"/>
                  </a:lnTo>
                  <a:lnTo>
                    <a:pt x="240" y="943"/>
                  </a:lnTo>
                  <a:lnTo>
                    <a:pt x="258" y="871"/>
                  </a:lnTo>
                  <a:lnTo>
                    <a:pt x="232" y="713"/>
                  </a:lnTo>
                  <a:lnTo>
                    <a:pt x="301" y="643"/>
                  </a:lnTo>
                  <a:lnTo>
                    <a:pt x="352" y="579"/>
                  </a:lnTo>
                  <a:lnTo>
                    <a:pt x="458" y="573"/>
                  </a:lnTo>
                  <a:lnTo>
                    <a:pt x="587" y="551"/>
                  </a:lnTo>
                  <a:lnTo>
                    <a:pt x="697" y="443"/>
                  </a:lnTo>
                  <a:lnTo>
                    <a:pt x="736" y="372"/>
                  </a:lnTo>
                  <a:lnTo>
                    <a:pt x="674" y="322"/>
                  </a:lnTo>
                  <a:lnTo>
                    <a:pt x="630" y="272"/>
                  </a:lnTo>
                  <a:lnTo>
                    <a:pt x="504" y="230"/>
                  </a:lnTo>
                  <a:lnTo>
                    <a:pt x="424" y="197"/>
                  </a:lnTo>
                  <a:lnTo>
                    <a:pt x="311" y="116"/>
                  </a:lnTo>
                  <a:lnTo>
                    <a:pt x="216" y="64"/>
                  </a:lnTo>
                  <a:lnTo>
                    <a:pt x="163" y="38"/>
                  </a:lnTo>
                  <a:lnTo>
                    <a:pt x="121" y="0"/>
                  </a:lnTo>
                  <a:lnTo>
                    <a:pt x="32" y="2"/>
                  </a:lnTo>
                  <a:lnTo>
                    <a:pt x="46" y="120"/>
                  </a:lnTo>
                  <a:lnTo>
                    <a:pt x="68" y="169"/>
                  </a:lnTo>
                  <a:lnTo>
                    <a:pt x="64" y="241"/>
                  </a:lnTo>
                  <a:lnTo>
                    <a:pt x="62" y="287"/>
                  </a:lnTo>
                  <a:lnTo>
                    <a:pt x="0" y="365"/>
                  </a:lnTo>
                  <a:lnTo>
                    <a:pt x="1" y="501"/>
                  </a:lnTo>
                  <a:lnTo>
                    <a:pt x="28" y="550"/>
                  </a:lnTo>
                  <a:lnTo>
                    <a:pt x="23" y="562"/>
                  </a:lnTo>
                  <a:close/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31040" y="1724400"/>
              <a:ext cx="912600" cy="1259640"/>
            </a:xfrm>
            <a:custGeom>
              <a:avLst/>
              <a:gdLst/>
              <a:ahLst/>
              <a:rect l="l" t="t" r="r" b="b"/>
              <a:pathLst>
                <a:path w="736" h="944">
                  <a:moveTo>
                    <a:pt x="23" y="562"/>
                  </a:moveTo>
                  <a:lnTo>
                    <a:pt x="3" y="690"/>
                  </a:lnTo>
                  <a:lnTo>
                    <a:pt x="0" y="827"/>
                  </a:lnTo>
                  <a:lnTo>
                    <a:pt x="114" y="902"/>
                  </a:lnTo>
                  <a:lnTo>
                    <a:pt x="201" y="944"/>
                  </a:lnTo>
                  <a:lnTo>
                    <a:pt x="240" y="943"/>
                  </a:lnTo>
                  <a:lnTo>
                    <a:pt x="258" y="871"/>
                  </a:lnTo>
                  <a:lnTo>
                    <a:pt x="232" y="713"/>
                  </a:lnTo>
                  <a:lnTo>
                    <a:pt x="301" y="643"/>
                  </a:lnTo>
                  <a:lnTo>
                    <a:pt x="352" y="579"/>
                  </a:lnTo>
                  <a:lnTo>
                    <a:pt x="458" y="573"/>
                  </a:lnTo>
                  <a:lnTo>
                    <a:pt x="587" y="551"/>
                  </a:lnTo>
                  <a:lnTo>
                    <a:pt x="697" y="443"/>
                  </a:lnTo>
                  <a:lnTo>
                    <a:pt x="736" y="372"/>
                  </a:lnTo>
                  <a:lnTo>
                    <a:pt x="674" y="322"/>
                  </a:lnTo>
                  <a:lnTo>
                    <a:pt x="630" y="272"/>
                  </a:lnTo>
                  <a:lnTo>
                    <a:pt x="504" y="230"/>
                  </a:lnTo>
                  <a:lnTo>
                    <a:pt x="424" y="197"/>
                  </a:lnTo>
                  <a:lnTo>
                    <a:pt x="311" y="116"/>
                  </a:lnTo>
                  <a:lnTo>
                    <a:pt x="216" y="64"/>
                  </a:lnTo>
                  <a:lnTo>
                    <a:pt x="163" y="38"/>
                  </a:lnTo>
                  <a:lnTo>
                    <a:pt x="121" y="0"/>
                  </a:lnTo>
                  <a:lnTo>
                    <a:pt x="32" y="2"/>
                  </a:lnTo>
                  <a:lnTo>
                    <a:pt x="46" y="120"/>
                  </a:lnTo>
                  <a:lnTo>
                    <a:pt x="68" y="169"/>
                  </a:lnTo>
                  <a:lnTo>
                    <a:pt x="64" y="241"/>
                  </a:lnTo>
                  <a:lnTo>
                    <a:pt x="62" y="287"/>
                  </a:lnTo>
                  <a:lnTo>
                    <a:pt x="0" y="365"/>
                  </a:lnTo>
                  <a:lnTo>
                    <a:pt x="1" y="501"/>
                  </a:lnTo>
                  <a:lnTo>
                    <a:pt x="28" y="550"/>
                  </a:lnTo>
                  <a:lnTo>
                    <a:pt x="23" y="562"/>
                  </a:lnTo>
                  <a:close/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35040" y="1676520"/>
              <a:ext cx="1226160" cy="1077120"/>
            </a:xfrm>
            <a:custGeom>
              <a:avLst/>
              <a:gdLst/>
              <a:ahLst/>
              <a:rect l="l" t="t" r="r" b="b"/>
              <a:pathLst>
                <a:path w="989" h="807">
                  <a:moveTo>
                    <a:pt x="56" y="289"/>
                  </a:moveTo>
                  <a:lnTo>
                    <a:pt x="0" y="353"/>
                  </a:lnTo>
                  <a:lnTo>
                    <a:pt x="87" y="430"/>
                  </a:lnTo>
                  <a:lnTo>
                    <a:pt x="95" y="481"/>
                  </a:lnTo>
                  <a:lnTo>
                    <a:pt x="140" y="500"/>
                  </a:lnTo>
                  <a:lnTo>
                    <a:pt x="244" y="495"/>
                  </a:lnTo>
                  <a:lnTo>
                    <a:pt x="252" y="659"/>
                  </a:lnTo>
                  <a:lnTo>
                    <a:pt x="433" y="749"/>
                  </a:lnTo>
                  <a:lnTo>
                    <a:pt x="483" y="807"/>
                  </a:lnTo>
                  <a:lnTo>
                    <a:pt x="552" y="804"/>
                  </a:lnTo>
                  <a:lnTo>
                    <a:pt x="714" y="667"/>
                  </a:lnTo>
                  <a:lnTo>
                    <a:pt x="766" y="579"/>
                  </a:lnTo>
                  <a:lnTo>
                    <a:pt x="771" y="500"/>
                  </a:lnTo>
                  <a:lnTo>
                    <a:pt x="698" y="440"/>
                  </a:lnTo>
                  <a:lnTo>
                    <a:pt x="840" y="415"/>
                  </a:lnTo>
                  <a:lnTo>
                    <a:pt x="979" y="259"/>
                  </a:lnTo>
                  <a:lnTo>
                    <a:pt x="983" y="127"/>
                  </a:lnTo>
                  <a:lnTo>
                    <a:pt x="989" y="22"/>
                  </a:lnTo>
                  <a:lnTo>
                    <a:pt x="783" y="19"/>
                  </a:lnTo>
                  <a:lnTo>
                    <a:pt x="721" y="0"/>
                  </a:lnTo>
                  <a:lnTo>
                    <a:pt x="675" y="33"/>
                  </a:lnTo>
                  <a:lnTo>
                    <a:pt x="604" y="35"/>
                  </a:lnTo>
                  <a:lnTo>
                    <a:pt x="567" y="53"/>
                  </a:lnTo>
                  <a:lnTo>
                    <a:pt x="495" y="53"/>
                  </a:lnTo>
                  <a:lnTo>
                    <a:pt x="454" y="85"/>
                  </a:lnTo>
                  <a:lnTo>
                    <a:pt x="421" y="61"/>
                  </a:lnTo>
                  <a:lnTo>
                    <a:pt x="290" y="64"/>
                  </a:lnTo>
                  <a:lnTo>
                    <a:pt x="262" y="63"/>
                  </a:lnTo>
                  <a:lnTo>
                    <a:pt x="254" y="110"/>
                  </a:lnTo>
                  <a:lnTo>
                    <a:pt x="159" y="61"/>
                  </a:lnTo>
                  <a:lnTo>
                    <a:pt x="125" y="71"/>
                  </a:lnTo>
                  <a:lnTo>
                    <a:pt x="151" y="163"/>
                  </a:lnTo>
                  <a:lnTo>
                    <a:pt x="56" y="289"/>
                  </a:lnTo>
                  <a:close/>
                </a:path>
              </a:pathLst>
            </a:custGeom>
            <a:solidFill>
              <a:srgbClr val="0093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35040" y="1676520"/>
              <a:ext cx="1226160" cy="1077120"/>
            </a:xfrm>
            <a:custGeom>
              <a:avLst/>
              <a:gdLst/>
              <a:ahLst/>
              <a:rect l="l" t="t" r="r" b="b"/>
              <a:pathLst>
                <a:path w="989" h="807">
                  <a:moveTo>
                    <a:pt x="56" y="289"/>
                  </a:moveTo>
                  <a:lnTo>
                    <a:pt x="0" y="353"/>
                  </a:lnTo>
                  <a:lnTo>
                    <a:pt x="87" y="430"/>
                  </a:lnTo>
                  <a:lnTo>
                    <a:pt x="95" y="481"/>
                  </a:lnTo>
                  <a:lnTo>
                    <a:pt x="140" y="500"/>
                  </a:lnTo>
                  <a:lnTo>
                    <a:pt x="244" y="495"/>
                  </a:lnTo>
                  <a:lnTo>
                    <a:pt x="252" y="659"/>
                  </a:lnTo>
                  <a:lnTo>
                    <a:pt x="433" y="749"/>
                  </a:lnTo>
                  <a:lnTo>
                    <a:pt x="483" y="807"/>
                  </a:lnTo>
                  <a:lnTo>
                    <a:pt x="552" y="804"/>
                  </a:lnTo>
                  <a:lnTo>
                    <a:pt x="714" y="667"/>
                  </a:lnTo>
                  <a:lnTo>
                    <a:pt x="766" y="579"/>
                  </a:lnTo>
                  <a:lnTo>
                    <a:pt x="771" y="500"/>
                  </a:lnTo>
                  <a:lnTo>
                    <a:pt x="698" y="440"/>
                  </a:lnTo>
                  <a:lnTo>
                    <a:pt x="840" y="415"/>
                  </a:lnTo>
                  <a:lnTo>
                    <a:pt x="979" y="259"/>
                  </a:lnTo>
                  <a:lnTo>
                    <a:pt x="983" y="127"/>
                  </a:lnTo>
                  <a:lnTo>
                    <a:pt x="989" y="22"/>
                  </a:lnTo>
                  <a:lnTo>
                    <a:pt x="783" y="19"/>
                  </a:lnTo>
                  <a:lnTo>
                    <a:pt x="721" y="0"/>
                  </a:lnTo>
                  <a:lnTo>
                    <a:pt x="675" y="33"/>
                  </a:lnTo>
                  <a:lnTo>
                    <a:pt x="604" y="35"/>
                  </a:lnTo>
                  <a:lnTo>
                    <a:pt x="567" y="53"/>
                  </a:lnTo>
                  <a:lnTo>
                    <a:pt x="495" y="53"/>
                  </a:lnTo>
                  <a:lnTo>
                    <a:pt x="454" y="85"/>
                  </a:lnTo>
                  <a:lnTo>
                    <a:pt x="421" y="61"/>
                  </a:lnTo>
                  <a:lnTo>
                    <a:pt x="290" y="64"/>
                  </a:lnTo>
                  <a:lnTo>
                    <a:pt x="262" y="63"/>
                  </a:lnTo>
                  <a:lnTo>
                    <a:pt x="254" y="110"/>
                  </a:lnTo>
                  <a:lnTo>
                    <a:pt x="159" y="61"/>
                  </a:lnTo>
                  <a:lnTo>
                    <a:pt x="125" y="71"/>
                  </a:lnTo>
                  <a:lnTo>
                    <a:pt x="151" y="163"/>
                  </a:lnTo>
                  <a:lnTo>
                    <a:pt x="56" y="289"/>
                  </a:lnTo>
                  <a:close/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47360" y="2270160"/>
              <a:ext cx="1564560" cy="1401480"/>
            </a:xfrm>
            <a:custGeom>
              <a:avLst/>
              <a:gdLst/>
              <a:ahLst/>
              <a:rect l="l" t="t" r="r" b="b"/>
              <a:pathLst>
                <a:path w="1262" h="1050">
                  <a:moveTo>
                    <a:pt x="339" y="0"/>
                  </a:moveTo>
                  <a:lnTo>
                    <a:pt x="341" y="70"/>
                  </a:lnTo>
                  <a:lnTo>
                    <a:pt x="259" y="147"/>
                  </a:lnTo>
                  <a:lnTo>
                    <a:pt x="248" y="280"/>
                  </a:lnTo>
                  <a:lnTo>
                    <a:pt x="280" y="358"/>
                  </a:lnTo>
                  <a:lnTo>
                    <a:pt x="287" y="379"/>
                  </a:lnTo>
                  <a:lnTo>
                    <a:pt x="374" y="465"/>
                  </a:lnTo>
                  <a:lnTo>
                    <a:pt x="375" y="560"/>
                  </a:lnTo>
                  <a:lnTo>
                    <a:pt x="370" y="574"/>
                  </a:lnTo>
                  <a:lnTo>
                    <a:pt x="270" y="692"/>
                  </a:lnTo>
                  <a:lnTo>
                    <a:pt x="177" y="776"/>
                  </a:lnTo>
                  <a:lnTo>
                    <a:pt x="5" y="824"/>
                  </a:lnTo>
                  <a:lnTo>
                    <a:pt x="0" y="865"/>
                  </a:lnTo>
                  <a:lnTo>
                    <a:pt x="64" y="935"/>
                  </a:lnTo>
                  <a:lnTo>
                    <a:pt x="90" y="966"/>
                  </a:lnTo>
                  <a:lnTo>
                    <a:pt x="105" y="1018"/>
                  </a:lnTo>
                  <a:lnTo>
                    <a:pt x="162" y="1050"/>
                  </a:lnTo>
                  <a:lnTo>
                    <a:pt x="401" y="980"/>
                  </a:lnTo>
                  <a:lnTo>
                    <a:pt x="487" y="1011"/>
                  </a:lnTo>
                  <a:lnTo>
                    <a:pt x="526" y="1036"/>
                  </a:lnTo>
                  <a:lnTo>
                    <a:pt x="649" y="1036"/>
                  </a:lnTo>
                  <a:lnTo>
                    <a:pt x="693" y="979"/>
                  </a:lnTo>
                  <a:lnTo>
                    <a:pt x="716" y="951"/>
                  </a:lnTo>
                  <a:lnTo>
                    <a:pt x="780" y="949"/>
                  </a:lnTo>
                  <a:lnTo>
                    <a:pt x="853" y="883"/>
                  </a:lnTo>
                  <a:lnTo>
                    <a:pt x="1107" y="880"/>
                  </a:lnTo>
                  <a:lnTo>
                    <a:pt x="1213" y="799"/>
                  </a:lnTo>
                  <a:lnTo>
                    <a:pt x="1238" y="782"/>
                  </a:lnTo>
                  <a:lnTo>
                    <a:pt x="1262" y="727"/>
                  </a:lnTo>
                  <a:lnTo>
                    <a:pt x="1261" y="710"/>
                  </a:lnTo>
                  <a:lnTo>
                    <a:pt x="1184" y="642"/>
                  </a:lnTo>
                  <a:lnTo>
                    <a:pt x="1009" y="489"/>
                  </a:lnTo>
                  <a:lnTo>
                    <a:pt x="938" y="495"/>
                  </a:lnTo>
                  <a:lnTo>
                    <a:pt x="938" y="426"/>
                  </a:lnTo>
                  <a:lnTo>
                    <a:pt x="740" y="216"/>
                  </a:lnTo>
                  <a:lnTo>
                    <a:pt x="608" y="184"/>
                  </a:lnTo>
                  <a:lnTo>
                    <a:pt x="442" y="89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47360" y="2270160"/>
              <a:ext cx="1564560" cy="1401480"/>
            </a:xfrm>
            <a:custGeom>
              <a:avLst/>
              <a:gdLst/>
              <a:ahLst/>
              <a:rect l="l" t="t" r="r" b="b"/>
              <a:pathLst>
                <a:path w="1262" h="1050">
                  <a:moveTo>
                    <a:pt x="339" y="0"/>
                  </a:moveTo>
                  <a:lnTo>
                    <a:pt x="341" y="70"/>
                  </a:lnTo>
                  <a:lnTo>
                    <a:pt x="259" y="147"/>
                  </a:lnTo>
                  <a:lnTo>
                    <a:pt x="248" y="280"/>
                  </a:lnTo>
                  <a:lnTo>
                    <a:pt x="280" y="358"/>
                  </a:lnTo>
                  <a:lnTo>
                    <a:pt x="287" y="379"/>
                  </a:lnTo>
                  <a:lnTo>
                    <a:pt x="374" y="465"/>
                  </a:lnTo>
                  <a:lnTo>
                    <a:pt x="375" y="560"/>
                  </a:lnTo>
                  <a:lnTo>
                    <a:pt x="370" y="574"/>
                  </a:lnTo>
                  <a:lnTo>
                    <a:pt x="270" y="692"/>
                  </a:lnTo>
                  <a:lnTo>
                    <a:pt x="177" y="776"/>
                  </a:lnTo>
                  <a:lnTo>
                    <a:pt x="5" y="824"/>
                  </a:lnTo>
                  <a:lnTo>
                    <a:pt x="0" y="865"/>
                  </a:lnTo>
                  <a:lnTo>
                    <a:pt x="64" y="935"/>
                  </a:lnTo>
                  <a:lnTo>
                    <a:pt x="90" y="966"/>
                  </a:lnTo>
                  <a:lnTo>
                    <a:pt x="105" y="1018"/>
                  </a:lnTo>
                  <a:lnTo>
                    <a:pt x="162" y="1050"/>
                  </a:lnTo>
                  <a:lnTo>
                    <a:pt x="401" y="980"/>
                  </a:lnTo>
                  <a:lnTo>
                    <a:pt x="487" y="1011"/>
                  </a:lnTo>
                  <a:lnTo>
                    <a:pt x="526" y="1036"/>
                  </a:lnTo>
                  <a:lnTo>
                    <a:pt x="649" y="1036"/>
                  </a:lnTo>
                  <a:lnTo>
                    <a:pt x="693" y="979"/>
                  </a:lnTo>
                  <a:lnTo>
                    <a:pt x="716" y="951"/>
                  </a:lnTo>
                  <a:lnTo>
                    <a:pt x="780" y="949"/>
                  </a:lnTo>
                  <a:lnTo>
                    <a:pt x="853" y="883"/>
                  </a:lnTo>
                  <a:lnTo>
                    <a:pt x="1107" y="880"/>
                  </a:lnTo>
                  <a:lnTo>
                    <a:pt x="1213" y="799"/>
                  </a:lnTo>
                  <a:lnTo>
                    <a:pt x="1238" y="782"/>
                  </a:lnTo>
                  <a:lnTo>
                    <a:pt x="1262" y="727"/>
                  </a:lnTo>
                  <a:lnTo>
                    <a:pt x="1261" y="710"/>
                  </a:lnTo>
                  <a:lnTo>
                    <a:pt x="1184" y="642"/>
                  </a:lnTo>
                  <a:lnTo>
                    <a:pt x="1009" y="489"/>
                  </a:lnTo>
                  <a:lnTo>
                    <a:pt x="938" y="495"/>
                  </a:lnTo>
                  <a:lnTo>
                    <a:pt x="938" y="426"/>
                  </a:lnTo>
                  <a:lnTo>
                    <a:pt x="740" y="216"/>
                  </a:lnTo>
                  <a:lnTo>
                    <a:pt x="608" y="184"/>
                  </a:lnTo>
                  <a:lnTo>
                    <a:pt x="442" y="89"/>
                  </a:lnTo>
                  <a:lnTo>
                    <a:pt x="339" y="0"/>
                  </a:lnTo>
                  <a:close/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02480" y="2217960"/>
              <a:ext cx="812160" cy="1170360"/>
            </a:xfrm>
            <a:custGeom>
              <a:avLst/>
              <a:gdLst/>
              <a:ahLst/>
              <a:rect l="l" t="t" r="r" b="b"/>
              <a:pathLst>
                <a:path w="655" h="877">
                  <a:moveTo>
                    <a:pt x="517" y="0"/>
                  </a:moveTo>
                  <a:lnTo>
                    <a:pt x="617" y="38"/>
                  </a:lnTo>
                  <a:lnTo>
                    <a:pt x="619" y="109"/>
                  </a:lnTo>
                  <a:lnTo>
                    <a:pt x="537" y="186"/>
                  </a:lnTo>
                  <a:lnTo>
                    <a:pt x="530" y="276"/>
                  </a:lnTo>
                  <a:lnTo>
                    <a:pt x="526" y="319"/>
                  </a:lnTo>
                  <a:lnTo>
                    <a:pt x="558" y="397"/>
                  </a:lnTo>
                  <a:lnTo>
                    <a:pt x="563" y="418"/>
                  </a:lnTo>
                  <a:lnTo>
                    <a:pt x="629" y="482"/>
                  </a:lnTo>
                  <a:lnTo>
                    <a:pt x="652" y="506"/>
                  </a:lnTo>
                  <a:lnTo>
                    <a:pt x="655" y="596"/>
                  </a:lnTo>
                  <a:lnTo>
                    <a:pt x="648" y="613"/>
                  </a:lnTo>
                  <a:lnTo>
                    <a:pt x="562" y="713"/>
                  </a:lnTo>
                  <a:lnTo>
                    <a:pt x="550" y="729"/>
                  </a:lnTo>
                  <a:lnTo>
                    <a:pt x="455" y="815"/>
                  </a:lnTo>
                  <a:lnTo>
                    <a:pt x="285" y="863"/>
                  </a:lnTo>
                  <a:lnTo>
                    <a:pt x="282" y="877"/>
                  </a:lnTo>
                  <a:lnTo>
                    <a:pt x="223" y="798"/>
                  </a:lnTo>
                  <a:lnTo>
                    <a:pt x="174" y="782"/>
                  </a:lnTo>
                  <a:lnTo>
                    <a:pt x="93" y="868"/>
                  </a:lnTo>
                  <a:lnTo>
                    <a:pt x="44" y="760"/>
                  </a:lnTo>
                  <a:lnTo>
                    <a:pt x="46" y="726"/>
                  </a:lnTo>
                  <a:lnTo>
                    <a:pt x="61" y="638"/>
                  </a:lnTo>
                  <a:lnTo>
                    <a:pt x="0" y="573"/>
                  </a:lnTo>
                  <a:lnTo>
                    <a:pt x="21" y="574"/>
                  </a:lnTo>
                  <a:lnTo>
                    <a:pt x="39" y="501"/>
                  </a:lnTo>
                  <a:lnTo>
                    <a:pt x="13" y="343"/>
                  </a:lnTo>
                  <a:lnTo>
                    <a:pt x="52" y="306"/>
                  </a:lnTo>
                  <a:lnTo>
                    <a:pt x="80" y="273"/>
                  </a:lnTo>
                  <a:lnTo>
                    <a:pt x="133" y="211"/>
                  </a:lnTo>
                  <a:lnTo>
                    <a:pt x="242" y="203"/>
                  </a:lnTo>
                  <a:lnTo>
                    <a:pt x="368" y="180"/>
                  </a:lnTo>
                  <a:lnTo>
                    <a:pt x="455" y="97"/>
                  </a:lnTo>
                  <a:lnTo>
                    <a:pt x="478" y="73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02480" y="2217960"/>
              <a:ext cx="812160" cy="1170360"/>
            </a:xfrm>
            <a:custGeom>
              <a:avLst/>
              <a:gdLst/>
              <a:ahLst/>
              <a:rect l="l" t="t" r="r" b="b"/>
              <a:pathLst>
                <a:path w="655" h="877">
                  <a:moveTo>
                    <a:pt x="517" y="0"/>
                  </a:moveTo>
                  <a:lnTo>
                    <a:pt x="617" y="38"/>
                  </a:lnTo>
                  <a:lnTo>
                    <a:pt x="619" y="109"/>
                  </a:lnTo>
                  <a:lnTo>
                    <a:pt x="537" y="186"/>
                  </a:lnTo>
                  <a:lnTo>
                    <a:pt x="530" y="276"/>
                  </a:lnTo>
                  <a:lnTo>
                    <a:pt x="526" y="319"/>
                  </a:lnTo>
                  <a:lnTo>
                    <a:pt x="558" y="397"/>
                  </a:lnTo>
                  <a:lnTo>
                    <a:pt x="563" y="418"/>
                  </a:lnTo>
                  <a:lnTo>
                    <a:pt x="629" y="482"/>
                  </a:lnTo>
                  <a:lnTo>
                    <a:pt x="652" y="506"/>
                  </a:lnTo>
                  <a:lnTo>
                    <a:pt x="655" y="596"/>
                  </a:lnTo>
                  <a:lnTo>
                    <a:pt x="648" y="613"/>
                  </a:lnTo>
                  <a:lnTo>
                    <a:pt x="562" y="713"/>
                  </a:lnTo>
                  <a:lnTo>
                    <a:pt x="550" y="729"/>
                  </a:lnTo>
                  <a:lnTo>
                    <a:pt x="455" y="815"/>
                  </a:lnTo>
                  <a:lnTo>
                    <a:pt x="285" y="863"/>
                  </a:lnTo>
                  <a:lnTo>
                    <a:pt x="282" y="877"/>
                  </a:lnTo>
                  <a:lnTo>
                    <a:pt x="223" y="798"/>
                  </a:lnTo>
                  <a:lnTo>
                    <a:pt x="174" y="782"/>
                  </a:lnTo>
                  <a:lnTo>
                    <a:pt x="93" y="868"/>
                  </a:lnTo>
                  <a:lnTo>
                    <a:pt x="44" y="760"/>
                  </a:lnTo>
                  <a:lnTo>
                    <a:pt x="46" y="726"/>
                  </a:lnTo>
                  <a:lnTo>
                    <a:pt x="61" y="638"/>
                  </a:lnTo>
                  <a:lnTo>
                    <a:pt x="0" y="573"/>
                  </a:lnTo>
                  <a:lnTo>
                    <a:pt x="21" y="574"/>
                  </a:lnTo>
                  <a:lnTo>
                    <a:pt x="39" y="501"/>
                  </a:lnTo>
                  <a:lnTo>
                    <a:pt x="13" y="343"/>
                  </a:lnTo>
                  <a:lnTo>
                    <a:pt x="52" y="306"/>
                  </a:lnTo>
                  <a:lnTo>
                    <a:pt x="80" y="273"/>
                  </a:lnTo>
                  <a:lnTo>
                    <a:pt x="133" y="211"/>
                  </a:lnTo>
                  <a:lnTo>
                    <a:pt x="242" y="203"/>
                  </a:lnTo>
                  <a:lnTo>
                    <a:pt x="368" y="180"/>
                  </a:lnTo>
                  <a:lnTo>
                    <a:pt x="455" y="97"/>
                  </a:lnTo>
                  <a:lnTo>
                    <a:pt x="478" y="73"/>
                  </a:lnTo>
                  <a:lnTo>
                    <a:pt x="517" y="0"/>
                  </a:lnTo>
                  <a:close/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27960" y="1705680"/>
              <a:ext cx="1088640" cy="1943280"/>
            </a:xfrm>
            <a:custGeom>
              <a:avLst/>
              <a:gdLst/>
              <a:ahLst/>
              <a:rect l="l" t="t" r="r" b="b"/>
              <a:pathLst>
                <a:path w="878" h="1456">
                  <a:moveTo>
                    <a:pt x="511" y="0"/>
                  </a:moveTo>
                  <a:lnTo>
                    <a:pt x="599" y="17"/>
                  </a:lnTo>
                  <a:lnTo>
                    <a:pt x="613" y="136"/>
                  </a:lnTo>
                  <a:lnTo>
                    <a:pt x="635" y="183"/>
                  </a:lnTo>
                  <a:lnTo>
                    <a:pt x="629" y="303"/>
                  </a:lnTo>
                  <a:lnTo>
                    <a:pt x="588" y="350"/>
                  </a:lnTo>
                  <a:lnTo>
                    <a:pt x="567" y="379"/>
                  </a:lnTo>
                  <a:lnTo>
                    <a:pt x="568" y="514"/>
                  </a:lnTo>
                  <a:lnTo>
                    <a:pt x="595" y="564"/>
                  </a:lnTo>
                  <a:lnTo>
                    <a:pt x="590" y="575"/>
                  </a:lnTo>
                  <a:lnTo>
                    <a:pt x="580" y="640"/>
                  </a:lnTo>
                  <a:lnTo>
                    <a:pt x="570" y="703"/>
                  </a:lnTo>
                  <a:lnTo>
                    <a:pt x="567" y="841"/>
                  </a:lnTo>
                  <a:lnTo>
                    <a:pt x="635" y="887"/>
                  </a:lnTo>
                  <a:lnTo>
                    <a:pt x="683" y="916"/>
                  </a:lnTo>
                  <a:lnTo>
                    <a:pt x="768" y="958"/>
                  </a:lnTo>
                  <a:lnTo>
                    <a:pt x="786" y="958"/>
                  </a:lnTo>
                  <a:lnTo>
                    <a:pt x="847" y="1024"/>
                  </a:lnTo>
                  <a:lnTo>
                    <a:pt x="832" y="1108"/>
                  </a:lnTo>
                  <a:lnTo>
                    <a:pt x="829" y="1144"/>
                  </a:lnTo>
                  <a:lnTo>
                    <a:pt x="878" y="1249"/>
                  </a:lnTo>
                  <a:lnTo>
                    <a:pt x="832" y="1274"/>
                  </a:lnTo>
                  <a:lnTo>
                    <a:pt x="694" y="1325"/>
                  </a:lnTo>
                  <a:lnTo>
                    <a:pt x="660" y="1347"/>
                  </a:lnTo>
                  <a:lnTo>
                    <a:pt x="619" y="1370"/>
                  </a:lnTo>
                  <a:lnTo>
                    <a:pt x="552" y="1456"/>
                  </a:lnTo>
                  <a:lnTo>
                    <a:pt x="464" y="1430"/>
                  </a:lnTo>
                  <a:lnTo>
                    <a:pt x="266" y="1372"/>
                  </a:lnTo>
                  <a:lnTo>
                    <a:pt x="194" y="1366"/>
                  </a:lnTo>
                  <a:lnTo>
                    <a:pt x="144" y="1327"/>
                  </a:lnTo>
                  <a:lnTo>
                    <a:pt x="15" y="1221"/>
                  </a:lnTo>
                  <a:lnTo>
                    <a:pt x="0" y="1136"/>
                  </a:lnTo>
                  <a:lnTo>
                    <a:pt x="5" y="1129"/>
                  </a:lnTo>
                  <a:lnTo>
                    <a:pt x="43" y="1072"/>
                  </a:lnTo>
                  <a:lnTo>
                    <a:pt x="59" y="993"/>
                  </a:lnTo>
                  <a:lnTo>
                    <a:pt x="2" y="918"/>
                  </a:lnTo>
                  <a:lnTo>
                    <a:pt x="5" y="874"/>
                  </a:lnTo>
                  <a:lnTo>
                    <a:pt x="5" y="785"/>
                  </a:lnTo>
                  <a:lnTo>
                    <a:pt x="74" y="782"/>
                  </a:lnTo>
                  <a:lnTo>
                    <a:pt x="148" y="720"/>
                  </a:lnTo>
                  <a:lnTo>
                    <a:pt x="236" y="646"/>
                  </a:lnTo>
                  <a:lnTo>
                    <a:pt x="280" y="571"/>
                  </a:lnTo>
                  <a:lnTo>
                    <a:pt x="288" y="557"/>
                  </a:lnTo>
                  <a:lnTo>
                    <a:pt x="292" y="478"/>
                  </a:lnTo>
                  <a:lnTo>
                    <a:pt x="220" y="418"/>
                  </a:lnTo>
                  <a:lnTo>
                    <a:pt x="362" y="393"/>
                  </a:lnTo>
                  <a:lnTo>
                    <a:pt x="370" y="386"/>
                  </a:lnTo>
                  <a:lnTo>
                    <a:pt x="501" y="237"/>
                  </a:lnTo>
                  <a:lnTo>
                    <a:pt x="506" y="91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b7d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7960" y="1705680"/>
              <a:ext cx="1088640" cy="1943280"/>
            </a:xfrm>
            <a:custGeom>
              <a:avLst/>
              <a:gdLst/>
              <a:ahLst/>
              <a:rect l="l" t="t" r="r" b="b"/>
              <a:pathLst>
                <a:path w="878" h="1456">
                  <a:moveTo>
                    <a:pt x="511" y="0"/>
                  </a:moveTo>
                  <a:lnTo>
                    <a:pt x="599" y="17"/>
                  </a:lnTo>
                  <a:lnTo>
                    <a:pt x="613" y="136"/>
                  </a:lnTo>
                  <a:lnTo>
                    <a:pt x="635" y="183"/>
                  </a:lnTo>
                  <a:lnTo>
                    <a:pt x="629" y="303"/>
                  </a:lnTo>
                  <a:lnTo>
                    <a:pt x="588" y="350"/>
                  </a:lnTo>
                  <a:lnTo>
                    <a:pt x="567" y="379"/>
                  </a:lnTo>
                  <a:lnTo>
                    <a:pt x="568" y="514"/>
                  </a:lnTo>
                  <a:lnTo>
                    <a:pt x="595" y="564"/>
                  </a:lnTo>
                  <a:lnTo>
                    <a:pt x="590" y="575"/>
                  </a:lnTo>
                  <a:lnTo>
                    <a:pt x="580" y="640"/>
                  </a:lnTo>
                  <a:lnTo>
                    <a:pt x="570" y="703"/>
                  </a:lnTo>
                  <a:lnTo>
                    <a:pt x="567" y="841"/>
                  </a:lnTo>
                  <a:lnTo>
                    <a:pt x="635" y="887"/>
                  </a:lnTo>
                  <a:lnTo>
                    <a:pt x="683" y="916"/>
                  </a:lnTo>
                  <a:lnTo>
                    <a:pt x="768" y="958"/>
                  </a:lnTo>
                  <a:lnTo>
                    <a:pt x="786" y="958"/>
                  </a:lnTo>
                  <a:lnTo>
                    <a:pt x="847" y="1024"/>
                  </a:lnTo>
                  <a:lnTo>
                    <a:pt x="832" y="1108"/>
                  </a:lnTo>
                  <a:lnTo>
                    <a:pt x="829" y="1144"/>
                  </a:lnTo>
                  <a:lnTo>
                    <a:pt x="878" y="1249"/>
                  </a:lnTo>
                  <a:lnTo>
                    <a:pt x="832" y="1274"/>
                  </a:lnTo>
                  <a:lnTo>
                    <a:pt x="694" y="1325"/>
                  </a:lnTo>
                  <a:lnTo>
                    <a:pt x="660" y="1347"/>
                  </a:lnTo>
                  <a:lnTo>
                    <a:pt x="619" y="1370"/>
                  </a:lnTo>
                  <a:lnTo>
                    <a:pt x="552" y="1456"/>
                  </a:lnTo>
                  <a:lnTo>
                    <a:pt x="464" y="1430"/>
                  </a:lnTo>
                  <a:lnTo>
                    <a:pt x="266" y="1372"/>
                  </a:lnTo>
                  <a:lnTo>
                    <a:pt x="194" y="1366"/>
                  </a:lnTo>
                  <a:lnTo>
                    <a:pt x="144" y="1327"/>
                  </a:lnTo>
                  <a:lnTo>
                    <a:pt x="15" y="1221"/>
                  </a:lnTo>
                  <a:lnTo>
                    <a:pt x="0" y="1136"/>
                  </a:lnTo>
                  <a:lnTo>
                    <a:pt x="5" y="1129"/>
                  </a:lnTo>
                  <a:lnTo>
                    <a:pt x="43" y="1072"/>
                  </a:lnTo>
                  <a:lnTo>
                    <a:pt x="59" y="993"/>
                  </a:lnTo>
                  <a:lnTo>
                    <a:pt x="2" y="918"/>
                  </a:lnTo>
                  <a:lnTo>
                    <a:pt x="5" y="874"/>
                  </a:lnTo>
                  <a:lnTo>
                    <a:pt x="5" y="785"/>
                  </a:lnTo>
                  <a:lnTo>
                    <a:pt x="74" y="782"/>
                  </a:lnTo>
                  <a:lnTo>
                    <a:pt x="148" y="720"/>
                  </a:lnTo>
                  <a:lnTo>
                    <a:pt x="236" y="646"/>
                  </a:lnTo>
                  <a:lnTo>
                    <a:pt x="280" y="571"/>
                  </a:lnTo>
                  <a:lnTo>
                    <a:pt x="288" y="557"/>
                  </a:lnTo>
                  <a:lnTo>
                    <a:pt x="292" y="478"/>
                  </a:lnTo>
                  <a:lnTo>
                    <a:pt x="220" y="418"/>
                  </a:lnTo>
                  <a:lnTo>
                    <a:pt x="362" y="393"/>
                  </a:lnTo>
                  <a:lnTo>
                    <a:pt x="370" y="386"/>
                  </a:lnTo>
                  <a:lnTo>
                    <a:pt x="501" y="237"/>
                  </a:lnTo>
                  <a:lnTo>
                    <a:pt x="506" y="91"/>
                  </a:lnTo>
                  <a:lnTo>
                    <a:pt x="511" y="0"/>
                  </a:lnTo>
                  <a:close/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14840" y="3261960"/>
              <a:ext cx="1874880" cy="1489320"/>
            </a:xfrm>
            <a:custGeom>
              <a:avLst/>
              <a:gdLst/>
              <a:ahLst/>
              <a:rect l="l" t="t" r="r" b="b"/>
              <a:pathLst>
                <a:path w="1512" h="1116">
                  <a:moveTo>
                    <a:pt x="1512" y="474"/>
                  </a:moveTo>
                  <a:lnTo>
                    <a:pt x="1442" y="389"/>
                  </a:lnTo>
                  <a:lnTo>
                    <a:pt x="1393" y="395"/>
                  </a:lnTo>
                  <a:lnTo>
                    <a:pt x="1301" y="351"/>
                  </a:lnTo>
                  <a:lnTo>
                    <a:pt x="1172" y="317"/>
                  </a:lnTo>
                  <a:lnTo>
                    <a:pt x="1159" y="293"/>
                  </a:lnTo>
                  <a:lnTo>
                    <a:pt x="1036" y="293"/>
                  </a:lnTo>
                  <a:lnTo>
                    <a:pt x="995" y="268"/>
                  </a:lnTo>
                  <a:lnTo>
                    <a:pt x="911" y="237"/>
                  </a:lnTo>
                  <a:lnTo>
                    <a:pt x="672" y="307"/>
                  </a:lnTo>
                  <a:lnTo>
                    <a:pt x="659" y="301"/>
                  </a:lnTo>
                  <a:lnTo>
                    <a:pt x="617" y="276"/>
                  </a:lnTo>
                  <a:lnTo>
                    <a:pt x="600" y="223"/>
                  </a:lnTo>
                  <a:lnTo>
                    <a:pt x="510" y="122"/>
                  </a:lnTo>
                  <a:lnTo>
                    <a:pt x="514" y="97"/>
                  </a:lnTo>
                  <a:lnTo>
                    <a:pt x="492" y="66"/>
                  </a:lnTo>
                  <a:lnTo>
                    <a:pt x="453" y="14"/>
                  </a:lnTo>
                  <a:lnTo>
                    <a:pt x="406" y="0"/>
                  </a:lnTo>
                  <a:lnTo>
                    <a:pt x="327" y="86"/>
                  </a:lnTo>
                  <a:lnTo>
                    <a:pt x="324" y="83"/>
                  </a:lnTo>
                  <a:lnTo>
                    <a:pt x="273" y="111"/>
                  </a:lnTo>
                  <a:lnTo>
                    <a:pt x="214" y="133"/>
                  </a:lnTo>
                  <a:lnTo>
                    <a:pt x="139" y="159"/>
                  </a:lnTo>
                  <a:lnTo>
                    <a:pt x="65" y="204"/>
                  </a:lnTo>
                  <a:lnTo>
                    <a:pt x="39" y="240"/>
                  </a:lnTo>
                  <a:lnTo>
                    <a:pt x="0" y="290"/>
                  </a:lnTo>
                  <a:lnTo>
                    <a:pt x="9" y="407"/>
                  </a:lnTo>
                  <a:lnTo>
                    <a:pt x="62" y="479"/>
                  </a:lnTo>
                  <a:lnTo>
                    <a:pt x="77" y="501"/>
                  </a:lnTo>
                  <a:lnTo>
                    <a:pt x="65" y="598"/>
                  </a:lnTo>
                  <a:lnTo>
                    <a:pt x="62" y="604"/>
                  </a:lnTo>
                  <a:lnTo>
                    <a:pt x="75" y="684"/>
                  </a:lnTo>
                  <a:lnTo>
                    <a:pt x="77" y="712"/>
                  </a:lnTo>
                  <a:lnTo>
                    <a:pt x="47" y="762"/>
                  </a:lnTo>
                  <a:lnTo>
                    <a:pt x="44" y="832"/>
                  </a:lnTo>
                  <a:lnTo>
                    <a:pt x="88" y="879"/>
                  </a:lnTo>
                  <a:lnTo>
                    <a:pt x="167" y="966"/>
                  </a:lnTo>
                  <a:lnTo>
                    <a:pt x="167" y="1035"/>
                  </a:lnTo>
                  <a:lnTo>
                    <a:pt x="144" y="1077"/>
                  </a:lnTo>
                  <a:lnTo>
                    <a:pt x="126" y="1116"/>
                  </a:lnTo>
                  <a:lnTo>
                    <a:pt x="194" y="1096"/>
                  </a:lnTo>
                  <a:lnTo>
                    <a:pt x="247" y="1097"/>
                  </a:lnTo>
                  <a:lnTo>
                    <a:pt x="307" y="1032"/>
                  </a:lnTo>
                  <a:lnTo>
                    <a:pt x="378" y="1072"/>
                  </a:lnTo>
                  <a:lnTo>
                    <a:pt x="469" y="1063"/>
                  </a:lnTo>
                  <a:lnTo>
                    <a:pt x="523" y="1019"/>
                  </a:lnTo>
                  <a:lnTo>
                    <a:pt x="618" y="905"/>
                  </a:lnTo>
                  <a:lnTo>
                    <a:pt x="640" y="879"/>
                  </a:lnTo>
                  <a:lnTo>
                    <a:pt x="700" y="813"/>
                  </a:lnTo>
                  <a:lnTo>
                    <a:pt x="772" y="808"/>
                  </a:lnTo>
                  <a:lnTo>
                    <a:pt x="807" y="740"/>
                  </a:lnTo>
                  <a:lnTo>
                    <a:pt x="877" y="709"/>
                  </a:lnTo>
                  <a:lnTo>
                    <a:pt x="905" y="696"/>
                  </a:lnTo>
                  <a:lnTo>
                    <a:pt x="1082" y="693"/>
                  </a:lnTo>
                  <a:lnTo>
                    <a:pt x="1103" y="680"/>
                  </a:lnTo>
                  <a:lnTo>
                    <a:pt x="1159" y="704"/>
                  </a:lnTo>
                  <a:lnTo>
                    <a:pt x="1239" y="674"/>
                  </a:lnTo>
                  <a:lnTo>
                    <a:pt x="1368" y="577"/>
                  </a:lnTo>
                  <a:lnTo>
                    <a:pt x="1460" y="509"/>
                  </a:lnTo>
                  <a:lnTo>
                    <a:pt x="1512" y="474"/>
                  </a:lnTo>
                  <a:close/>
                </a:path>
              </a:pathLst>
            </a:custGeom>
            <a:solidFill>
              <a:srgbClr val="fff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14840" y="3261960"/>
              <a:ext cx="1874880" cy="1489320"/>
            </a:xfrm>
            <a:custGeom>
              <a:avLst/>
              <a:gdLst/>
              <a:ahLst/>
              <a:rect l="l" t="t" r="r" b="b"/>
              <a:pathLst>
                <a:path w="1512" h="1116">
                  <a:moveTo>
                    <a:pt x="1512" y="474"/>
                  </a:moveTo>
                  <a:lnTo>
                    <a:pt x="1442" y="389"/>
                  </a:lnTo>
                  <a:lnTo>
                    <a:pt x="1393" y="395"/>
                  </a:lnTo>
                  <a:lnTo>
                    <a:pt x="1301" y="351"/>
                  </a:lnTo>
                  <a:lnTo>
                    <a:pt x="1172" y="317"/>
                  </a:lnTo>
                  <a:lnTo>
                    <a:pt x="1159" y="293"/>
                  </a:lnTo>
                  <a:lnTo>
                    <a:pt x="1036" y="293"/>
                  </a:lnTo>
                  <a:lnTo>
                    <a:pt x="995" y="268"/>
                  </a:lnTo>
                  <a:lnTo>
                    <a:pt x="911" y="237"/>
                  </a:lnTo>
                  <a:lnTo>
                    <a:pt x="672" y="307"/>
                  </a:lnTo>
                  <a:lnTo>
                    <a:pt x="659" y="301"/>
                  </a:lnTo>
                  <a:lnTo>
                    <a:pt x="617" y="276"/>
                  </a:lnTo>
                  <a:lnTo>
                    <a:pt x="600" y="223"/>
                  </a:lnTo>
                  <a:lnTo>
                    <a:pt x="510" y="122"/>
                  </a:lnTo>
                  <a:lnTo>
                    <a:pt x="514" y="97"/>
                  </a:lnTo>
                  <a:lnTo>
                    <a:pt x="492" y="66"/>
                  </a:lnTo>
                  <a:lnTo>
                    <a:pt x="453" y="14"/>
                  </a:lnTo>
                  <a:lnTo>
                    <a:pt x="406" y="0"/>
                  </a:lnTo>
                  <a:lnTo>
                    <a:pt x="327" y="86"/>
                  </a:lnTo>
                  <a:lnTo>
                    <a:pt x="324" y="83"/>
                  </a:lnTo>
                  <a:lnTo>
                    <a:pt x="273" y="111"/>
                  </a:lnTo>
                  <a:lnTo>
                    <a:pt x="214" y="133"/>
                  </a:lnTo>
                  <a:lnTo>
                    <a:pt x="139" y="159"/>
                  </a:lnTo>
                  <a:lnTo>
                    <a:pt x="65" y="204"/>
                  </a:lnTo>
                  <a:lnTo>
                    <a:pt x="39" y="240"/>
                  </a:lnTo>
                  <a:lnTo>
                    <a:pt x="0" y="290"/>
                  </a:lnTo>
                  <a:lnTo>
                    <a:pt x="9" y="407"/>
                  </a:lnTo>
                  <a:lnTo>
                    <a:pt x="62" y="479"/>
                  </a:lnTo>
                  <a:lnTo>
                    <a:pt x="77" y="501"/>
                  </a:lnTo>
                  <a:lnTo>
                    <a:pt x="65" y="598"/>
                  </a:lnTo>
                  <a:lnTo>
                    <a:pt x="62" y="604"/>
                  </a:lnTo>
                  <a:lnTo>
                    <a:pt x="75" y="684"/>
                  </a:lnTo>
                  <a:lnTo>
                    <a:pt x="77" y="712"/>
                  </a:lnTo>
                  <a:lnTo>
                    <a:pt x="47" y="762"/>
                  </a:lnTo>
                  <a:lnTo>
                    <a:pt x="44" y="832"/>
                  </a:lnTo>
                  <a:lnTo>
                    <a:pt x="88" y="879"/>
                  </a:lnTo>
                  <a:lnTo>
                    <a:pt x="167" y="966"/>
                  </a:lnTo>
                  <a:lnTo>
                    <a:pt x="167" y="1035"/>
                  </a:lnTo>
                  <a:lnTo>
                    <a:pt x="144" y="1077"/>
                  </a:lnTo>
                  <a:lnTo>
                    <a:pt x="126" y="1116"/>
                  </a:lnTo>
                  <a:lnTo>
                    <a:pt x="194" y="1096"/>
                  </a:lnTo>
                  <a:lnTo>
                    <a:pt x="247" y="1097"/>
                  </a:lnTo>
                  <a:lnTo>
                    <a:pt x="307" y="1032"/>
                  </a:lnTo>
                  <a:lnTo>
                    <a:pt x="378" y="1072"/>
                  </a:lnTo>
                  <a:lnTo>
                    <a:pt x="469" y="1063"/>
                  </a:lnTo>
                  <a:lnTo>
                    <a:pt x="523" y="1019"/>
                  </a:lnTo>
                  <a:lnTo>
                    <a:pt x="618" y="905"/>
                  </a:lnTo>
                  <a:lnTo>
                    <a:pt x="640" y="879"/>
                  </a:lnTo>
                  <a:lnTo>
                    <a:pt x="700" y="813"/>
                  </a:lnTo>
                  <a:lnTo>
                    <a:pt x="772" y="808"/>
                  </a:lnTo>
                  <a:lnTo>
                    <a:pt x="807" y="740"/>
                  </a:lnTo>
                  <a:lnTo>
                    <a:pt x="877" y="709"/>
                  </a:lnTo>
                  <a:lnTo>
                    <a:pt x="905" y="696"/>
                  </a:lnTo>
                  <a:lnTo>
                    <a:pt x="1082" y="693"/>
                  </a:lnTo>
                  <a:lnTo>
                    <a:pt x="1103" y="680"/>
                  </a:lnTo>
                  <a:lnTo>
                    <a:pt x="1159" y="704"/>
                  </a:lnTo>
                  <a:lnTo>
                    <a:pt x="1239" y="674"/>
                  </a:lnTo>
                  <a:lnTo>
                    <a:pt x="1368" y="577"/>
                  </a:lnTo>
                  <a:lnTo>
                    <a:pt x="1460" y="509"/>
                  </a:lnTo>
                  <a:lnTo>
                    <a:pt x="1512" y="474"/>
                  </a:lnTo>
                  <a:close/>
                </a:path>
              </a:pathLst>
            </a:custGeom>
            <a:noFill/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87320" y="5064840"/>
              <a:ext cx="79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lto Jaguarib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90720" y="4532400"/>
              <a:ext cx="906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Médio Jaguarib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01080" y="3484800"/>
              <a:ext cx="88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aixo Jaguarib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1120" y="391716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1f1a17"/>
                  </a:solidFill>
                  <a:latin typeface="Arial"/>
                </a:rPr>
                <a:t>Banabuiú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25120" y="5665680"/>
              <a:ext cx="44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Salg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0600" y="2039400"/>
              <a:ext cx="39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1f1a17"/>
                  </a:solidFill>
                  <a:latin typeface="Arial"/>
                </a:rPr>
                <a:t>Coreaú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67440" y="3072600"/>
              <a:ext cx="38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1f1a17"/>
                  </a:solidFill>
                  <a:latin typeface="Arial"/>
                </a:rPr>
                <a:t>Acaraú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98080" y="2215800"/>
              <a:ext cx="35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Litora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69960" y="283320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900" spc="-1" strike="noStrike">
                  <a:solidFill>
                    <a:srgbClr val="1f1a17"/>
                  </a:solidFill>
                  <a:latin typeface="Arial"/>
                </a:rPr>
                <a:t>Curu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55320" y="3153960"/>
              <a:ext cx="752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Metropolitan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42360" y="378900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Parnaíb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295280" y="13644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ÍTICA ESTADUAL DOS 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670280"/>
            <a:ext cx="487656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OSIÇÃ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resentantes  dos usuários - 3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ciedade Civil Organizada - 3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er Público Municipal - 2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er Público Estadual e Federal - 2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167652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125 açudes gerenciados em convênio com o DNOCS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olume total de 17,5 bilhões de m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de água gerenciados que representam 90% da capacidade de acumulação do Estado do Cear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erenização de 81 rios com um total de 2.582 k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peração de 150 km  de canais e 50 km  de adutor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mapa%20da%20capa-4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5353200" cy="6276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320" y="6858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stentabilidade  Operacional  dos  Sistemas 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0920" y="76320"/>
            <a:ext cx="35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ÍTICA ESTADUAL 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govcearatransparente" descr=""/>
          <p:cNvPicPr/>
          <p:nvPr/>
        </p:nvPicPr>
        <p:blipFill>
          <a:blip r:embed="rId2"/>
          <a:stretch/>
        </p:blipFill>
        <p:spPr>
          <a:xfrm>
            <a:off x="7772400" y="754200"/>
            <a:ext cx="1371600" cy="826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271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 ESTRUTURANTES DA SR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583920"/>
            <a:ext cx="7991280" cy="863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OBJETIVO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7080" y="2376000"/>
            <a:ext cx="8578080" cy="31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1 – Reforçar o abastecimento de água da Região Metropolitana de Fortaleza, </a:t>
            </a:r>
            <a:br>
              <a:rPr sz="1600"/>
            </a:b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possibilitando a plena satisfação de suas necessidades para um horizonte de 30 anos.</a:t>
            </a:r>
            <a:br>
              <a:rPr sz="1600"/>
            </a:b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2 – Garantir as demandas de industrialização associadas ao Complexo Industrial-</a:t>
            </a:r>
            <a:br>
              <a:rPr sz="1600"/>
            </a:b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ortuário do Pecém.</a:t>
            </a:r>
            <a:br>
              <a:rPr sz="1600"/>
            </a:b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3 – Permitir o incremento do turismo, acentuadamente incentivado por políticas </a:t>
            </a:r>
            <a:br>
              <a:rPr sz="1600"/>
            </a:b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Governamentais através do Programa PRODETUR.</a:t>
            </a:r>
            <a:br>
              <a:rPr sz="1600"/>
            </a:b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4 – Possibilitar o desenvolvimento hidroagrícola nas áreas de tabuleiro da bacia do</a:t>
            </a:r>
            <a:br>
              <a:rPr sz="1600"/>
            </a:b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Rio Jaguaribe,  a complementação hídrica para o Projeto Tabuleiro de Russas</a:t>
            </a:r>
            <a:br>
              <a:rPr sz="1600"/>
            </a:b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(10.500 ha) e a irrigação intensiva de cerca de 9.500 ha potenciai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969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IXO DE INTEGRAÇÃ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0800" y="1913400"/>
            <a:ext cx="72673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çude Castanhão até o Açude Curral Velho (Morada Nova)</a:t>
            </a:r>
            <a:br>
              <a:rPr sz="2000"/>
            </a:br>
            <a:br>
              <a:rPr sz="2000"/>
            </a:b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EXTENSÃO 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54 Km</a:t>
            </a:r>
            <a:br>
              <a:rPr sz="2000"/>
            </a:br>
            <a:br>
              <a:rPr sz="2000"/>
            </a:b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VALOR DA OBRA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$142.484.500,29</a:t>
            </a:r>
            <a:br>
              <a:rPr sz="2000"/>
            </a:br>
            <a:br>
              <a:rPr sz="2000"/>
            </a:br>
            <a:r>
              <a:rPr b="1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FONTES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BIRD 40%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STADO 27%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BNDES 33%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792000"/>
            <a:ext cx="8064360" cy="96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1ºTRECHO CONCLUIDO EM DEZEMBRO DE 2004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ARÁ – UM ESTADO DO SEMI-Á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981080"/>
            <a:ext cx="8458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gião semi-árida é caracterizada pela existência, quase permanente,  de um déficit hídrico natural em que a precipitação pluviométrica é inferior à evapor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990720"/>
            <a:ext cx="8076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STA DO CANAL COM SEU REVESTIMENTO CONCLUÍDO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8360" y="1325520"/>
            <a:ext cx="8064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TRECHO DE SIFÃO EM CONSTRUÇÃO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685800"/>
            <a:ext cx="806436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ÍNTESE DOS TRECHOS A SEREM IMPLANTADO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2280" y="2514600"/>
          <a:ext cx="8763120" cy="227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14600"/>
                    <a:ext cx="876312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1674720"/>
            <a:ext cx="8686800" cy="42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O PROÁGUA/Semi-árido é um Projeto de Gestão de Recursos Hídricos do Governo Federal, financiado pelo Banco Mundi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 algn="just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Os recursos estão sendo aplicados na construção de adutoras, recuperação de sifões do Canal do Trabalhador e na construção do Açude Arneiro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BIRD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UNIÃO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ESTADO: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8088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OBRAS ESTRUTURANT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-380880" y="1736640"/>
            <a:ext cx="58672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Buscar alternativas no que concerne aos aspectos biofísico, social e econômico que promovam a melhor gestão do solo, da água e da vegetação das Microbacias Hidrográfica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poiar o trabalho das comunidades rurais nas áreas à montante das macrobacias não beneficiadas pela perenização dos rio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ntribuir com a diminuição do assoreamento dos cursos d’água e reservató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685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grama de Desenvolvimento Hidro-Ambien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as Microbacias Hidrográficas do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ioCangati%202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2827440"/>
          </a:xfrm>
          <a:prstGeom prst="rect">
            <a:avLst/>
          </a:prstGeom>
          <a:ln w="0">
            <a:noFill/>
          </a:ln>
        </p:spPr>
      </p:pic>
      <p:pic>
        <p:nvPicPr>
          <p:cNvPr id="185" name="bananeira2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2795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74840" y="2895480"/>
            <a:ext cx="443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Barragem Sucessiva - Comatação e surgimento da vegetação espontân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Foto%2005" descr=""/>
          <p:cNvPicPr/>
          <p:nvPr/>
        </p:nvPicPr>
        <p:blipFill>
          <a:blip r:embed="rId3"/>
          <a:stretch/>
        </p:blipFill>
        <p:spPr>
          <a:xfrm>
            <a:off x="4724280" y="3429000"/>
            <a:ext cx="4419720" cy="2927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09680" y="6340320"/>
            <a:ext cx="414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rdões de Pedra em Nível  e Plantio em Cobertura Morta (MULCH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bacia%20cangati%2012" descr=""/>
          <p:cNvPicPr/>
          <p:nvPr/>
        </p:nvPicPr>
        <p:blipFill>
          <a:blip r:embed="rId4"/>
          <a:stretch/>
        </p:blipFill>
        <p:spPr>
          <a:xfrm>
            <a:off x="0" y="3352680"/>
            <a:ext cx="4419720" cy="3032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REBOCO2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2862360"/>
          </a:xfrm>
          <a:prstGeom prst="rect">
            <a:avLst/>
          </a:prstGeom>
          <a:ln w="0">
            <a:noFill/>
          </a:ln>
        </p:spPr>
      </p:pic>
      <p:pic>
        <p:nvPicPr>
          <p:cNvPr id="191" name="Foto%2008" descr=""/>
          <p:cNvPicPr/>
          <p:nvPr/>
        </p:nvPicPr>
        <p:blipFill>
          <a:blip r:embed="rId2"/>
          <a:stretch/>
        </p:blipFill>
        <p:spPr>
          <a:xfrm>
            <a:off x="4724280" y="-76320"/>
            <a:ext cx="4419720" cy="2925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43360" y="2895480"/>
            <a:ext cx="54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isternas  de placa pré-moldadas para abastecimento huma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BARRAGEM%20SUB1" descr=""/>
          <p:cNvPicPr/>
          <p:nvPr/>
        </p:nvPicPr>
        <p:blipFill>
          <a:blip r:embed="rId3"/>
          <a:stretch/>
        </p:blipFill>
        <p:spPr>
          <a:xfrm>
            <a:off x="4724280" y="3276720"/>
            <a:ext cx="4419720" cy="2876400"/>
          </a:xfrm>
          <a:prstGeom prst="rect">
            <a:avLst/>
          </a:prstGeom>
          <a:ln w="0">
            <a:noFill/>
          </a:ln>
        </p:spPr>
      </p:pic>
      <p:pic>
        <p:nvPicPr>
          <p:cNvPr id="194" name="BARRAGEM%20SUB2" descr=""/>
          <p:cNvPicPr/>
          <p:nvPr/>
        </p:nvPicPr>
        <p:blipFill>
          <a:blip r:embed="rId4"/>
          <a:stretch/>
        </p:blipFill>
        <p:spPr>
          <a:xfrm>
            <a:off x="0" y="3276720"/>
            <a:ext cx="4419720" cy="2890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64640" y="6172200"/>
            <a:ext cx="54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trução de Barragem Subterrânea para obtenção de águ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a  usos múltiplos e cultivos irrigad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23880" y="9144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sul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8108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4760" indent="-184320" algn="just">
              <a:lnSpc>
                <a:spcPct val="15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ção no volume de sedimentos ocasionados pela erosão hídrica, evitando o assoreamento dos rios, açudes e riachos e gerando uma conseqüente melhoria da qualidade da águ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74760" indent="-184320" algn="just">
              <a:lnSpc>
                <a:spcPct val="15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dança cultural significativa no comportamento do homem  com relação a natureza e ao sistema de produçã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74760" indent="-184320" algn="just">
              <a:lnSpc>
                <a:spcPct val="15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a capacidade de resistência à sec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74760" indent="-184320" algn="just">
              <a:lnSpc>
                <a:spcPct val="15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vação da renda média das famílias rur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74760" indent="-184320" algn="just">
              <a:lnSpc>
                <a:spcPct val="15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talecimento do capital social das microbacias hidrográf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74760" indent="-184320">
              <a:lnSpc>
                <a:spcPct val="15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mapa%20geológico%202" descr=""/>
          <p:cNvPicPr/>
          <p:nvPr/>
        </p:nvPicPr>
        <p:blipFill>
          <a:blip r:embed="rId1"/>
          <a:stretch/>
        </p:blipFill>
        <p:spPr>
          <a:xfrm>
            <a:off x="3510000" y="495360"/>
            <a:ext cx="5634000" cy="6362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838080"/>
            <a:ext cx="3505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PA GEOLÓGICO DO ESTADO DO CEAR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847880"/>
            <a:ext cx="342900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 Estado do Ceará possui as seguintes características físicas e ambienta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tá praticamente todo inserido em uma região semi-ári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sui 80% de seu território sobre rocha cristalina, com camada de solo raso e poucos recursos hídricos subterrân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dos os seus rios são intermitent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80880" indent="-19044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m um regime de chuvas irregular, com média anual de precipitações de 700 mm e evaporação superior a 2.000 m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62120" y="1905120"/>
            <a:ext cx="838188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819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AS TECNOLOGIAS PARA O USO EFICIENTE 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965240"/>
            <a:ext cx="86868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Procurando avançar na melhoria da gestão de seus recursos hídricos, o Estado do Ceará tem desenvolvido novos programas visando fornecer aos agentes executores, os instrumentos indispensáveis de ciência e tecnologia para o uso cada vez mais racional da água, destacando-se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1.PROGRAMA DE DESSALINIZAÇÃO DE POÇO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Sistema integrado de poço, bombeamento, dessalinizador e chafariz para abastecimento d’água de pequenas comunidades com até 50 famílias, da população difusa do Interior não atendida pelo sistema convencional de açudes, canais e adutoras 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277 unidades instaladas no Interior do Es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49 chafarizes eletrônicos mantidos pela comunidade         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60 municípios atendidos e  42.000 pessoas beneficiada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838188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819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AS TECNOLOGIAS PARA O USO EFICIENTE 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965240"/>
            <a:ext cx="868680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9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2. USINA PILOTO DE DESSALINIZAÇÃO DE ÁGUA DO MAR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9080"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Necessidade de absorção do processo tecnológico como forma de aculturamento dessa alternativa de exploração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9080"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m elaboração Termo de Referência para contratação de Projeto de Viabilidade Técnica/Econômica/Financeira para construção de Unidade Piloto na Área Industrial do Porto do Pecém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9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Vazão : 50 l/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9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População beneficiada : 24.000 habitant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1905120"/>
            <a:ext cx="838188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19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AS TECNOLOGIAS PARA O USO EFICIENTE 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965240"/>
            <a:ext cx="868680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38400" indent="-19080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3. PLANO DE OPERAÇÃO E MANUTENÇÃO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8400" indent="-19080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Licitação em fase de julgamento para contratação dos serviços de elaboração do Plano, que fornecerá os instrumentos para os seguintes objetivos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8400" indent="-19080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laboração de cadastro dos sistemas hídricos estaduai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8400" indent="-19080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Planejamento das intervenções físicas necessárias para a    manutenção dos sistema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1238400" indent="-190800">
              <a:lnSpc>
                <a:spcPct val="10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Manualização dos processos de operação e manutençã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1905120"/>
            <a:ext cx="838188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819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AS TECNOLOGIAS PARA O USO EFICIENTE 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965240"/>
            <a:ext cx="8686800" cy="37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19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4. CENTRO DE CONTROLE OPERACIONAL AUTOMATIZADO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9080"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O Centro de Controle na Sede da COGERH receberá informações on line das vazões, pressões, níveis e dados operacionais das elevatórias e demais equipamentos para seu monitoramento  inclusive com acionamento remoto dos equipamentos de controle de fluxo, além de supervisão através de imagens, dados e voz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9080"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m fase de contratação os sistemas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9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Termoelétricas do Pecé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9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Aquíferos subterrâneos do Cariri e RMF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1908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Canal da Integração e Açude Castanhão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62120" y="1905120"/>
            <a:ext cx="838188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819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AS TECNOLOGIAS PARA O USO EFICIENTE 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965240"/>
            <a:ext cx="8686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20952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5. REÚSO DE ÁGUA RESIDUÁRIA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209520"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Programa piloto desenvolvido pela Cia de Água e Esgoto para reutilização do efluente final de estações de tratamento 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209520"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Processos em desenvolvimento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209520"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- Distrito Industrial de Maracanaú (efluentes industrial e residencial tratados e fornecidos como água bruta às industrias)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209520"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- Sistema de Aquiraz (a implantação do Aquiraz Resort demandará um considerável consumo de água para manutenção de campos de golfe, viabilizando um projeto de reuso de efluentes tratados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62120" y="1905120"/>
            <a:ext cx="8381880" cy="33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6. PEQUENAS CENTRAIS HIDRELÉTRICA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Está sendo iniciada a realização de um inventário do potencial de geração das barragens do Estado, levando em consideração a liberação de água dos mananciais negociada pelos comitês de bacias, além de um estudo hidrológico da  série histórica de alocação de cada sistem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</a:rPr>
              <a:t>O balanço hídrico foi iniciado nos Açudes Jaburu, Aracoiaba, Orós, Banabuiú, Castanhão e Canal da Integração, para estudo de viabilidade técnica, econômica e financeira de implantação de Pequenas Centrais Hidrelétricas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819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AS TECNOLOGIAS PARA O USO EFICIENTE 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1905120"/>
            <a:ext cx="83818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7. PLATAFORMAS DE COLETA DE DADO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mpliar o conhecimento sobre as condições ambientais, melhorando os resultados das ações de planejamento e gerenciamento dos RH, através da coleta automatizada e em tempo real de dados sobre precipitação, temperatura e umidade relativa do ar, velocidade e direção do vento, radiação solar global, pressão atmosférica, temperatura, umidade e fluxo de calor no solo e nível de reservatórios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as 70 unidades previstas, 30 já foram instaladas e 13 estão em fase  de montagem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as 30 unidades instaladas, 7 já estão em operação com transmissão de dados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819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AS TECNOLOGIAS PARA O USO EFICIENTE 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27040" y="254160"/>
          <a:ext cx="8088480" cy="58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254160"/>
                    <a:ext cx="8088480" cy="58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457200"/>
            <a:ext cx="9144000" cy="5715000"/>
            <a:chOff x="0" y="457200"/>
            <a:chExt cx="9144000" cy="57150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590920" y="121932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FICO DE CONCENTRAÇÃO DE CHUV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7320" y="609480"/>
              <a:ext cx="914400" cy="541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mapa%20precipitações" descr=""/>
          <p:cNvPicPr/>
          <p:nvPr/>
        </p:nvPicPr>
        <p:blipFill>
          <a:blip r:embed="rId1"/>
          <a:stretch/>
        </p:blipFill>
        <p:spPr>
          <a:xfrm>
            <a:off x="4086360" y="343080"/>
            <a:ext cx="4981320" cy="6514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82224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PA DE PRECIPITAÇÃO DO ESTADO DO CEAR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76320" y="2192400"/>
            <a:ext cx="411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algn="just">
              <a:lnSpc>
                <a:spcPts val="2299"/>
              </a:lnSpc>
              <a:spcBef>
                <a:spcPts val="140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s dados pluviométricos caracterizam a irregularidade espacial da chuva no Estad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algn="just">
              <a:lnSpc>
                <a:spcPts val="2299"/>
              </a:lnSpc>
              <a:spcBef>
                <a:spcPts val="140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aior incidência, privilegia as regiões serranas, costeira e do Cariri enquanto a escassez  torna outras áreas mais vulneráveis ao processos de desertificaçã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320" y="2057400"/>
            <a:ext cx="3886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.000 km² da superfície total do território cearense estão associados a processos de degradaçã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285840">
              <a:lnSpc>
                <a:spcPts val="2299"/>
              </a:lnSpc>
              <a:spcBef>
                <a:spcPts val="1400"/>
              </a:spcBef>
              <a:spcAft>
                <a:spcPts val="22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os susceptíveis à erosão constituído por rochas cristalin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285840">
              <a:lnSpc>
                <a:spcPts val="2299"/>
              </a:lnSpc>
              <a:spcBef>
                <a:spcPts val="1400"/>
              </a:spcBef>
              <a:spcAft>
                <a:spcPts val="22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a Densidade Demográf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mapa%20desertificacao" descr=""/>
          <p:cNvPicPr/>
          <p:nvPr/>
        </p:nvPicPr>
        <p:blipFill>
          <a:blip r:embed="rId1"/>
          <a:stretch/>
        </p:blipFill>
        <p:spPr>
          <a:xfrm>
            <a:off x="4159080" y="0"/>
            <a:ext cx="49658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-76320" y="8064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REAS SUSCEPTÍVEIS AOS PROCESSOS DE DESERTIFIC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228600"/>
            <a:ext cx="8458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é 1986, não havia no âmbito estadual, um arcabouço institucional próprio de recursos hídricos, nem uma atuação direcionada de forma planejada e estrutu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riação em 1987 da Secretaria dos Recursos Hídricos, transformou-se em um marco decisivo da atuação do Estado na problemática, elaborando entre 1988 e 1991, o plano estadual de recursos hídricos, promulgado através de Lei em 199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ISTEMA ESTADUAL DOS RECURSOS HÍDRICOS</a:t>
            </a:r>
            <a:endParaRPr b="0" lang="en-US" sz="27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istórico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1250"/>
              </a:spcBef>
              <a:buClr>
                <a:srgbClr val="0000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7 - CRIAÇÃO DA SECRETARIA DOS RECURSOS HÍDRIC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1250"/>
              </a:spcBef>
              <a:buClr>
                <a:srgbClr val="0000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8 - 1991 - ELABORAÇÃO DO PLANO ESTADUAL DE R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1250"/>
              </a:spcBef>
              <a:buClr>
                <a:srgbClr val="0000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2 - SANÇÃO DA LEI DE POLÍTICA DE RECURSOS  HÍDRIC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1250"/>
              </a:spcBef>
              <a:buClr>
                <a:srgbClr val="0000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3 - CRIAÇÃO DA COMPANHIA DE GESTÃO DOS R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1250"/>
              </a:spcBef>
              <a:buClr>
                <a:srgbClr val="0000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4 - INÍCIO DO PROCESSO DE GESTÃ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1250"/>
              </a:spcBef>
              <a:buClr>
                <a:srgbClr val="0000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5 - INÍCIO DAS ATIVIDADES DE OUTORGA E LICENCIAMEN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1250"/>
              </a:spcBef>
              <a:buClr>
                <a:srgbClr val="0000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7 - INÍCIO DA COBRANÇA PELO USO DA ÁGUA BRU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10000"/>
              </a:lnSpc>
              <a:spcBef>
                <a:spcPts val="1250"/>
              </a:spcBef>
              <a:buClr>
                <a:srgbClr val="0000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4 - INÍCIO DO CONTROLE DE QUALIDADE DA ÁGUA BRU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6:10:21Z</dcterms:created>
  <dc:creator>domicio</dc:creator>
  <dc:description/>
  <dc:language>en-US</dc:language>
  <cp:lastModifiedBy>SRH</cp:lastModifiedBy>
  <cp:lastPrinted>2004-08-25T16:07:44Z</cp:lastPrinted>
  <dcterms:modified xsi:type="dcterms:W3CDTF">2005-09-19T18:35:46Z</dcterms:modified>
  <cp:revision>286</cp:revision>
  <dc:subject/>
  <dc:title>Slide sem título </dc:title>
</cp:coreProperties>
</file>