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ED5-36F3-4606-BBAB-8E8F576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FE9-8DEB-4BB8-97C2-ECF2AB42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F1F-7AF3-448C-93E3-96729357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78D-F5DB-44A9-865F-C904743F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452-51EA-4C88-BC10-95BE640B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28D5-B8F2-4240-8A10-452C191D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6D4-5FA8-4853-B95C-BD43965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F06-B074-4CB0-B283-A57A92C9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418-E94B-4901-B073-7536126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3A4-E28F-4C1F-A755-01B98E74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3A3-9332-41E2-BF60-760D43A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026-42C6-4EA1-90B9-EF8DE19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026D-0E71-4DF6-8F24-92F4C6C4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9640" y="142920"/>
            <a:ext cx="5724360" cy="549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2133720"/>
            <a:ext cx="878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XPERIÊNCIA DE IMPLANTAÇÃO DE UM SISTEMA DE COBRANÇA NO CEA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54160"/>
            <a:ext cx="57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MPANHIA DE GESTÃO DOS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5843520"/>
            <a:ext cx="1106640" cy="825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81760" y="5877000"/>
            <a:ext cx="12542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914400"/>
            <a:ext cx="8964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DETERMINAÇÕES DO DECRE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687680"/>
            <a:ext cx="87854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Para os irrigantes, iniciar cobrando pelos ma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Caso haja atraso no pagamento da fatu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Multa, Juro e Correção Monetá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Suspensão do direito de uso da água (outorg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Protesto dos títulos de cobranç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O volume de água a ser cobrado será medido atravé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Hidrôme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Horíme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Estimativa (área, cultura, etc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914400"/>
            <a:ext cx="8964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DETERMINAÇÕES DO DECRE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87680"/>
            <a:ext cx="8785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 medidor é pago pelo Usuá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ria o Sistema de Fisc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Regulamentação de procedimen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IN nº. 01/2004 SRH - Faturamento, medição e direitos dos usu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- IN nº. 02/2004 SRH - Fisc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914400"/>
            <a:ext cx="89647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ODELO TARIFÁ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191120" y="1962000"/>
          <a:ext cx="4647960" cy="7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962000"/>
                    <a:ext cx="464796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2071440"/>
            <a:ext cx="845820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(u) = tarifa do usuário “u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Arial"/>
              </a:rPr>
              <a:t>1 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= tarifa padrão da outorga de longo praz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= volume outorgado do usuá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= tarifa padrão sobre volume efetivamente consumi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Arial"/>
              </a:rPr>
              <a:t>ef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= volume efetivamente consumido pel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icialmente só será cobrado o valor referido ao consumo ef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809720"/>
            <a:ext cx="4724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ESTRUTURA TARIFÁ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35280" y="1484280"/>
          <a:ext cx="5545080" cy="518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484280"/>
                    <a:ext cx="55450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ESTRUTURA TARIFÁRIA COM SUBSÍD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700280"/>
            <a:ext cx="896472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Por Categoria de Us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003366"/>
                </a:solidFill>
                <a:uFillTx/>
                <a:latin typeface="Arial"/>
              </a:rPr>
              <a:t>Categoria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 u="sng">
                <a:solidFill>
                  <a:srgbClr val="003366"/>
                </a:solidFill>
                <a:uFillTx/>
                <a:latin typeface="Arial"/>
              </a:rPr>
              <a:t>Comparativo (</a:t>
            </a:r>
            <a:r>
              <a:rPr b="0" i="1" lang="pt-BR" sz="2200" spc="-1" strike="noStrike" u="sng">
                <a:solidFill>
                  <a:srgbClr val="003366"/>
                </a:solidFill>
                <a:uFillTx/>
                <a:latin typeface="Arial"/>
              </a:rPr>
              <a:t>Menor Faixa de Irrigante</a:t>
            </a:r>
            <a:r>
              <a:rPr b="0" lang="pt-BR" sz="2200" spc="-1" strike="noStrike" u="sng">
                <a:solidFill>
                  <a:srgbClr val="003366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Saneamento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de 10 a 22,4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Indústria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321,4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Piscicultura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de 5,2 a 10,4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Carcinicultura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0,4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Água Mineral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321,4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Irrigação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de 1 a 22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Demais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22 ve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3366"/>
                </a:solidFill>
                <a:uFillTx/>
                <a:latin typeface="Arial"/>
              </a:rPr>
              <a:t>Destaqu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: A composição da tarifa não absorve custos com investi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97308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BENEFÍCIOS DA COBR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657440"/>
            <a:ext cx="878544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Conscientizar o usuário sobre o valor econômico do recurso hídr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Estimular um comportamento racional no uso do recurso hídr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Permitir a auto-sustentabilidade do modelo de gest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Promover o equilíbrio entre oferta e demanda  hídr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Reduzir o desperdíci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Consolidar sistema de subsídios cruzados para garantir a sustentabilidade da agricultura irrigada e evitar a exclusão social no meio r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9280" y="1457280"/>
            <a:ext cx="8839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stear a operação e manutenção da infra-estrutura hídrica d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amento quantitativo e qualitativo dos açudes e leitos peren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steio do sistema sob responsabilidade da COGE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entivar a racionalização do uso da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oio à organização dos usuários e funcionamento dos comit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stear pequenos investimento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30000"/>
              </a:lnSpc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stear a operacionalização dos instrumentos de 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97308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OBJETIVOS DA COBR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2133720"/>
            <a:ext cx="87631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</a:rPr>
              <a:t>COGERH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Identifica Clientes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Solicita Outor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Apóia tecnicamente a SRH nos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Assina Contrato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serviços de Fiscalização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Paga F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- Firma Contrato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Instala Medidor/Horíme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Realiza Medição Men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Emite Fatura Men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lnSpc>
                <a:spcPct val="12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Efetua Cobranç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973080"/>
            <a:ext cx="87854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PROCESSO DE COBRANÇ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Atribuiçõ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SITUAÇÃO DA COBRANÇA –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916280"/>
            <a:ext cx="8964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Volume Ofertado × Fatur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55213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lume Ofer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716360" y="2779560"/>
          <a:ext cx="4140360" cy="26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779560"/>
                    <a:ext cx="414036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68280" y="2789280"/>
          <a:ext cx="4132440" cy="2644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8280" y="2789280"/>
                    <a:ext cx="4132440" cy="26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148360" y="55213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lume Fat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COBRANÇA – Situação até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700280"/>
            <a:ext cx="8964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volução Faturamento × Arrecadação × Despe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2760" y="2417760"/>
          <a:ext cx="6988320" cy="381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2760" y="2417760"/>
                    <a:ext cx="698832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FUNDAMENTAÇÃO LEGAL - CRONOLOG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700280"/>
            <a:ext cx="8785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87 - Criação da Secretaria dos Recursos Hídricos (Lei 11.306 de 01/04/1987) no Ce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88 – A Constituição Federal altera a dominialidade das águas e propõe a instituição de um Sistema Nacional para Gestão dos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2 - Plano Estadual de Recursos Hídric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2 - Lei sobre a Política Estadual de Recursos Hídricos (Lei 11.996 de 24/07/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4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3 - Criação da COGERH Companhia de Gestão de Recursos (Lei 12.217 de 18/11/199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2030400"/>
            <a:ext cx="86644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talecer a gestão no interior através das Gerências Reg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ar a outorga e cobrança para todos  os usuários (gradativ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ruturar sistema de fisc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dir sistema de med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981000"/>
            <a:ext cx="87854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RECOMENDAÇÕES PARA EXPANSÃO DA OUTORGA, COBRANÇA E FISCALIZ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49120" y="1628640"/>
            <a:ext cx="82836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stência Cultural relativa ao pagamento de tarifa pelos diversos setores de 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ndes Produtores formadores de opinião resistentes à cob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racionalização da Fisc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eracionalização do Sistema de Med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DIFICULDADES ENCONTRAD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FUNDAMENTAÇÃO LEGAL - CRONOLOG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1700280"/>
            <a:ext cx="87854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4 - Decretos Instituindo o Sistema de Outorga e o Controle Técnico das Obras de Oferta Hídrica (Decreto 23.067 de 11/02/1994 e Decreto 23.068 de 11/02/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6 - Início da Cobrança pelo Uso da Água Bruta (saneamento e indústria) no Estado do Cear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1997 - É aprovada a Lei Federal de Política Nacional de Recursos Hídricos,  Lei 9.433/97, formação do 1º CBH (Cu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2001 - Decreto de Regulamentação da Formação dos Comitês de Bacias Hidrográficas (Decreto 26.462 de 11/12/20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2003 – Decreto de regulamentação da cobrança dos usos dos Recursos Hídricos (Decreto 27.271 de 28/11/200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ESTRUTURAÇÃO DA COGER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0028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Sociedade de economia mi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Vinculada à Secretaria dos Recursos Hídricos – S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Assistida administrativamente por uma Assembléia Geral e um Conse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Custeio administrativo e operacional com recurso próp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3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Arial"/>
              </a:rPr>
              <a:t>Estrutura funcional composta por pessoal concursado, comissionado e terceiri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MISSÃO DA COGER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700280"/>
            <a:ext cx="878544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Gerenciar os Recursos Hídricos de domínio do Estado do Ceará e da União, por delegação, de forma integrada, descentralizada e participativa, incentivando o uso racional, social e sustentado, contribuindo para a melhoria da qualidade de vida da popul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EIXOS DE ATU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763640" y="1654200"/>
            <a:ext cx="5803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981000"/>
            <a:ext cx="87854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SISTEMA DE COBRANÇA (Eixo 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62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ESTUDO DE TARIF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62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Período 2002/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62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Pontos Importantes do Estu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781360"/>
            <a:ext cx="87408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laborado à partir de diretrizes definidas pelo grupo de trabalho e representantes de usuários e Comitê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Possibilitou a construção de um modelo de matriz tarif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tarifa deve cobrir todos os custos de operação, administração e manuten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Os custos de investimento não foram considerados na composição da tari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 cobrança deve ser realizada sobre volume, podendo-se existir três categorias: volume outorgado, volume efetivamente utilizado e volume alocado anu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PONTOS IMPORTANTES DO ESTU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628640"/>
            <a:ext cx="8740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cobrança deve ser diferenciada por uso, considerando-se a capacidade de pagamento de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tarifação deve ser diferenciada, criando-se instrumentos de subsídio cru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2436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16000"/>
            <a:ext cx="5724360" cy="54900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44280"/>
            <a:ext cx="536760" cy="40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95600" y="77760"/>
            <a:ext cx="608040" cy="41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981000"/>
            <a:ext cx="87854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DECRETO 27.271 de 28/11/20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585800"/>
            <a:ext cx="87408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gulamenta o artigo 7º da Lei 11.996/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termina a cobrança pelo uso da água bruta e que a cobrança deve ser feita pela COGE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brança de todos com multa, juros, correção por atr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termina a SRH utilizar seu poder de polícia através de ações fiscalizatórias apoiadas pela COGERH, que fará as verificações “In loco” e apuração das irregular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termina a  SRH imitir as instruções normativas sobre faturamento e fiscaliz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2:17:57Z</dcterms:created>
  <dc:creator>xxx</dc:creator>
  <dc:description/>
  <dc:language>en-US</dc:language>
  <cp:lastModifiedBy>xxx</cp:lastModifiedBy>
  <dcterms:modified xsi:type="dcterms:W3CDTF">2005-08-17T00:47:27Z</dcterms:modified>
  <cp:revision>237</cp:revision>
  <dc:subject/>
  <dc:title>Slide 1</dc:title>
</cp:coreProperties>
</file>