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172360" y="6040440"/>
            <a:ext cx="657360" cy="3967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755640" y="260280"/>
            <a:ext cx="7201080" cy="43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84280" y="581040"/>
            <a:ext cx="326880" cy="307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30240" y="307800"/>
            <a:ext cx="328680" cy="30816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91960" y="272880"/>
            <a:ext cx="328680" cy="3096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581040"/>
            <a:ext cx="328680" cy="307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20640" y="0"/>
            <a:ext cx="328680" cy="307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24000" y="836640"/>
            <a:ext cx="326880" cy="307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50920" y="6524640"/>
            <a:ext cx="86421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7993080" y="115920"/>
            <a:ext cx="1042920" cy="46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73080" y="1268280"/>
            <a:ext cx="9036000" cy="2521080"/>
            <a:chOff x="73080" y="1268280"/>
            <a:chExt cx="9036000" cy="2521080"/>
          </a:xfrm>
        </p:grpSpPr>
        <p:sp>
          <p:nvSpPr>
            <p:cNvPr id="85" name=""/>
            <p:cNvSpPr/>
            <p:nvPr/>
          </p:nvSpPr>
          <p:spPr>
            <a:xfrm>
              <a:off x="1152360" y="2058840"/>
              <a:ext cx="7956720" cy="17305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9440" y="3139920"/>
              <a:ext cx="647640" cy="64944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24000" y="2492280"/>
              <a:ext cx="647640" cy="64944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08360" y="1916280"/>
              <a:ext cx="647640" cy="649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9440" y="1844640"/>
              <a:ext cx="647640" cy="64944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080" y="2492280"/>
              <a:ext cx="647640" cy="649440"/>
            </a:xfrm>
            <a:prstGeom prst="rect">
              <a:avLst/>
            </a:prstGeom>
            <a:solidFill>
              <a:srgbClr val="33339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97080" y="1268280"/>
              <a:ext cx="647640" cy="64944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03280" y="2133720"/>
              <a:ext cx="7705800" cy="156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ffffff"/>
                  </a:solidFill>
                  <a:latin typeface="Arial"/>
                </a:rPr>
                <a:t>IGAM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INSTITUTO MINEIRO DE GESTÃO DAS ÁGU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244000" y="4508640"/>
            <a:ext cx="644400" cy="261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172360" y="5084640"/>
            <a:ext cx="642960" cy="184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8172360" y="5589720"/>
            <a:ext cx="693720" cy="307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8028000" y="6165720"/>
            <a:ext cx="792000" cy="479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47640" y="54936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 I S T E M A    E S T A D U A L    D E    M E I O    A M B I E N T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4360" y="692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creto nº 41.578/01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00000" y="1606680"/>
            <a:ext cx="763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§ 1º -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s critérios de regulamentação da cobrança pelo uso de recursos hídricos fundamentar-se-ão no princípio de que a cobrança constitui-se em compensação dos usuários, públicos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 privados, para garantia dos padrões estabelecidos de quantidade, qualidade e regime, na medida da interferência no estado antecedente desses tributos, resultantes dos respectivos us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§ 2º -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 cobrança pelo uso de recursos hídricos implementar-se-á após a aprovação da etapa dos Planos Estadual de Recursos Hídricos e Diretores de Bacias Hidrográficas que contiver as diretrizes e critérios de compensação pelos usuários públicos e priv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4360" y="765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creto nº 41.578/01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628640"/>
            <a:ext cx="7559640" cy="43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§ 3º -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 cobrança pelo uso de recursos hídricos poderá iniciar-se pelo princípio da tarifação progressiva em razão do consumo, enquanto não ocorrer a aprovação dos respectivos Planos Diretores de Bacias Hidrográfic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rt.71 – O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IGAM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no que couber,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poderá atuar supletivamente no que se refere às competências das agências de bacia hidrográfic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estabelecidas no artigo 45 da Lei nº 13.199/99, dede que previamente autorizado pelo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CERH-M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4360" y="765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creto nº 44.046/05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1628640"/>
            <a:ext cx="741708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rt.2º – Os usos de recursos hídricos superficiais ou subterrâneos serão cobrados nos termos deste Decreto, em cumprimento ao que dispõe o art.43 do Decreto nº 41.578/01, que regulamenta a Lei nº 13.199/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rt.6º - A cobrança pelo uso de recursos hídricos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somente poderá ser iniciada pelo princípio da tarifação progressiv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previsto no art. 4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§ 3º d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creto nº 41.578/01, cumprido o disposto nos incisos I, II e III do art.5º e nos incisos do art.53 da Lei nº 13.199/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4360" y="765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creto nº 44.046/05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1628640"/>
            <a:ext cx="741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.8º 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quanto não se estabelecerem os critérios de cobranç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finidos neste Decreto, a agência de bacia ou entidade a ela equiparada, ou na falta o IGA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derã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mediante autorização dos comitês de bacia hidrográfica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elebrar convênio, termo de ajuste ou outro instrumento congênere com entidades públicas e privadas usuárias de águ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as respectivas bacias para cessão de equipamentos, recursos materiais e humanos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ra a realização de trabalho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 para viabilizar ações imediatas que possibilitem, direta ou indiretamente,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elhoria das coleções hídricas, de forma compatível com os planos de ação e diretriz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stabelecidos pelo referido comit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4360" y="620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creto nº 44.046/05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341360"/>
            <a:ext cx="74170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rt.9º – A metodologia para cálculo e fixação dos valores da cobrança pelo uso dos recursos hídricos pelo princípio da tarifação progressiva, previsto n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§ 3º do art.43, do Decreto nº 41.578/01, considerará os seguintes critérios de forma isolada, simultânea, combinada ou cumula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I – as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modificações artificialmente introduzida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elos usuários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na morfologia e na constituição das margens e no álveo dos cursos de água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III – as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condições naturais mantidas ou restabelecida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, bem como as condições artificiais introduzidas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ara aumentar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e assegurar as capacidades potenciais de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recarga dos mananciai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4360" y="620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creto nº 44.046/05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1341360"/>
            <a:ext cx="7417080" cy="49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 1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º – O princípio da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tarifação progressiva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corresponde à cobrança de valores progressivamente mais elevados em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função da magnitud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da variação dos aspectos relacionados neste arti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 2º -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rocedimento transitóri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de tarifação progressiva será aprovado pelo CERH-MG por período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não superior a cinco ano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, a partir de proposição fundamentada da agência de bacia hidrográfica ou, na sua falta, do IGAM, aprovada pelo respectivo comitê de bacia hidrográf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 3º -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rogressividade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a cobrança em razão do uso deverá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limitar-se à variação máxima de cem por cent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entre os valores mínimos e máximos aplicáveis a cada circunstância para um mesmo tipo de interferência no estado antecedente de cada um dos atributos considerados, conforme fixado 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º do art.43 d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cre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º 41.578/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4360" y="620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creto nº 44.046/05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00000" y="1341360"/>
            <a:ext cx="7417080" cy="49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.13 –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Os valores arrecadados com a cobrança pelo uso de recursos hídricos serã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depositados de acordo com o disposto 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º do art. 27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a Lei nº 13.199/99 e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utilizados exclusivamente na bacia hidrográfica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que deu origem à arrecadação, em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financiamentos reembolsáveis ou aplicações a fundo perdid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, mediante expressa aprovação por parte do respectivo comitê, garantida a conformidade com os Planos de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ágrafo único – O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Manual Técnico-Econômico-Financeiro e Operacional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, definirá quanto aos financiamentos reembolsáveis, taxa de juros, com projetos e obras que melhorem a qualidade, a quantidade e o regime de vazão dos corpos de água, podendo inclusive prever o reembolso apenas do montante principal do financiamento conced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4360" y="620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creto nº 44.046/05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1197000"/>
            <a:ext cx="7417080" cy="52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.19 –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o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IGAM,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na condição de entidade gestora do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SEGRH-MG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compe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- articular com a Agência Nacional de Águas – ANA a delegação de competência para os atos de outorga e cobrança em rios de domínio da União, considerando a necessidade da gestão descentralizada e a integração da gestão de recursos hídricos em bacias compartilhad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III –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arrecadar os recursos obtidos com a cobrança pelo uso dos recursos hídricos e repassá-los, integral e imediatamente, à agências de bacia e entidades a elas equiparada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mediante convênio ou instrumento contratual congênere, definido na legislação vig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4360" y="620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creto nº 44.046/05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1341360"/>
            <a:ext cx="763272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X 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aborar, com apoio do agente financeiro oficial, o Manual Técnico-Econômico-Financeiro e Operacional de Cobrança pelo Uso de Recursos Hídrico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ontendo as normas, condições e procedimentos para aplicação de recursos financeiros decorrentes da cobrança pelo uso de recursos hídricos, para aprovação pel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ERH-M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ágrafo único – O IGAM aplicará diretamente os recursos obtidos com a cobrança pelo uso dos recursos hídricos, nos casos em que não houver, legalmente constituída, agência de bacia ou entidade a ela equiparada, conforme disposto nos artigos 41 e 71 do Decreto nº 41.578/01 e neste Decre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4360" y="620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creto nº 44.046/05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0000" y="1341360"/>
            <a:ext cx="7417080" cy="48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.20 – 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ERH-M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signará, mediante proposta dos comitês de bacia, agente financeiro oficial, preferencialmente o Banco de Desenvolvimento do Estado de Minas Gerais – BDMG, a quem compe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arágrafo único – O Agente Financeiro Oficial, para suportar as despesas respectivas e os serviços prestados fará jus à comissão de serviços, na forma determinada pelo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CERH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rt.21 – Instituição financeira integrante do sistema financeiro nacional será contratada pelo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IGAM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para desenvolver as seguintes ativida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50920" y="6524640"/>
            <a:ext cx="86421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9440" y="2565360"/>
            <a:ext cx="647640" cy="6494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24000" y="1917720"/>
            <a:ext cx="647640" cy="6494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8000" y="1341360"/>
            <a:ext cx="648000" cy="6494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9440" y="1270080"/>
            <a:ext cx="647640" cy="6490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080" y="1917720"/>
            <a:ext cx="647640" cy="64944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7080" y="693720"/>
            <a:ext cx="647640" cy="6494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19280" y="4732200"/>
            <a:ext cx="676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ª Reunião da CTC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o Horizonte – julho /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885080" y="5965920"/>
            <a:ext cx="981000" cy="434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63640" y="1700280"/>
            <a:ext cx="67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brança pelo uso de Recursos Hídric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m Minas Ger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4360" y="620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creto nº 44.046/05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00000" y="1341360"/>
            <a:ext cx="741708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–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nter sistema de controle dos valores devidos e arrecadados com a cobrança pelo uso dos recursos hídricos, por bacia hidrográfica e apresentá-los às agências de bacia, aos comitês de bacia, ao CERH-MG sempre que solicitado;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I – emitir documentos de cobrança e executá-la diret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rt. 22 – O pagamento pelo uso de recursos hídricos terá periodicidade trimestral, salvo estipulação em contrário pelo respectivo comitê de bacia hidrográfica, aprovada pelo CERH-M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4360" y="620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creto nº 44.046/05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1573200"/>
            <a:ext cx="741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. 27 – Aos valores arrecadados a título da cobrança pelo uso de recursos hídricos de que trata este Decreto não se aplica o disposto pelo Decreto nº 39.874/98, devendo os mesmos serem depositados em conta bancária vinculada, sob responsabilidade da agência cuja bacia houver gerado a cobrança ou do IGAM, nos casos previstos neste Decr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4360" y="836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i Estadual nº 13.199/99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1844640"/>
            <a:ext cx="7128000" cy="41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.23 – Serão cobrados os usos de recursos hídricos sujeitos a outorga nos termos do art.18 desta L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.24 – Sujeita-se à cobrança pelo uso da água, segundo as peculiaridades de cada bacia hidrográfica, aquele que utilizar, consumir ou poluir recursos hídr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.26 – A cobrança pelo uso de recursos hídricos será implementada d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ma gradativ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 não recairá sobre os usos considerados insignificantes, nos termos do regul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4360" y="836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i Estadual nº 13.199/99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1844640"/>
            <a:ext cx="7128000" cy="47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rt.27 – O valor inerente a cobrança pelos direitos de uso de recursos hídricos classificar-se-á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como receita patrimonial, nos termos do artigo 11 da Lei Federal nº 4320, de 17 de março de 1964, com a redação dada pelo Decreto-Lei nº 1.939, de 20 de maio de 198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§ 1º -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s valores diretamente arrecadados por órgão ou unidade executiva descentralizada do Poder Executivo referido nesta Lei, em decorrência da cobrança pelos direitos de uso de recursos hídricos,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  <a:ea typeface="Arial"/>
              </a:rPr>
              <a:t>serão depositados e geridos em conta bancária própria, mantida em instituição financeira ofi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4360" y="836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i Estadual nº 13.199/99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1628640"/>
            <a:ext cx="712800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§ 2º -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 forma, a periodicidade, o processo e as demais estipulações de caráter técnico e administrativo inerentes à cobrança pelos direitos de uso de recursos hídricos serão estabelecidos em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  <a:ea typeface="Arial"/>
              </a:rPr>
              <a:t>decreto do Poder Executiv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, a partir de proposta do órgão central do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EGRH-MG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, aprovada pelo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ERH-MG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rt.41 – Ao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CERH-MG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na condição de órgão deliberativo e normativo central do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SEGRH-MG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compe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II – estabelecer os critérios e as normas gerais sobre a cobrança pelos direitos de uso de recursos hídr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4360" y="836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i Estadual nº 13.199/99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1628640"/>
            <a:ext cx="7128000" cy="34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.43 – Aos comitês de bacia hidrográfica, órgãos deliberativos e normativos em sua área territorial de atuação compe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 – estabelecer critérios e normas  e  aprovar os valores propostos para a cobrança pelo uso de recursos hídr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4360" y="836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i Estadual nº 13.199/99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1484280"/>
            <a:ext cx="7128000" cy="49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.53 – A implantação da cobrança pelo uso dos recursos hídricos será precedi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– do desenvolvimento de programa de comunicação social sobre a necessidade econômica, social e ambiental da utilização racional e proteção das águ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 – da implantação do sistema integrado de outorga de direitos de uso dos recursos hídricos, devidamente compatibilizados com os sistemas de licenciamento ambient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I – do cadastramento dos usuários das águas e da regularização dos direitos de us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4360" y="836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i Estadual nº 13.199/99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1844640"/>
            <a:ext cx="7128000" cy="31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 – de articulações do Estado com a União e com os Estados vizinhos, tendo em vista a implantação da cobrança pelo uso de recursos hídricos nas bacias hidrográficas de rios de domínio federal e a celebração de convênios de cooperação técnic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 – da proposição de critérios e normas para fixação de tarifas, definição de instrumentos técnicos e jurídicos indispensáveis à cobrança pelo uso da águ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4360" y="836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creto nº 41.578/01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1844640"/>
            <a:ext cx="7128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.42 – Os valores arrecadados com a cobrança pelo uso dos recursos hídrico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rão aplicados na bacia hidrográfica em que forem gerado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 utilizados de acordo com o artigo 28 da Lei nº 13.199/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.43 – A forma, a periodicidade, o processo e as demais estipulações de caráter técnico e administrativo inerentes à cobrança pelo uso de recursos hídricos serão estabelecidos em decreto pel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overnador do Estado, a partir de proposta da SEMAD aprovada pelo CERH-M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bservado o disposto no inciso VI do artigo 43 da Lei nº 13.199/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18:19:51Z</dcterms:created>
  <dc:creator>Semad</dc:creator>
  <dc:description/>
  <dc:language>en-US</dc:language>
  <cp:lastModifiedBy>Alberto</cp:lastModifiedBy>
  <dcterms:modified xsi:type="dcterms:W3CDTF">2005-07-20T21:46:56Z</dcterms:modified>
  <cp:revision>148</cp:revision>
  <dc:subject/>
  <dc:title>Slide 1</dc:title>
</cp:coreProperties>
</file>