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24F-FD10-4D90-A49C-9317D822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055-C001-4F3A-AAEB-3AB63F6A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59D-FF73-4F9D-B0CB-BD91FABB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20D6-6A42-4635-9851-B1F1B3A8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78B-A39E-41A1-B1F7-BB61461B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D63-0490-4C4C-990A-4E0FC0D6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3E1-193B-4BCA-991D-96C63D4F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1BD-94A8-4861-935D-19076D6B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438-3307-4093-86F4-A8AA67D6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666-F900-4A61-A57C-D30A623E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6EC-0CD4-4B2B-973E-A69DCED0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A6F9-90AE-4399-822C-2293E8F1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C471-0D5E-48C2-B271-0A0A68F05D9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073160"/>
            <a:ext cx="9180360" cy="5861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28195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brança e Gestão de Recursos Hídricos no Estado do Rio de Janei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0"/>
            <a:ext cx="5976360" cy="1125000"/>
            <a:chOff x="3203640" y="0"/>
            <a:chExt cx="5976360" cy="112500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203640" y="0"/>
              <a:ext cx="5976360" cy="11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203640" y="462960"/>
              <a:ext cx="3562200" cy="650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036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genda 2005 / 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143000"/>
            <a:ext cx="8229600" cy="55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IRHI: Sistema Estadual de Informações, Cadastro e Outor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base GIS Baía da Guanab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Apoio BID / MMA / 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ntegração com a A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poio a AGEVAP / CEIV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laboração do Plano do Guan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nvênio ANA / SER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Reestruturação da SER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Gestão dos Canais de Cam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Compatibilização CEUA / GESTIN / SIR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ituação do Comitê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914400"/>
            <a:ext cx="8610840" cy="59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0000"/>
              </a:lnSpc>
              <a:spcBef>
                <a:spcPts val="876"/>
              </a:spcBef>
              <a:spcAft>
                <a:spcPts val="876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3501"/>
              </a:spcBef>
              <a:spcAft>
                <a:spcPts val="1749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Comitês instituí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Estadual do Guandu: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da Bacia do Macaé: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Lagos-São João: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spcAft>
                <a:spcPts val="1749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Aprovados pelo CERH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751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da Baía da Guanabara L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do rio Piaba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spcAft>
                <a:spcPts val="1749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Comissões pró-comitê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o rio Dois Rios (Serra-N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o Oeste da Baía de Guanab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a foz do rio Paraíba do S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o rio Maca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tuação do Comitês: regulamentação do Art. 10 da Lei 3239/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676520"/>
            <a:ext cx="8001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Comic Sans MS"/>
              </a:rPr>
              <a:t>Art. 10  –  Para fins de gestão de Recursos Hídricos, o território do Estado do Rio de Janeiro fica dividido em Regiões Hidrográficas (RH’s), conforme regulament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Comic Sans MS"/>
              </a:rPr>
              <a:t>Art. 52, em seu Parágrafo Único, define que cada CBH terá como área de atuação e jurisdição a totalidade de uma bacia hidrográfica de curso d’água de primeira ou segunda ordem; ou um grupo de bacias hidrográficas contígu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roposta Modelo de Governanç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Bacias Estaduais Costeira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752480"/>
            <a:ext cx="82296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tribuir às agências personalidade jurídica própria: mandato legal imune às mudanças polí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Consórcios de bacia: boa experiência entretanto pode haver esvaziamento com implantação da cob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Entidade delegatária/ OSC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poio/Integração com as Agências Regionais da SER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Modelo não impõe limitações à organização de comitês (bacias, sub-baci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905120"/>
            <a:ext cx="822960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rço/2003: Cobrança nos rios de domínio da União da Bacia do Paraíba do S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Base Legal: Resolução CEIVAP/ Deliberação 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mplantada pela 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Janeiro /2004: Cobrança nos rios de domínio estadual da Bacia do Paraíba do S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Base Legal: Resolução CEIVAP / Resolução CER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mplantada pela SER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447920"/>
            <a:ext cx="8458200" cy="63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 partir de Março/2004: Cobrança por metodologia provisória nas demais bacias “estaduai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Lei 4247/2003 (disposições transitóri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Implantada pela SER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bril/2005: Cobrança na Bacia do Guandu por metodologia aprovada pelo Comit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Resolução Comitê Guandu / Resolução CER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Em implantação pela SERLA / Negociação Comitê, SERLA e Usuários (CEDA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Cobrança Transposição Paraíba do Sul/Sistema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Art.11, Lei 4247/2003 - 15% arrecadação Bacia do Guan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Grupo de Trabalho CERHI/CEIVAP/Comitê Guandu/SERLA/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600200"/>
            <a:ext cx="87631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Cobrança Transposição Paraíba do Sul/Sistema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Art.11, Lei 4247/2003 - 15% arrecadação Bacia do Guan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Grupo de Trabalho CERHI/CEIVAP/Comitê Guandu/SERLA/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220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90920" y="13716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ecadação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52480" y="4556160"/>
            <a:ext cx="4953240" cy="2301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19520" y="41148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ecadação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plicação dos Recursos da Cobranç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784836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 integração entre os instrumentos de gestão de recursos hídricos nas esferas Federal e Estadual é uma norma le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ioneirismo do Estado Rio de Janei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Ex.: aprovação de deliberação pelo CEIVAP para aplicação dos recursos da cobrança estadual do Rio de Janeiro, inclusive com verba para o fortalecimento da agência da bacia do Paraíba do Sul, a AGEV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598760" y="1522440"/>
          <a:ext cx="5970600" cy="508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1522440"/>
                    <a:ext cx="597060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247840" y="228600"/>
            <a:ext cx="6743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BERAÇÃO CEIVAP N.º ____/2004                           DE 23 DE NOVEMBRO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plicação dos Recursos da Cobranç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676520"/>
            <a:ext cx="7848360" cy="28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mplantação e manutenção de Secretaria Executiva para o Comitê Guand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ase Legal: Resolução Comitê/Resolução CER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Instrumento contratual: Convênio com a UFRRJ (ERJ não tem contrato de gestã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genda 2005 / 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523880"/>
            <a:ext cx="822960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”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ASTAR” dinheiro da cob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soluções dos Comitês aprovadas pelo CER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Operacionalizar repasse de recursos do FUNDO para Comitês e SER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Operacionalizar depósito automático da CFURH no FU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mplantar demais Comitês: Deliberação CERHI sobre base territorial de gest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Dotar Comitês de Secretaria Executiva e Planos de Ba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1:58:36Z</dcterms:created>
  <dc:creator>Marilene</dc:creator>
  <dc:description/>
  <dc:language>en-US</dc:language>
  <cp:lastModifiedBy>aluno</cp:lastModifiedBy>
  <dcterms:modified xsi:type="dcterms:W3CDTF">2005-04-18T14:50:42Z</dcterms:modified>
  <cp:revision>2</cp:revision>
  <dc:subject/>
  <dc:title>Slide sem título </dc:title>
</cp:coreProperties>
</file>