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20F-3111-4B37-9AAF-FB4AFFDB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D03-2CA4-472B-9ABC-CF8497B1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613-961D-4214-B488-254AB1FC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12C-1966-454B-87DA-91DBB860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AB3-9B7A-493D-99A0-FC62EBDF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602-F6CF-4029-9F70-463F31E3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D29-7244-443C-A48C-306CA7C4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703-5E81-43D4-8DBD-3F824CD6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A81-EA3F-4A85-9BA5-788F1E3E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376-0D9A-4A3E-AF01-FC3CF91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5F3-7E6A-4EA2-8754-5D6895E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3CF-6115-4294-85C9-7185DE5A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A178-AC68-4965-BE4B-5850826DCC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73160"/>
            <a:ext cx="9180360" cy="586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819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brança e Gestão de Recursos Hídricos no Estado do Rio de Jan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0"/>
            <a:ext cx="5976360" cy="1125000"/>
            <a:chOff x="3203640" y="0"/>
            <a:chExt cx="5976360" cy="112500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203640" y="0"/>
              <a:ext cx="597636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203640" y="462960"/>
              <a:ext cx="3562200" cy="65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143000"/>
            <a:ext cx="8229600" cy="55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IRHI: Sistema Estadual de Informações, Cadastro e Outo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GIS Baía da Guanab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poio BID / MMA /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ntegração com a A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poio a AGEVAP / CEIV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aboração do Plano do Gua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nvênio ANA / SER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Reestruturação d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Gestão dos Canais de Ca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atibilização CEUA / GESTIN / SI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ituação do Comitê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14400"/>
            <a:ext cx="861084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3501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tês instituí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Estadual do Guandu: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cia do Macaé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Lagos-São João: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Aprovados pelo CERH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751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ía da Guanabara 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o rio Piaba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ssões pró-comit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Dois Rios (Serra-N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Oeste da Baía de Guana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a foz do ri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Maca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tuação do Comitês: regulamentação do Art. 10 da Lei 3239/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676520"/>
            <a:ext cx="8001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10  –  Para fins de gestão de Recursos Hídricos, o território do Estado do Rio de Janeiro fica dividido em Regiões Hidrográficas (RH’s), conforme regulam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52, em seu Parágrafo Único, define que cada CBH terá como área de atuação e jurisdição a totalidade de uma bacia hidrográfica de curso d’água de primeira ou segunda ordem; ou um grupo de bacias hidrográficas contígu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posta Modelo de Governanç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Bacias Estaduais Costeir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52480"/>
            <a:ext cx="8229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tribuir às agências personalidade jurídica própria: mandato legal imune às mudanças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nsórcios de bacia: boa experiência entretanto pode haver esvaziamento com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Entidade delegatária/ OSC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poio/Integração com as Agências Regionais da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Modelo não impõe limitações à organização de comitês (bacias, sub-bac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05120"/>
            <a:ext cx="822960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rço/2003: Cobrança nos rios de domínio da União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/ Deliberaçã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Janeiro /2004: Cobrança nos rios de domínio estadual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447920"/>
            <a:ext cx="845820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 partir de Março/2004: Cobrança por metodologia provisória nas demais bacias “estadua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Lei 4247/2003 (disposições transitó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bril/2005: Cobrança na Bacia do Guandu por metodologia aprovada pelo Comit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Resolução Comitê Guandu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Em implantação pela SERLA / Negociação Comitê, SERLA e Usuários (CED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220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90920" y="1371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52480" y="4556160"/>
            <a:ext cx="4953240" cy="230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4114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848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 integração entre os instrumentos de gestão de recursos hídricos nas esferas Federal e Estadual é uma norma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ioneirismo do Estado Rio de Janei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Ex.: aprovação de deliberação pelo CEIVAP para aplicação dos recursos da cobrança estadual do Rio de Janeiro, inclusive com verba para o fortalecimento da agência da bacia do Paraíba do Sul, a AGEV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47840" y="228600"/>
            <a:ext cx="674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78483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ção e manutenção de Secretaria Executiva para o Comitê Guand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ase Legal: Resolução Comitê/Resoluçã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nstrumento contratual: Convênio com a UFRRJ (ERJ não tem contrato de gest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523880"/>
            <a:ext cx="82296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ASTAR” dinheiro da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soluções dos Comitês aprovadas pel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repasse de recursos do FUNDO para Comitês e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depósito automático da CFURH no F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r demais Comitês: Deliberação CERHI sobre base territorial de gest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otar Comitês de Secretaria Executiva e Planos de B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1:58:36Z</dcterms:created>
  <dc:creator>Marilene</dc:creator>
  <dc:description/>
  <dc:language>en-US</dc:language>
  <cp:lastModifiedBy>aluno</cp:lastModifiedBy>
  <dcterms:modified xsi:type="dcterms:W3CDTF">2005-04-18T14:50:42Z</dcterms:modified>
  <cp:revision>2</cp:revision>
  <dc:subject/>
  <dc:title>Slide sem título </dc:title>
</cp:coreProperties>
</file>