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5148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61720" y="210132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4124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5148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61720" y="4588200"/>
            <a:ext cx="27712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41240" y="626760"/>
            <a:ext cx="8607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1960" y="458820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960" y="2101320"/>
            <a:ext cx="42004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1240" y="4588200"/>
            <a:ext cx="86076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6267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76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3198960" y="4221000"/>
            <a:ext cx="1449360" cy="1049400"/>
            <a:chOff x="3198960" y="4221000"/>
            <a:chExt cx="1449360" cy="1049400"/>
          </a:xfrm>
        </p:grpSpPr>
        <p:sp>
          <p:nvSpPr>
            <p:cNvPr id="39" name=""/>
            <p:cNvSpPr/>
            <p:nvPr/>
          </p:nvSpPr>
          <p:spPr>
            <a:xfrm>
              <a:off x="3198960" y="4221000"/>
              <a:ext cx="1449360" cy="1049400"/>
            </a:xfrm>
            <a:prstGeom prst="roundRect">
              <a:avLst>
                <a:gd name="adj" fmla="val 148"/>
              </a:avLst>
            </a:pr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3198960" y="4221000"/>
              <a:ext cx="1449360" cy="1049400"/>
            </a:xfrm>
            <a:prstGeom prst="roundRect">
              <a:avLst>
                <a:gd name="adj" fmla="val 148"/>
              </a:avLst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" name=""/>
          <p:cNvGrpSpPr/>
          <p:nvPr/>
        </p:nvGrpSpPr>
        <p:grpSpPr>
          <a:xfrm>
            <a:off x="879480" y="1635120"/>
            <a:ext cx="1450800" cy="1055520"/>
            <a:chOff x="879480" y="1635120"/>
            <a:chExt cx="1450800" cy="1055520"/>
          </a:xfrm>
        </p:grpSpPr>
        <p:sp>
          <p:nvSpPr>
            <p:cNvPr id="42" name=""/>
            <p:cNvSpPr/>
            <p:nvPr/>
          </p:nvSpPr>
          <p:spPr>
            <a:xfrm>
              <a:off x="879480" y="1635120"/>
              <a:ext cx="1450800" cy="1055520"/>
            </a:xfrm>
            <a:prstGeom prst="roundRect">
              <a:avLst>
                <a:gd name="adj" fmla="val 148"/>
              </a:avLst>
            </a:pr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879480" y="1635120"/>
              <a:ext cx="1450800" cy="1055520"/>
            </a:xfrm>
            <a:prstGeom prst="roundRect">
              <a:avLst>
                <a:gd name="adj" fmla="val 148"/>
              </a:avLst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1500120" y="2311560"/>
            <a:ext cx="1454040" cy="1056960"/>
            <a:chOff x="1500120" y="2311560"/>
            <a:chExt cx="1454040" cy="1056960"/>
          </a:xfrm>
        </p:grpSpPr>
        <p:sp>
          <p:nvSpPr>
            <p:cNvPr id="45" name=""/>
            <p:cNvSpPr/>
            <p:nvPr/>
          </p:nvSpPr>
          <p:spPr>
            <a:xfrm>
              <a:off x="1500120" y="2311560"/>
              <a:ext cx="1454040" cy="1056960"/>
            </a:xfrm>
            <a:prstGeom prst="roundRect">
              <a:avLst>
                <a:gd name="adj" fmla="val 148"/>
              </a:avLst>
            </a:pr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500120" y="2311560"/>
              <a:ext cx="1454040" cy="1056960"/>
            </a:xfrm>
            <a:prstGeom prst="roundRect">
              <a:avLst>
                <a:gd name="adj" fmla="val 148"/>
              </a:avLst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2540160" y="3637080"/>
            <a:ext cx="1450800" cy="1050840"/>
            <a:chOff x="2540160" y="3637080"/>
            <a:chExt cx="1450800" cy="1050840"/>
          </a:xfrm>
        </p:grpSpPr>
        <p:sp>
          <p:nvSpPr>
            <p:cNvPr id="48" name=""/>
            <p:cNvSpPr/>
            <p:nvPr/>
          </p:nvSpPr>
          <p:spPr>
            <a:xfrm>
              <a:off x="2540160" y="3637080"/>
              <a:ext cx="1450800" cy="1050840"/>
            </a:xfrm>
            <a:prstGeom prst="roundRect">
              <a:avLst>
                <a:gd name="adj" fmla="val 148"/>
              </a:avLst>
            </a:pr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540160" y="3637080"/>
              <a:ext cx="1450800" cy="1050840"/>
            </a:xfrm>
            <a:prstGeom prst="roundRect">
              <a:avLst>
                <a:gd name="adj" fmla="val 148"/>
              </a:avLst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2046240" y="2967120"/>
            <a:ext cx="1451160" cy="1052280"/>
            <a:chOff x="2046240" y="2967120"/>
            <a:chExt cx="1451160" cy="1052280"/>
          </a:xfrm>
        </p:grpSpPr>
        <p:sp>
          <p:nvSpPr>
            <p:cNvPr id="51" name=""/>
            <p:cNvSpPr/>
            <p:nvPr/>
          </p:nvSpPr>
          <p:spPr>
            <a:xfrm>
              <a:off x="2046240" y="2967120"/>
              <a:ext cx="1451160" cy="1052280"/>
            </a:xfrm>
            <a:prstGeom prst="roundRect">
              <a:avLst>
                <a:gd name="adj" fmla="val 148"/>
              </a:avLst>
            </a:pr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046240" y="2967120"/>
              <a:ext cx="1451160" cy="1052280"/>
            </a:xfrm>
            <a:prstGeom prst="roundRect">
              <a:avLst>
                <a:gd name="adj" fmla="val 148"/>
              </a:avLst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348280" y="3206880"/>
              <a:ext cx="893160" cy="199080"/>
            </a:xfrm>
            <a:prstGeom prst="roundRect">
              <a:avLst>
                <a:gd name="adj" fmla="val 67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1f1a17"/>
                  </a:solidFill>
                  <a:latin typeface="Arial"/>
                </a:rPr>
                <a:t>Planos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82920" y="3427560"/>
              <a:ext cx="576000" cy="199080"/>
            </a:xfrm>
            <a:prstGeom prst="roundRect">
              <a:avLst>
                <a:gd name="adj" fmla="val 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1f1a17"/>
                  </a:solidFill>
                  <a:latin typeface="Arial"/>
                </a:rPr>
                <a:t>Bacia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8494560" y="457200"/>
            <a:ext cx="1451160" cy="1054080"/>
            <a:chOff x="8494560" y="457200"/>
            <a:chExt cx="1451160" cy="1054080"/>
          </a:xfrm>
        </p:grpSpPr>
        <p:sp>
          <p:nvSpPr>
            <p:cNvPr id="56" name=""/>
            <p:cNvSpPr/>
            <p:nvPr/>
          </p:nvSpPr>
          <p:spPr>
            <a:xfrm>
              <a:off x="8494560" y="457200"/>
              <a:ext cx="1451160" cy="1054080"/>
            </a:xfrm>
            <a:prstGeom prst="roundRect">
              <a:avLst>
                <a:gd name="adj" fmla="val 148"/>
              </a:avLst>
            </a:pr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494560" y="457200"/>
              <a:ext cx="1451160" cy="1054080"/>
            </a:xfrm>
            <a:prstGeom prst="roundRect">
              <a:avLst>
                <a:gd name="adj" fmla="val 148"/>
              </a:avLst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503200" y="822240"/>
              <a:ext cx="1354680" cy="199080"/>
            </a:xfrm>
            <a:prstGeom prst="roundRect">
              <a:avLst>
                <a:gd name="adj" fmla="val 67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1f1a17"/>
                  </a:solidFill>
                  <a:latin typeface="Arial"/>
                </a:rPr>
                <a:t>Enquadramen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494560" y="2127240"/>
            <a:ext cx="1451160" cy="1057320"/>
            <a:chOff x="8494560" y="2127240"/>
            <a:chExt cx="1451160" cy="1057320"/>
          </a:xfrm>
        </p:grpSpPr>
        <p:sp>
          <p:nvSpPr>
            <p:cNvPr id="60" name=""/>
            <p:cNvSpPr/>
            <p:nvPr/>
          </p:nvSpPr>
          <p:spPr>
            <a:xfrm>
              <a:off x="8494560" y="2127240"/>
              <a:ext cx="1451160" cy="1057320"/>
            </a:xfrm>
            <a:prstGeom prst="roundRect">
              <a:avLst>
                <a:gd name="adj" fmla="val 148"/>
              </a:avLst>
            </a:pr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494560" y="2127240"/>
              <a:ext cx="1451160" cy="1057320"/>
            </a:xfrm>
            <a:prstGeom prst="roundRect">
              <a:avLst>
                <a:gd name="adj" fmla="val 148"/>
              </a:avLst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97400" y="2516040"/>
              <a:ext cx="693360" cy="199080"/>
            </a:xfrm>
            <a:prstGeom prst="roundRect">
              <a:avLst>
                <a:gd name="adj" fmla="val 67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1f1a17"/>
                  </a:solidFill>
                  <a:latin typeface="Arial"/>
                </a:rPr>
                <a:t>Outorg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8494560" y="3755880"/>
            <a:ext cx="1451160" cy="1049400"/>
            <a:chOff x="8494560" y="3755880"/>
            <a:chExt cx="1451160" cy="1049400"/>
          </a:xfrm>
        </p:grpSpPr>
        <p:sp>
          <p:nvSpPr>
            <p:cNvPr id="64" name=""/>
            <p:cNvSpPr/>
            <p:nvPr/>
          </p:nvSpPr>
          <p:spPr>
            <a:xfrm>
              <a:off x="8494560" y="3755880"/>
              <a:ext cx="1451160" cy="1049400"/>
            </a:xfrm>
            <a:prstGeom prst="roundRect">
              <a:avLst>
                <a:gd name="adj" fmla="val 148"/>
              </a:avLst>
            </a:pr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494560" y="3755880"/>
              <a:ext cx="1451160" cy="1049400"/>
            </a:xfrm>
            <a:prstGeom prst="roundRect">
              <a:avLst>
                <a:gd name="adj" fmla="val 148"/>
              </a:avLst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19280" y="4127400"/>
              <a:ext cx="821520" cy="199080"/>
            </a:xfrm>
            <a:prstGeom prst="roundRect">
              <a:avLst>
                <a:gd name="adj" fmla="val 67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1f1a17"/>
                  </a:solidFill>
                  <a:latin typeface="Arial"/>
                </a:rPr>
                <a:t>Cobranç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8494560" y="5024520"/>
            <a:ext cx="1451160" cy="1052280"/>
            <a:chOff x="8494560" y="5024520"/>
            <a:chExt cx="1451160" cy="1052280"/>
          </a:xfrm>
        </p:grpSpPr>
        <p:sp>
          <p:nvSpPr>
            <p:cNvPr id="68" name=""/>
            <p:cNvSpPr/>
            <p:nvPr/>
          </p:nvSpPr>
          <p:spPr>
            <a:xfrm>
              <a:off x="8494560" y="5024520"/>
              <a:ext cx="1451160" cy="1052280"/>
            </a:xfrm>
            <a:prstGeom prst="roundRect">
              <a:avLst>
                <a:gd name="adj" fmla="val 148"/>
              </a:avLst>
            </a:pr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494560" y="5024520"/>
              <a:ext cx="1451160" cy="1052280"/>
            </a:xfrm>
            <a:prstGeom prst="roundRect">
              <a:avLst>
                <a:gd name="adj" fmla="val 148"/>
              </a:avLst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869320" y="5343480"/>
              <a:ext cx="835200" cy="199080"/>
            </a:xfrm>
            <a:prstGeom prst="roundRect">
              <a:avLst>
                <a:gd name="adj" fmla="val 67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1f1a17"/>
                  </a:solidFill>
                  <a:latin typeface="Arial"/>
                </a:rPr>
                <a:t>Sistema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5880" y="5564160"/>
              <a:ext cx="756000" cy="199080"/>
            </a:xfrm>
            <a:prstGeom prst="roundRect">
              <a:avLst>
                <a:gd name="adj" fmla="val 67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1f1a17"/>
                  </a:solidFill>
                  <a:latin typeface="Arial"/>
                </a:rPr>
                <a:t>Setoria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404120" y="5788080"/>
            <a:ext cx="1452600" cy="1058760"/>
            <a:chOff x="7404120" y="5788080"/>
            <a:chExt cx="1452600" cy="1058760"/>
          </a:xfrm>
        </p:grpSpPr>
        <p:sp>
          <p:nvSpPr>
            <p:cNvPr id="73" name=""/>
            <p:cNvSpPr/>
            <p:nvPr/>
          </p:nvSpPr>
          <p:spPr>
            <a:xfrm>
              <a:off x="7404120" y="5788080"/>
              <a:ext cx="1452600" cy="1058760"/>
            </a:xfrm>
            <a:prstGeom prst="roundRect">
              <a:avLst>
                <a:gd name="adj" fmla="val 148"/>
              </a:avLst>
            </a:pr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404120" y="5788080"/>
              <a:ext cx="1452600" cy="1058760"/>
            </a:xfrm>
            <a:prstGeom prst="roundRect">
              <a:avLst>
                <a:gd name="adj" fmla="val 148"/>
              </a:avLst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08600" y="6058080"/>
              <a:ext cx="1092600" cy="199080"/>
            </a:xfrm>
            <a:prstGeom prst="roundRect">
              <a:avLst>
                <a:gd name="adj" fmla="val 67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1f1a17"/>
                  </a:solidFill>
                  <a:latin typeface="Arial"/>
                </a:rPr>
                <a:t>Sistemas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42240" y="6278400"/>
              <a:ext cx="574560" cy="199080"/>
            </a:xfrm>
            <a:prstGeom prst="roundRect">
              <a:avLst>
                <a:gd name="adj" fmla="val 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1f1a17"/>
                  </a:solidFill>
                  <a:latin typeface="Arial"/>
                </a:rPr>
                <a:t>gestã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345360" y="6512040"/>
            <a:ext cx="1452600" cy="1049400"/>
            <a:chOff x="6345360" y="6512040"/>
            <a:chExt cx="1452600" cy="1049400"/>
          </a:xfrm>
        </p:grpSpPr>
        <p:sp>
          <p:nvSpPr>
            <p:cNvPr id="78" name=""/>
            <p:cNvSpPr/>
            <p:nvPr/>
          </p:nvSpPr>
          <p:spPr>
            <a:xfrm>
              <a:off x="6345360" y="6512040"/>
              <a:ext cx="1452600" cy="1049400"/>
            </a:xfrm>
            <a:prstGeom prst="roundRect">
              <a:avLst>
                <a:gd name="adj" fmla="val 148"/>
              </a:avLst>
            </a:pr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45360" y="6512040"/>
              <a:ext cx="1452600" cy="1049400"/>
            </a:xfrm>
            <a:prstGeom prst="roundRect">
              <a:avLst>
                <a:gd name="adj" fmla="val 148"/>
              </a:avLst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538680" y="6713640"/>
              <a:ext cx="1092600" cy="199080"/>
            </a:xfrm>
            <a:prstGeom prst="roundRect">
              <a:avLst>
                <a:gd name="adj" fmla="val 67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1f1a17"/>
                  </a:solidFill>
                  <a:latin typeface="Arial"/>
                </a:rPr>
                <a:t>Sistemas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29680" y="6935760"/>
              <a:ext cx="1060560" cy="199080"/>
            </a:xfrm>
            <a:prstGeom prst="roundRect">
              <a:avLst>
                <a:gd name="adj" fmla="val 67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1f1a17"/>
                  </a:solidFill>
                  <a:latin typeface="Arial"/>
                </a:rPr>
                <a:t>Informaçõ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9129600" y="1547640"/>
            <a:ext cx="220680" cy="555840"/>
            <a:chOff x="9129600" y="1547640"/>
            <a:chExt cx="220680" cy="555840"/>
          </a:xfrm>
        </p:grpSpPr>
        <p:sp>
          <p:nvSpPr>
            <p:cNvPr id="83" name=""/>
            <p:cNvSpPr/>
            <p:nvPr/>
          </p:nvSpPr>
          <p:spPr>
            <a:xfrm>
              <a:off x="9218520" y="1547640"/>
              <a:ext cx="39960" cy="339840"/>
            </a:xfrm>
            <a:custGeom>
              <a:avLst/>
              <a:gdLst>
                <a:gd name="textAreaLeft" fmla="*/ 360 w 39960"/>
                <a:gd name="textAreaRight" fmla="*/ 39600 w 39960"/>
                <a:gd name="textAreaTop" fmla="*/ 360 h 339840"/>
                <a:gd name="textAreaBottom" fmla="*/ 339480 h 339840"/>
              </a:gdLst>
              <a:ahLst/>
              <a:rect l="textAreaLeft" t="textAreaTop" r="textAreaRight" b="textAreaBottom"/>
              <a:pathLst>
                <a:path w="21600" h="182250">
                  <a:moveTo>
                    <a:pt x="900" y="0"/>
                  </a:moveTo>
                  <a:arcTo wR="900" hR="900" stAng="16200000" swAng="-5400000"/>
                  <a:lnTo>
                    <a:pt x="0" y="181350"/>
                  </a:lnTo>
                  <a:arcTo wR="900" hR="900" stAng="10800000" swAng="-5400000"/>
                  <a:lnTo>
                    <a:pt x="20700" y="182250"/>
                  </a:lnTo>
                  <a:arcTo wR="900" hR="900" stAng="5400000" swAng="-5400000"/>
                  <a:lnTo>
                    <a:pt x="21600" y="900"/>
                  </a:lnTo>
                  <a:arcTo wR="900" hR="900" stAng="0" swAng="-5400000"/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9129600" y="1863720"/>
              <a:ext cx="220680" cy="239760"/>
            </a:xfrm>
            <a:custGeom>
              <a:avLst/>
              <a:gdLst/>
              <a:ahLst/>
              <a:rect l="l" t="t" r="r" b="b"/>
              <a:pathLst>
                <a:path w="613" h="667">
                  <a:moveTo>
                    <a:pt x="612" y="0"/>
                  </a:moveTo>
                  <a:lnTo>
                    <a:pt x="306" y="666"/>
                  </a:lnTo>
                  <a:lnTo>
                    <a:pt x="0" y="0"/>
                  </a:lnTo>
                  <a:lnTo>
                    <a:pt x="612" y="0"/>
                  </a:lnTo>
                  <a:lnTo>
                    <a:pt x="306" y="666"/>
                  </a:lnTo>
                  <a:lnTo>
                    <a:pt x="612" y="0"/>
                  </a:lnTo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9163080" y="3219480"/>
            <a:ext cx="217440" cy="555480"/>
            <a:chOff x="9163080" y="3219480"/>
            <a:chExt cx="217440" cy="555480"/>
          </a:xfrm>
        </p:grpSpPr>
        <p:sp>
          <p:nvSpPr>
            <p:cNvPr id="86" name=""/>
            <p:cNvSpPr/>
            <p:nvPr/>
          </p:nvSpPr>
          <p:spPr>
            <a:xfrm>
              <a:off x="9250200" y="3219480"/>
              <a:ext cx="39960" cy="341280"/>
            </a:xfrm>
            <a:custGeom>
              <a:avLst/>
              <a:gdLst>
                <a:gd name="textAreaLeft" fmla="*/ 360 w 39960"/>
                <a:gd name="textAreaRight" fmla="*/ 39600 w 39960"/>
                <a:gd name="textAreaTop" fmla="*/ 360 h 341280"/>
                <a:gd name="textAreaBottom" fmla="*/ 340920 h 341280"/>
              </a:gdLst>
              <a:ahLst/>
              <a:rect l="textAreaLeft" t="textAreaTop" r="textAreaRight" b="textAreaBottom"/>
              <a:pathLst>
                <a:path w="21600" h="183021">
                  <a:moveTo>
                    <a:pt x="900" y="0"/>
                  </a:moveTo>
                  <a:arcTo wR="900" hR="900" stAng="16200000" swAng="-5400000"/>
                  <a:lnTo>
                    <a:pt x="0" y="182121"/>
                  </a:lnTo>
                  <a:arcTo wR="900" hR="900" stAng="10800000" swAng="-5400000"/>
                  <a:lnTo>
                    <a:pt x="20700" y="183021"/>
                  </a:lnTo>
                  <a:arcTo wR="900" hR="900" stAng="5400000" swAng="-5400000"/>
                  <a:lnTo>
                    <a:pt x="21600" y="900"/>
                  </a:lnTo>
                  <a:arcTo wR="900" hR="900" stAng="0" swAng="-5400000"/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163080" y="3535200"/>
              <a:ext cx="217440" cy="239760"/>
            </a:xfrm>
            <a:custGeom>
              <a:avLst/>
              <a:gdLst/>
              <a:ahLst/>
              <a:rect l="l" t="t" r="r" b="b"/>
              <a:pathLst>
                <a:path w="606" h="665">
                  <a:moveTo>
                    <a:pt x="605" y="0"/>
                  </a:moveTo>
                  <a:lnTo>
                    <a:pt x="291" y="664"/>
                  </a:lnTo>
                  <a:lnTo>
                    <a:pt x="0" y="0"/>
                  </a:lnTo>
                  <a:lnTo>
                    <a:pt x="605" y="0"/>
                  </a:lnTo>
                  <a:lnTo>
                    <a:pt x="291" y="664"/>
                  </a:lnTo>
                  <a:lnTo>
                    <a:pt x="605" y="0"/>
                  </a:lnTo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743880" y="3541680"/>
            <a:ext cx="110880" cy="2901960"/>
            <a:chOff x="6743880" y="3541680"/>
            <a:chExt cx="110880" cy="2901960"/>
          </a:xfrm>
        </p:grpSpPr>
        <p:sp>
          <p:nvSpPr>
            <p:cNvPr id="89" name=""/>
            <p:cNvSpPr/>
            <p:nvPr/>
          </p:nvSpPr>
          <p:spPr>
            <a:xfrm>
              <a:off x="6799320" y="3541680"/>
              <a:ext cx="1440" cy="500040"/>
            </a:xfrm>
            <a:prstGeom prst="line">
              <a:avLst/>
            </a:prstGeom>
            <a:ln w="9360">
              <a:solidFill>
                <a:srgbClr val="25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43880" y="3921120"/>
              <a:ext cx="110880" cy="120600"/>
            </a:xfrm>
            <a:custGeom>
              <a:avLst/>
              <a:gdLst/>
              <a:ahLst/>
              <a:rect l="l" t="t" r="r" b="b"/>
              <a:pathLst>
                <a:path w="307" h="335">
                  <a:moveTo>
                    <a:pt x="306" y="0"/>
                  </a:moveTo>
                  <a:lnTo>
                    <a:pt x="154" y="334"/>
                  </a:lnTo>
                  <a:lnTo>
                    <a:pt x="0" y="0"/>
                  </a:lnTo>
                  <a:lnTo>
                    <a:pt x="306" y="0"/>
                  </a:lnTo>
                  <a:lnTo>
                    <a:pt x="154" y="334"/>
                  </a:lnTo>
                  <a:lnTo>
                    <a:pt x="306" y="0"/>
                  </a:lnTo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99320" y="5584680"/>
              <a:ext cx="1440" cy="858960"/>
            </a:xfrm>
            <a:prstGeom prst="line">
              <a:avLst/>
            </a:prstGeom>
            <a:ln w="9360">
              <a:solidFill>
                <a:srgbClr val="25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43880" y="5584680"/>
              <a:ext cx="110880" cy="120960"/>
            </a:xfrm>
            <a:custGeom>
              <a:avLst/>
              <a:gdLst/>
              <a:ahLst/>
              <a:rect l="l" t="t" r="r" b="b"/>
              <a:pathLst>
                <a:path w="307" h="335">
                  <a:moveTo>
                    <a:pt x="306" y="334"/>
                  </a:moveTo>
                  <a:lnTo>
                    <a:pt x="154" y="0"/>
                  </a:lnTo>
                  <a:lnTo>
                    <a:pt x="0" y="334"/>
                  </a:lnTo>
                  <a:lnTo>
                    <a:pt x="306" y="334"/>
                  </a:lnTo>
                  <a:lnTo>
                    <a:pt x="154" y="0"/>
                  </a:lnTo>
                  <a:lnTo>
                    <a:pt x="306" y="334"/>
                  </a:lnTo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99320" y="4154400"/>
              <a:ext cx="1440" cy="55800"/>
            </a:xfrm>
            <a:prstGeom prst="line">
              <a:avLst/>
            </a:prstGeom>
            <a:ln w="9360">
              <a:solidFill>
                <a:srgbClr val="25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99320" y="4240080"/>
              <a:ext cx="1440" cy="52560"/>
            </a:xfrm>
            <a:prstGeom prst="line">
              <a:avLst/>
            </a:prstGeom>
            <a:ln w="9360">
              <a:solidFill>
                <a:srgbClr val="25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99320" y="4316400"/>
              <a:ext cx="1440" cy="52560"/>
            </a:xfrm>
            <a:prstGeom prst="line">
              <a:avLst/>
            </a:prstGeom>
            <a:ln w="9360">
              <a:solidFill>
                <a:srgbClr val="25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99320" y="4398840"/>
              <a:ext cx="1440" cy="55800"/>
            </a:xfrm>
            <a:prstGeom prst="line">
              <a:avLst/>
            </a:prstGeom>
            <a:ln w="9360">
              <a:solidFill>
                <a:srgbClr val="25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99320" y="4475160"/>
              <a:ext cx="1440" cy="55440"/>
            </a:xfrm>
            <a:prstGeom prst="line">
              <a:avLst/>
            </a:prstGeom>
            <a:ln w="9360">
              <a:solidFill>
                <a:srgbClr val="25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99320" y="4562640"/>
              <a:ext cx="1440" cy="52200"/>
            </a:xfrm>
            <a:prstGeom prst="line">
              <a:avLst/>
            </a:prstGeom>
            <a:ln w="9360">
              <a:solidFill>
                <a:srgbClr val="25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799320" y="4638600"/>
              <a:ext cx="1440" cy="52560"/>
            </a:xfrm>
            <a:prstGeom prst="line">
              <a:avLst/>
            </a:prstGeom>
            <a:ln w="9360">
              <a:solidFill>
                <a:srgbClr val="25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799320" y="4721400"/>
              <a:ext cx="1440" cy="55440"/>
            </a:xfrm>
            <a:prstGeom prst="line">
              <a:avLst/>
            </a:prstGeom>
            <a:ln w="9360">
              <a:solidFill>
                <a:srgbClr val="25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99320" y="4797360"/>
              <a:ext cx="1440" cy="55800"/>
            </a:xfrm>
            <a:prstGeom prst="line">
              <a:avLst/>
            </a:prstGeom>
            <a:ln w="9360">
              <a:solidFill>
                <a:srgbClr val="25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99320" y="4884840"/>
              <a:ext cx="1440" cy="52200"/>
            </a:xfrm>
            <a:prstGeom prst="line">
              <a:avLst/>
            </a:prstGeom>
            <a:ln w="9360">
              <a:solidFill>
                <a:srgbClr val="25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799320" y="4960800"/>
              <a:ext cx="1440" cy="54000"/>
            </a:xfrm>
            <a:prstGeom prst="line">
              <a:avLst/>
            </a:prstGeom>
            <a:ln w="9360">
              <a:solidFill>
                <a:srgbClr val="25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799320" y="5043600"/>
              <a:ext cx="1440" cy="55440"/>
            </a:xfrm>
            <a:prstGeom prst="line">
              <a:avLst/>
            </a:prstGeom>
            <a:ln w="9360">
              <a:solidFill>
                <a:srgbClr val="25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99320" y="5122800"/>
              <a:ext cx="1440" cy="52560"/>
            </a:xfrm>
            <a:prstGeom prst="line">
              <a:avLst/>
            </a:prstGeom>
            <a:ln w="9360">
              <a:solidFill>
                <a:srgbClr val="25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99320" y="5205240"/>
              <a:ext cx="1440" cy="52560"/>
            </a:xfrm>
            <a:prstGeom prst="line">
              <a:avLst/>
            </a:prstGeom>
            <a:ln w="9360">
              <a:solidFill>
                <a:srgbClr val="25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99320" y="5281560"/>
              <a:ext cx="1440" cy="54000"/>
            </a:xfrm>
            <a:prstGeom prst="line">
              <a:avLst/>
            </a:prstGeom>
            <a:ln w="9360">
              <a:solidFill>
                <a:srgbClr val="25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99320" y="5365800"/>
              <a:ext cx="1440" cy="55440"/>
            </a:xfrm>
            <a:prstGeom prst="line">
              <a:avLst/>
            </a:prstGeom>
            <a:ln w="9360">
              <a:solidFill>
                <a:srgbClr val="25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99320" y="5445000"/>
              <a:ext cx="1440" cy="33480"/>
            </a:xfrm>
            <a:prstGeom prst="line">
              <a:avLst/>
            </a:prstGeom>
            <a:ln w="9360">
              <a:solidFill>
                <a:srgbClr val="25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99320" y="5445000"/>
              <a:ext cx="1440" cy="33480"/>
            </a:xfrm>
            <a:prstGeom prst="line">
              <a:avLst/>
            </a:prstGeom>
            <a:ln w="9360">
              <a:solidFill>
                <a:srgbClr val="2522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073320" y="266760"/>
            <a:ext cx="5378400" cy="2670120"/>
            <a:chOff x="3073320" y="266760"/>
            <a:chExt cx="5378400" cy="2670120"/>
          </a:xfrm>
        </p:grpSpPr>
        <p:grpSp>
          <p:nvGrpSpPr>
            <p:cNvPr id="112" name=""/>
            <p:cNvGrpSpPr/>
            <p:nvPr/>
          </p:nvGrpSpPr>
          <p:grpSpPr>
            <a:xfrm>
              <a:off x="3073320" y="266760"/>
              <a:ext cx="5378400" cy="2670120"/>
              <a:chOff x="3073320" y="266760"/>
              <a:chExt cx="5378400" cy="2670120"/>
            </a:xfrm>
          </p:grpSpPr>
          <p:sp>
            <p:nvSpPr>
              <p:cNvPr id="113" name=""/>
              <p:cNvSpPr/>
              <p:nvPr/>
            </p:nvSpPr>
            <p:spPr>
              <a:xfrm>
                <a:off x="3073320" y="266760"/>
                <a:ext cx="5378400" cy="2670120"/>
              </a:xfrm>
              <a:custGeom>
                <a:avLst/>
                <a:gdLst/>
                <a:ahLst/>
                <a:rect l="l" t="t" r="r" b="b"/>
                <a:pathLst>
                  <a:path w="14940" h="7419">
                    <a:moveTo>
                      <a:pt x="0" y="7418"/>
                    </a:moveTo>
                    <a:lnTo>
                      <a:pt x="109" y="7027"/>
                    </a:lnTo>
                    <a:lnTo>
                      <a:pt x="225" y="6626"/>
                    </a:lnTo>
                    <a:lnTo>
                      <a:pt x="364" y="6243"/>
                    </a:lnTo>
                    <a:lnTo>
                      <a:pt x="531" y="5868"/>
                    </a:lnTo>
                    <a:lnTo>
                      <a:pt x="700" y="5485"/>
                    </a:lnTo>
                    <a:lnTo>
                      <a:pt x="867" y="5137"/>
                    </a:lnTo>
                    <a:lnTo>
                      <a:pt x="1064" y="4770"/>
                    </a:lnTo>
                    <a:lnTo>
                      <a:pt x="1276" y="4438"/>
                    </a:lnTo>
                    <a:lnTo>
                      <a:pt x="1496" y="4106"/>
                    </a:lnTo>
                    <a:lnTo>
                      <a:pt x="1722" y="3773"/>
                    </a:lnTo>
                    <a:lnTo>
                      <a:pt x="1978" y="3457"/>
                    </a:lnTo>
                    <a:lnTo>
                      <a:pt x="2226" y="3159"/>
                    </a:lnTo>
                    <a:lnTo>
                      <a:pt x="2496" y="2877"/>
                    </a:lnTo>
                    <a:lnTo>
                      <a:pt x="2757" y="2597"/>
                    </a:lnTo>
                    <a:lnTo>
                      <a:pt x="3050" y="2332"/>
                    </a:lnTo>
                    <a:lnTo>
                      <a:pt x="3349" y="2086"/>
                    </a:lnTo>
                    <a:lnTo>
                      <a:pt x="3641" y="1838"/>
                    </a:lnTo>
                    <a:lnTo>
                      <a:pt x="3963" y="1616"/>
                    </a:lnTo>
                    <a:lnTo>
                      <a:pt x="4283" y="1404"/>
                    </a:lnTo>
                    <a:lnTo>
                      <a:pt x="4604" y="1209"/>
                    </a:lnTo>
                    <a:lnTo>
                      <a:pt x="4940" y="1004"/>
                    </a:lnTo>
                    <a:lnTo>
                      <a:pt x="5291" y="842"/>
                    </a:lnTo>
                    <a:lnTo>
                      <a:pt x="5641" y="697"/>
                    </a:lnTo>
                    <a:lnTo>
                      <a:pt x="5991" y="544"/>
                    </a:lnTo>
                    <a:lnTo>
                      <a:pt x="6356" y="425"/>
                    </a:lnTo>
                    <a:lnTo>
                      <a:pt x="6721" y="315"/>
                    </a:lnTo>
                    <a:lnTo>
                      <a:pt x="7101" y="212"/>
                    </a:lnTo>
                    <a:lnTo>
                      <a:pt x="7479" y="127"/>
                    </a:lnTo>
                    <a:lnTo>
                      <a:pt x="7858" y="85"/>
                    </a:lnTo>
                    <a:lnTo>
                      <a:pt x="8246" y="33"/>
                    </a:lnTo>
                    <a:lnTo>
                      <a:pt x="8624" y="0"/>
                    </a:lnTo>
                    <a:lnTo>
                      <a:pt x="9019" y="0"/>
                    </a:lnTo>
                    <a:lnTo>
                      <a:pt x="9421" y="15"/>
                    </a:lnTo>
                    <a:lnTo>
                      <a:pt x="9830" y="33"/>
                    </a:lnTo>
                    <a:lnTo>
                      <a:pt x="10224" y="85"/>
                    </a:lnTo>
                    <a:lnTo>
                      <a:pt x="10624" y="143"/>
                    </a:lnTo>
                    <a:lnTo>
                      <a:pt x="11018" y="229"/>
                    </a:lnTo>
                    <a:lnTo>
                      <a:pt x="11414" y="330"/>
                    </a:lnTo>
                    <a:lnTo>
                      <a:pt x="11793" y="460"/>
                    </a:lnTo>
                    <a:lnTo>
                      <a:pt x="12171" y="595"/>
                    </a:lnTo>
                    <a:lnTo>
                      <a:pt x="12544" y="739"/>
                    </a:lnTo>
                    <a:lnTo>
                      <a:pt x="12910" y="927"/>
                    </a:lnTo>
                    <a:lnTo>
                      <a:pt x="13274" y="1106"/>
                    </a:lnTo>
                    <a:lnTo>
                      <a:pt x="13625" y="1302"/>
                    </a:lnTo>
                    <a:lnTo>
                      <a:pt x="13974" y="1542"/>
                    </a:lnTo>
                    <a:lnTo>
                      <a:pt x="14310" y="1771"/>
                    </a:lnTo>
                    <a:lnTo>
                      <a:pt x="14631" y="2018"/>
                    </a:lnTo>
                    <a:lnTo>
                      <a:pt x="14939" y="2281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172280" y="317520"/>
                <a:ext cx="87480" cy="101520"/>
              </a:xfrm>
              <a:custGeom>
                <a:avLst/>
                <a:gdLst/>
                <a:ahLst/>
                <a:rect l="l" t="t" r="r" b="b"/>
                <a:pathLst>
                  <a:path w="242" h="283">
                    <a:moveTo>
                      <a:pt x="28" y="16"/>
                    </a:moveTo>
                    <a:lnTo>
                      <a:pt x="43" y="0"/>
                    </a:lnTo>
                    <a:lnTo>
                      <a:pt x="241" y="239"/>
                    </a:lnTo>
                    <a:lnTo>
                      <a:pt x="196" y="282"/>
                    </a:lnTo>
                    <a:lnTo>
                      <a:pt x="0" y="51"/>
                    </a:lnTo>
                    <a:lnTo>
                      <a:pt x="28" y="16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151760" y="385920"/>
              <a:ext cx="117360" cy="75960"/>
              <a:chOff x="7151760" y="385920"/>
              <a:chExt cx="117360" cy="75960"/>
            </a:xfrm>
          </p:grpSpPr>
          <p:sp>
            <p:nvSpPr>
              <p:cNvPr id="116" name=""/>
              <p:cNvSpPr/>
              <p:nvPr/>
            </p:nvSpPr>
            <p:spPr>
              <a:xfrm>
                <a:off x="7151760" y="396720"/>
                <a:ext cx="108000" cy="65160"/>
              </a:xfrm>
              <a:custGeom>
                <a:avLst/>
                <a:gdLst/>
                <a:ahLst/>
                <a:rect l="l" t="t" r="r" b="b"/>
                <a:pathLst>
                  <a:path w="298" h="181">
                    <a:moveTo>
                      <a:pt x="297" y="17"/>
                    </a:moveTo>
                    <a:lnTo>
                      <a:pt x="282" y="61"/>
                    </a:lnTo>
                    <a:lnTo>
                      <a:pt x="28" y="180"/>
                    </a:lnTo>
                    <a:lnTo>
                      <a:pt x="0" y="111"/>
                    </a:lnTo>
                    <a:lnTo>
                      <a:pt x="268" y="0"/>
                    </a:lnTo>
                    <a:lnTo>
                      <a:pt x="252" y="61"/>
                    </a:lnTo>
                    <a:lnTo>
                      <a:pt x="297" y="17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253280" y="404640"/>
                <a:ext cx="15840" cy="16200"/>
              </a:xfrm>
              <a:custGeom>
                <a:avLst/>
                <a:gdLst/>
                <a:ahLst/>
                <a:rect l="l" t="t" r="r" b="b"/>
                <a:pathLst>
                  <a:path w="46" h="44">
                    <a:moveTo>
                      <a:pt x="15" y="0"/>
                    </a:moveTo>
                    <a:lnTo>
                      <a:pt x="45" y="25"/>
                    </a:lnTo>
                    <a:lnTo>
                      <a:pt x="0" y="43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209000" y="385920"/>
                <a:ext cx="28440" cy="33120"/>
              </a:xfrm>
              <a:custGeom>
                <a:avLst/>
                <a:gdLst/>
                <a:ahLst/>
                <a:rect l="l" t="t" r="r" b="b"/>
                <a:pathLst>
                  <a:path w="79" h="94">
                    <a:moveTo>
                      <a:pt x="0" y="77"/>
                    </a:moveTo>
                    <a:lnTo>
                      <a:pt x="64" y="93"/>
                    </a:lnTo>
                    <a:lnTo>
                      <a:pt x="78" y="32"/>
                    </a:lnTo>
                    <a:lnTo>
                      <a:pt x="5" y="0"/>
                    </a:lnTo>
                    <a:lnTo>
                      <a:pt x="0" y="77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" name=""/>
          <p:cNvGrpSpPr/>
          <p:nvPr/>
        </p:nvGrpSpPr>
        <p:grpSpPr>
          <a:xfrm>
            <a:off x="3089160" y="1119240"/>
            <a:ext cx="5187960" cy="1817640"/>
            <a:chOff x="3089160" y="1119240"/>
            <a:chExt cx="5187960" cy="1817640"/>
          </a:xfrm>
        </p:grpSpPr>
        <p:grpSp>
          <p:nvGrpSpPr>
            <p:cNvPr id="120" name=""/>
            <p:cNvGrpSpPr/>
            <p:nvPr/>
          </p:nvGrpSpPr>
          <p:grpSpPr>
            <a:xfrm>
              <a:off x="3089160" y="1143000"/>
              <a:ext cx="5187960" cy="1793880"/>
              <a:chOff x="3089160" y="1143000"/>
              <a:chExt cx="5187960" cy="1793880"/>
            </a:xfrm>
          </p:grpSpPr>
          <p:sp>
            <p:nvSpPr>
              <p:cNvPr id="121" name=""/>
              <p:cNvSpPr/>
              <p:nvPr/>
            </p:nvSpPr>
            <p:spPr>
              <a:xfrm>
                <a:off x="3089160" y="1143000"/>
                <a:ext cx="5187960" cy="1793880"/>
              </a:xfrm>
              <a:custGeom>
                <a:avLst/>
                <a:gdLst/>
                <a:ahLst/>
                <a:rect l="l" t="t" r="r" b="b"/>
                <a:pathLst>
                  <a:path w="14409" h="4983">
                    <a:moveTo>
                      <a:pt x="0" y="4982"/>
                    </a:moveTo>
                    <a:lnTo>
                      <a:pt x="153" y="4700"/>
                    </a:lnTo>
                    <a:lnTo>
                      <a:pt x="334" y="4418"/>
                    </a:lnTo>
                    <a:lnTo>
                      <a:pt x="504" y="4155"/>
                    </a:lnTo>
                    <a:lnTo>
                      <a:pt x="700" y="3891"/>
                    </a:lnTo>
                    <a:lnTo>
                      <a:pt x="897" y="3643"/>
                    </a:lnTo>
                    <a:lnTo>
                      <a:pt x="1100" y="3396"/>
                    </a:lnTo>
                    <a:lnTo>
                      <a:pt x="1312" y="3141"/>
                    </a:lnTo>
                    <a:lnTo>
                      <a:pt x="1525" y="2911"/>
                    </a:lnTo>
                    <a:lnTo>
                      <a:pt x="1751" y="2699"/>
                    </a:lnTo>
                    <a:lnTo>
                      <a:pt x="1985" y="2487"/>
                    </a:lnTo>
                    <a:lnTo>
                      <a:pt x="2226" y="2265"/>
                    </a:lnTo>
                    <a:lnTo>
                      <a:pt x="2481" y="2067"/>
                    </a:lnTo>
                    <a:lnTo>
                      <a:pt x="2714" y="1873"/>
                    </a:lnTo>
                    <a:lnTo>
                      <a:pt x="2985" y="1686"/>
                    </a:lnTo>
                    <a:lnTo>
                      <a:pt x="3247" y="1523"/>
                    </a:lnTo>
                    <a:lnTo>
                      <a:pt x="3518" y="1353"/>
                    </a:lnTo>
                    <a:lnTo>
                      <a:pt x="3780" y="1191"/>
                    </a:lnTo>
                    <a:lnTo>
                      <a:pt x="4058" y="1038"/>
                    </a:lnTo>
                    <a:lnTo>
                      <a:pt x="4343" y="909"/>
                    </a:lnTo>
                    <a:lnTo>
                      <a:pt x="4619" y="773"/>
                    </a:lnTo>
                    <a:lnTo>
                      <a:pt x="4913" y="663"/>
                    </a:lnTo>
                    <a:lnTo>
                      <a:pt x="5210" y="544"/>
                    </a:lnTo>
                    <a:lnTo>
                      <a:pt x="5504" y="441"/>
                    </a:lnTo>
                    <a:lnTo>
                      <a:pt x="5810" y="347"/>
                    </a:lnTo>
                    <a:lnTo>
                      <a:pt x="6103" y="279"/>
                    </a:lnTo>
                    <a:lnTo>
                      <a:pt x="6415" y="194"/>
                    </a:lnTo>
                    <a:lnTo>
                      <a:pt x="6721" y="142"/>
                    </a:lnTo>
                    <a:lnTo>
                      <a:pt x="7030" y="91"/>
                    </a:lnTo>
                    <a:lnTo>
                      <a:pt x="7349" y="49"/>
                    </a:lnTo>
                    <a:lnTo>
                      <a:pt x="7655" y="32"/>
                    </a:lnTo>
                    <a:lnTo>
                      <a:pt x="7983" y="15"/>
                    </a:lnTo>
                    <a:lnTo>
                      <a:pt x="8303" y="0"/>
                    </a:lnTo>
                    <a:lnTo>
                      <a:pt x="8705" y="15"/>
                    </a:lnTo>
                    <a:lnTo>
                      <a:pt x="9130" y="49"/>
                    </a:lnTo>
                    <a:lnTo>
                      <a:pt x="9545" y="91"/>
                    </a:lnTo>
                    <a:lnTo>
                      <a:pt x="9954" y="159"/>
                    </a:lnTo>
                    <a:lnTo>
                      <a:pt x="10362" y="245"/>
                    </a:lnTo>
                    <a:lnTo>
                      <a:pt x="10765" y="347"/>
                    </a:lnTo>
                    <a:lnTo>
                      <a:pt x="11159" y="459"/>
                    </a:lnTo>
                    <a:lnTo>
                      <a:pt x="11553" y="595"/>
                    </a:lnTo>
                    <a:lnTo>
                      <a:pt x="11946" y="756"/>
                    </a:lnTo>
                    <a:lnTo>
                      <a:pt x="12319" y="926"/>
                    </a:lnTo>
                    <a:lnTo>
                      <a:pt x="12685" y="1106"/>
                    </a:lnTo>
                    <a:lnTo>
                      <a:pt x="13049" y="1318"/>
                    </a:lnTo>
                    <a:lnTo>
                      <a:pt x="13415" y="1540"/>
                    </a:lnTo>
                    <a:lnTo>
                      <a:pt x="13750" y="1771"/>
                    </a:lnTo>
                    <a:lnTo>
                      <a:pt x="14085" y="2034"/>
                    </a:lnTo>
                    <a:lnTo>
                      <a:pt x="14408" y="2298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6643800" y="1201680"/>
                <a:ext cx="106200" cy="68400"/>
              </a:xfrm>
              <a:custGeom>
                <a:avLst/>
                <a:gdLst/>
                <a:ahLst/>
                <a:rect l="l" t="t" r="r" b="b"/>
                <a:pathLst>
                  <a:path w="295" h="189">
                    <a:moveTo>
                      <a:pt x="294" y="16"/>
                    </a:moveTo>
                    <a:lnTo>
                      <a:pt x="278" y="68"/>
                    </a:lnTo>
                    <a:lnTo>
                      <a:pt x="22" y="188"/>
                    </a:lnTo>
                    <a:lnTo>
                      <a:pt x="0" y="121"/>
                    </a:lnTo>
                    <a:lnTo>
                      <a:pt x="264" y="0"/>
                    </a:lnTo>
                    <a:lnTo>
                      <a:pt x="249" y="68"/>
                    </a:lnTo>
                    <a:lnTo>
                      <a:pt x="294" y="16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6662880" y="1119240"/>
              <a:ext cx="98280" cy="108000"/>
              <a:chOff x="6662880" y="1119240"/>
              <a:chExt cx="98280" cy="108000"/>
            </a:xfrm>
          </p:grpSpPr>
          <p:sp>
            <p:nvSpPr>
              <p:cNvPr id="124" name=""/>
              <p:cNvSpPr/>
              <p:nvPr/>
            </p:nvSpPr>
            <p:spPr>
              <a:xfrm>
                <a:off x="6743880" y="120636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47" h="55">
                    <a:moveTo>
                      <a:pt x="14" y="0"/>
                    </a:moveTo>
                    <a:lnTo>
                      <a:pt x="46" y="34"/>
                    </a:lnTo>
                    <a:lnTo>
                      <a:pt x="0" y="54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662880" y="1119240"/>
                <a:ext cx="87120" cy="108000"/>
              </a:xfrm>
              <a:custGeom>
                <a:avLst/>
                <a:gdLst/>
                <a:ahLst/>
                <a:rect l="l" t="t" r="r" b="b"/>
                <a:pathLst>
                  <a:path w="244" h="298">
                    <a:moveTo>
                      <a:pt x="29" y="32"/>
                    </a:moveTo>
                    <a:lnTo>
                      <a:pt x="44" y="0"/>
                    </a:lnTo>
                    <a:lnTo>
                      <a:pt x="243" y="245"/>
                    </a:lnTo>
                    <a:lnTo>
                      <a:pt x="198" y="297"/>
                    </a:lnTo>
                    <a:lnTo>
                      <a:pt x="0" y="49"/>
                    </a:lnTo>
                    <a:lnTo>
                      <a:pt x="29" y="32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699240" y="1189080"/>
                <a:ext cx="30240" cy="31680"/>
              </a:xfrm>
              <a:custGeom>
                <a:avLst/>
                <a:gdLst/>
                <a:ahLst/>
                <a:rect l="l" t="t" r="r" b="b"/>
                <a:pathLst>
                  <a:path w="83" h="88">
                    <a:moveTo>
                      <a:pt x="0" y="69"/>
                    </a:moveTo>
                    <a:lnTo>
                      <a:pt x="65" y="87"/>
                    </a:lnTo>
                    <a:lnTo>
                      <a:pt x="82" y="17"/>
                    </a:lnTo>
                    <a:lnTo>
                      <a:pt x="16" y="0"/>
                    </a:lnTo>
                    <a:lnTo>
                      <a:pt x="0" y="69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7" name=""/>
          <p:cNvGrpSpPr/>
          <p:nvPr/>
        </p:nvGrpSpPr>
        <p:grpSpPr>
          <a:xfrm>
            <a:off x="3149640" y="1768320"/>
            <a:ext cx="5319720" cy="1892520"/>
            <a:chOff x="3149640" y="1768320"/>
            <a:chExt cx="5319720" cy="1892520"/>
          </a:xfrm>
        </p:grpSpPr>
        <p:grpSp>
          <p:nvGrpSpPr>
            <p:cNvPr id="128" name=""/>
            <p:cNvGrpSpPr/>
            <p:nvPr/>
          </p:nvGrpSpPr>
          <p:grpSpPr>
            <a:xfrm>
              <a:off x="6129360" y="1774800"/>
              <a:ext cx="115920" cy="144360"/>
              <a:chOff x="6129360" y="1774800"/>
              <a:chExt cx="115920" cy="144360"/>
            </a:xfrm>
          </p:grpSpPr>
          <p:sp>
            <p:nvSpPr>
              <p:cNvPr id="129" name=""/>
              <p:cNvSpPr/>
              <p:nvPr/>
            </p:nvSpPr>
            <p:spPr>
              <a:xfrm>
                <a:off x="6129360" y="1852560"/>
                <a:ext cx="106200" cy="66600"/>
              </a:xfrm>
              <a:custGeom>
                <a:avLst/>
                <a:gdLst/>
                <a:ahLst/>
                <a:rect l="l" t="t" r="r" b="b"/>
                <a:pathLst>
                  <a:path w="295" h="187">
                    <a:moveTo>
                      <a:pt x="294" y="15"/>
                    </a:moveTo>
                    <a:lnTo>
                      <a:pt x="278" y="66"/>
                    </a:lnTo>
                    <a:lnTo>
                      <a:pt x="13" y="186"/>
                    </a:lnTo>
                    <a:lnTo>
                      <a:pt x="0" y="119"/>
                    </a:lnTo>
                    <a:lnTo>
                      <a:pt x="249" y="0"/>
                    </a:lnTo>
                    <a:lnTo>
                      <a:pt x="249" y="66"/>
                    </a:lnTo>
                    <a:lnTo>
                      <a:pt x="294" y="15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229440" y="185724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46" h="55">
                    <a:moveTo>
                      <a:pt x="15" y="0"/>
                    </a:moveTo>
                    <a:lnTo>
                      <a:pt x="45" y="34"/>
                    </a:lnTo>
                    <a:lnTo>
                      <a:pt x="0" y="54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149880" y="1774800"/>
                <a:ext cx="85680" cy="103320"/>
              </a:xfrm>
              <a:custGeom>
                <a:avLst/>
                <a:gdLst/>
                <a:ahLst/>
                <a:rect l="l" t="t" r="r" b="b"/>
                <a:pathLst>
                  <a:path w="237" h="286">
                    <a:moveTo>
                      <a:pt x="13" y="17"/>
                    </a:moveTo>
                    <a:lnTo>
                      <a:pt x="37" y="0"/>
                    </a:lnTo>
                    <a:lnTo>
                      <a:pt x="236" y="232"/>
                    </a:lnTo>
                    <a:lnTo>
                      <a:pt x="191" y="285"/>
                    </a:lnTo>
                    <a:lnTo>
                      <a:pt x="0" y="34"/>
                    </a:lnTo>
                    <a:lnTo>
                      <a:pt x="13" y="17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3149640" y="1768320"/>
              <a:ext cx="5319720" cy="1892520"/>
              <a:chOff x="3149640" y="1768320"/>
              <a:chExt cx="5319720" cy="1892520"/>
            </a:xfrm>
          </p:grpSpPr>
          <p:sp>
            <p:nvSpPr>
              <p:cNvPr id="133" name=""/>
              <p:cNvSpPr/>
              <p:nvPr/>
            </p:nvSpPr>
            <p:spPr>
              <a:xfrm>
                <a:off x="3149640" y="1768320"/>
                <a:ext cx="5319720" cy="1892520"/>
              </a:xfrm>
              <a:custGeom>
                <a:avLst/>
                <a:gdLst/>
                <a:ahLst/>
                <a:rect l="l" t="t" r="r" b="b"/>
                <a:pathLst>
                  <a:path w="14775" h="5257">
                    <a:moveTo>
                      <a:pt x="0" y="3183"/>
                    </a:moveTo>
                    <a:lnTo>
                      <a:pt x="247" y="2885"/>
                    </a:lnTo>
                    <a:lnTo>
                      <a:pt x="503" y="2590"/>
                    </a:lnTo>
                    <a:lnTo>
                      <a:pt x="780" y="2316"/>
                    </a:lnTo>
                    <a:lnTo>
                      <a:pt x="1065" y="2053"/>
                    </a:lnTo>
                    <a:lnTo>
                      <a:pt x="1342" y="1806"/>
                    </a:lnTo>
                    <a:lnTo>
                      <a:pt x="1649" y="1576"/>
                    </a:lnTo>
                    <a:lnTo>
                      <a:pt x="1949" y="1362"/>
                    </a:lnTo>
                    <a:lnTo>
                      <a:pt x="2269" y="1157"/>
                    </a:lnTo>
                    <a:lnTo>
                      <a:pt x="2591" y="979"/>
                    </a:lnTo>
                    <a:lnTo>
                      <a:pt x="2912" y="809"/>
                    </a:lnTo>
                    <a:lnTo>
                      <a:pt x="3248" y="665"/>
                    </a:lnTo>
                    <a:lnTo>
                      <a:pt x="3584" y="510"/>
                    </a:lnTo>
                    <a:lnTo>
                      <a:pt x="3935" y="400"/>
                    </a:lnTo>
                    <a:lnTo>
                      <a:pt x="4283" y="297"/>
                    </a:lnTo>
                    <a:lnTo>
                      <a:pt x="4634" y="195"/>
                    </a:lnTo>
                    <a:lnTo>
                      <a:pt x="4998" y="136"/>
                    </a:lnTo>
                    <a:lnTo>
                      <a:pt x="5365" y="85"/>
                    </a:lnTo>
                    <a:lnTo>
                      <a:pt x="5729" y="34"/>
                    </a:lnTo>
                    <a:lnTo>
                      <a:pt x="6094" y="15"/>
                    </a:lnTo>
                    <a:lnTo>
                      <a:pt x="6452" y="0"/>
                    </a:lnTo>
                    <a:lnTo>
                      <a:pt x="6830" y="15"/>
                    </a:lnTo>
                    <a:lnTo>
                      <a:pt x="7197" y="34"/>
                    </a:lnTo>
                    <a:lnTo>
                      <a:pt x="7575" y="85"/>
                    </a:lnTo>
                    <a:lnTo>
                      <a:pt x="7954" y="136"/>
                    </a:lnTo>
                    <a:lnTo>
                      <a:pt x="8321" y="212"/>
                    </a:lnTo>
                    <a:lnTo>
                      <a:pt x="8693" y="315"/>
                    </a:lnTo>
                    <a:lnTo>
                      <a:pt x="9057" y="417"/>
                    </a:lnTo>
                    <a:lnTo>
                      <a:pt x="9423" y="545"/>
                    </a:lnTo>
                    <a:lnTo>
                      <a:pt x="9787" y="697"/>
                    </a:lnTo>
                    <a:lnTo>
                      <a:pt x="10153" y="843"/>
                    </a:lnTo>
                    <a:lnTo>
                      <a:pt x="10517" y="1030"/>
                    </a:lnTo>
                    <a:lnTo>
                      <a:pt x="10868" y="1227"/>
                    </a:lnTo>
                    <a:lnTo>
                      <a:pt x="11160" y="1404"/>
                    </a:lnTo>
                    <a:lnTo>
                      <a:pt x="11452" y="1591"/>
                    </a:lnTo>
                    <a:lnTo>
                      <a:pt x="11737" y="1806"/>
                    </a:lnTo>
                    <a:lnTo>
                      <a:pt x="12013" y="2011"/>
                    </a:lnTo>
                    <a:lnTo>
                      <a:pt x="12284" y="2240"/>
                    </a:lnTo>
                    <a:lnTo>
                      <a:pt x="12545" y="2470"/>
                    </a:lnTo>
                    <a:lnTo>
                      <a:pt x="12817" y="2716"/>
                    </a:lnTo>
                    <a:lnTo>
                      <a:pt x="13066" y="2963"/>
                    </a:lnTo>
                    <a:lnTo>
                      <a:pt x="13305" y="3227"/>
                    </a:lnTo>
                    <a:lnTo>
                      <a:pt x="13539" y="3500"/>
                    </a:lnTo>
                    <a:lnTo>
                      <a:pt x="13765" y="3779"/>
                    </a:lnTo>
                    <a:lnTo>
                      <a:pt x="13992" y="4061"/>
                    </a:lnTo>
                    <a:lnTo>
                      <a:pt x="14204" y="4359"/>
                    </a:lnTo>
                    <a:lnTo>
                      <a:pt x="14393" y="4658"/>
                    </a:lnTo>
                    <a:lnTo>
                      <a:pt x="14590" y="4955"/>
                    </a:lnTo>
                    <a:lnTo>
                      <a:pt x="14774" y="5256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183360" y="1839960"/>
                <a:ext cx="27000" cy="38160"/>
              </a:xfrm>
              <a:custGeom>
                <a:avLst/>
                <a:gdLst/>
                <a:ahLst/>
                <a:rect l="l" t="t" r="r" b="b"/>
                <a:pathLst>
                  <a:path w="75" h="106">
                    <a:moveTo>
                      <a:pt x="0" y="70"/>
                    </a:moveTo>
                    <a:lnTo>
                      <a:pt x="74" y="105"/>
                    </a:lnTo>
                    <a:lnTo>
                      <a:pt x="74" y="18"/>
                    </a:lnTo>
                    <a:lnTo>
                      <a:pt x="15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5" name=""/>
          <p:cNvGrpSpPr/>
          <p:nvPr/>
        </p:nvGrpSpPr>
        <p:grpSpPr>
          <a:xfrm>
            <a:off x="3154320" y="2054160"/>
            <a:ext cx="3382920" cy="876240"/>
            <a:chOff x="3154320" y="2054160"/>
            <a:chExt cx="3382920" cy="876240"/>
          </a:xfrm>
        </p:grpSpPr>
        <p:grpSp>
          <p:nvGrpSpPr>
            <p:cNvPr id="136" name=""/>
            <p:cNvGrpSpPr/>
            <p:nvPr/>
          </p:nvGrpSpPr>
          <p:grpSpPr>
            <a:xfrm>
              <a:off x="3154320" y="2054160"/>
              <a:ext cx="3382920" cy="876240"/>
              <a:chOff x="3154320" y="2054160"/>
              <a:chExt cx="3382920" cy="876240"/>
            </a:xfrm>
          </p:grpSpPr>
          <p:sp>
            <p:nvSpPr>
              <p:cNvPr id="137" name=""/>
              <p:cNvSpPr/>
              <p:nvPr/>
            </p:nvSpPr>
            <p:spPr>
              <a:xfrm>
                <a:off x="3154320" y="2054160"/>
                <a:ext cx="3382920" cy="876240"/>
              </a:xfrm>
              <a:custGeom>
                <a:avLst/>
                <a:gdLst/>
                <a:ahLst/>
                <a:rect l="l" t="t" r="r" b="b"/>
                <a:pathLst>
                  <a:path w="9396" h="2436">
                    <a:moveTo>
                      <a:pt x="0" y="2435"/>
                    </a:moveTo>
                    <a:lnTo>
                      <a:pt x="210" y="2153"/>
                    </a:lnTo>
                    <a:lnTo>
                      <a:pt x="446" y="1906"/>
                    </a:lnTo>
                    <a:lnTo>
                      <a:pt x="715" y="1659"/>
                    </a:lnTo>
                    <a:lnTo>
                      <a:pt x="992" y="1427"/>
                    </a:lnTo>
                    <a:lnTo>
                      <a:pt x="1285" y="1219"/>
                    </a:lnTo>
                    <a:lnTo>
                      <a:pt x="1612" y="1014"/>
                    </a:lnTo>
                    <a:lnTo>
                      <a:pt x="1948" y="835"/>
                    </a:lnTo>
                    <a:lnTo>
                      <a:pt x="2284" y="664"/>
                    </a:lnTo>
                    <a:lnTo>
                      <a:pt x="2642" y="520"/>
                    </a:lnTo>
                    <a:lnTo>
                      <a:pt x="3007" y="382"/>
                    </a:lnTo>
                    <a:lnTo>
                      <a:pt x="3387" y="272"/>
                    </a:lnTo>
                    <a:lnTo>
                      <a:pt x="3780" y="170"/>
                    </a:lnTo>
                    <a:lnTo>
                      <a:pt x="4189" y="100"/>
                    </a:lnTo>
                    <a:lnTo>
                      <a:pt x="4577" y="32"/>
                    </a:lnTo>
                    <a:lnTo>
                      <a:pt x="5000" y="0"/>
                    </a:lnTo>
                    <a:lnTo>
                      <a:pt x="5402" y="0"/>
                    </a:lnTo>
                    <a:lnTo>
                      <a:pt x="5687" y="0"/>
                    </a:lnTo>
                    <a:lnTo>
                      <a:pt x="5948" y="15"/>
                    </a:lnTo>
                    <a:lnTo>
                      <a:pt x="6220" y="32"/>
                    </a:lnTo>
                    <a:lnTo>
                      <a:pt x="6481" y="68"/>
                    </a:lnTo>
                    <a:lnTo>
                      <a:pt x="6753" y="118"/>
                    </a:lnTo>
                    <a:lnTo>
                      <a:pt x="7016" y="170"/>
                    </a:lnTo>
                    <a:lnTo>
                      <a:pt x="7271" y="220"/>
                    </a:lnTo>
                    <a:lnTo>
                      <a:pt x="7534" y="290"/>
                    </a:lnTo>
                    <a:lnTo>
                      <a:pt x="7789" y="365"/>
                    </a:lnTo>
                    <a:lnTo>
                      <a:pt x="8022" y="452"/>
                    </a:lnTo>
                    <a:lnTo>
                      <a:pt x="8279" y="554"/>
                    </a:lnTo>
                    <a:lnTo>
                      <a:pt x="8504" y="647"/>
                    </a:lnTo>
                    <a:lnTo>
                      <a:pt x="8739" y="750"/>
                    </a:lnTo>
                    <a:lnTo>
                      <a:pt x="8965" y="869"/>
                    </a:lnTo>
                    <a:lnTo>
                      <a:pt x="9191" y="996"/>
                    </a:lnTo>
                    <a:lnTo>
                      <a:pt x="9395" y="1117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892840" y="2185920"/>
                <a:ext cx="106200" cy="68400"/>
              </a:xfrm>
              <a:custGeom>
                <a:avLst/>
                <a:gdLst/>
                <a:ahLst/>
                <a:rect l="l" t="t" r="r" b="b"/>
                <a:pathLst>
                  <a:path w="296" h="188">
                    <a:moveTo>
                      <a:pt x="295" y="0"/>
                    </a:moveTo>
                    <a:lnTo>
                      <a:pt x="281" y="68"/>
                    </a:lnTo>
                    <a:lnTo>
                      <a:pt x="28" y="187"/>
                    </a:lnTo>
                    <a:lnTo>
                      <a:pt x="0" y="119"/>
                    </a:lnTo>
                    <a:lnTo>
                      <a:pt x="265" y="0"/>
                    </a:lnTo>
                    <a:lnTo>
                      <a:pt x="250" y="50"/>
                    </a:lnTo>
                    <a:lnTo>
                      <a:pt x="295" y="0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5911920" y="2103480"/>
              <a:ext cx="96840" cy="108000"/>
              <a:chOff x="5911920" y="2103480"/>
              <a:chExt cx="96840" cy="108000"/>
            </a:xfrm>
          </p:grpSpPr>
          <p:sp>
            <p:nvSpPr>
              <p:cNvPr id="140" name=""/>
              <p:cNvSpPr/>
              <p:nvPr/>
            </p:nvSpPr>
            <p:spPr>
              <a:xfrm>
                <a:off x="5992920" y="2185920"/>
                <a:ext cx="15840" cy="25560"/>
              </a:xfrm>
              <a:custGeom>
                <a:avLst/>
                <a:gdLst/>
                <a:ahLst/>
                <a:rect l="l" t="t" r="r" b="b"/>
                <a:pathLst>
                  <a:path w="46" h="71">
                    <a:moveTo>
                      <a:pt x="15" y="0"/>
                    </a:moveTo>
                    <a:lnTo>
                      <a:pt x="45" y="52"/>
                    </a:lnTo>
                    <a:lnTo>
                      <a:pt x="0" y="70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911920" y="2103480"/>
                <a:ext cx="87120" cy="101520"/>
              </a:xfrm>
              <a:custGeom>
                <a:avLst/>
                <a:gdLst/>
                <a:ahLst/>
                <a:rect l="l" t="t" r="r" b="b"/>
                <a:pathLst>
                  <a:path w="242" h="283">
                    <a:moveTo>
                      <a:pt x="27" y="33"/>
                    </a:moveTo>
                    <a:lnTo>
                      <a:pt x="43" y="0"/>
                    </a:lnTo>
                    <a:lnTo>
                      <a:pt x="241" y="230"/>
                    </a:lnTo>
                    <a:lnTo>
                      <a:pt x="196" y="282"/>
                    </a:lnTo>
                    <a:lnTo>
                      <a:pt x="0" y="50"/>
                    </a:lnTo>
                    <a:lnTo>
                      <a:pt x="27" y="33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948280" y="2173320"/>
                <a:ext cx="28800" cy="31680"/>
              </a:xfrm>
              <a:custGeom>
                <a:avLst/>
                <a:gdLst/>
                <a:ahLst/>
                <a:rect l="l" t="t" r="r" b="b"/>
                <a:pathLst>
                  <a:path w="79" h="90">
                    <a:moveTo>
                      <a:pt x="0" y="70"/>
                    </a:moveTo>
                    <a:lnTo>
                      <a:pt x="65" y="89"/>
                    </a:lnTo>
                    <a:lnTo>
                      <a:pt x="78" y="18"/>
                    </a:lnTo>
                    <a:lnTo>
                      <a:pt x="14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3017880" y="3535200"/>
            <a:ext cx="3227400" cy="704880"/>
            <a:chOff x="3017880" y="3535200"/>
            <a:chExt cx="3227400" cy="704880"/>
          </a:xfrm>
        </p:grpSpPr>
        <p:grpSp>
          <p:nvGrpSpPr>
            <p:cNvPr id="144" name=""/>
            <p:cNvGrpSpPr/>
            <p:nvPr/>
          </p:nvGrpSpPr>
          <p:grpSpPr>
            <a:xfrm>
              <a:off x="3017880" y="3535200"/>
              <a:ext cx="3227400" cy="704880"/>
              <a:chOff x="3017880" y="3535200"/>
              <a:chExt cx="3227400" cy="704880"/>
            </a:xfrm>
          </p:grpSpPr>
          <p:sp>
            <p:nvSpPr>
              <p:cNvPr id="145" name=""/>
              <p:cNvSpPr/>
              <p:nvPr/>
            </p:nvSpPr>
            <p:spPr>
              <a:xfrm>
                <a:off x="3017880" y="3535200"/>
                <a:ext cx="3227400" cy="704880"/>
              </a:xfrm>
              <a:custGeom>
                <a:avLst/>
                <a:gdLst/>
                <a:ahLst/>
                <a:rect l="l" t="t" r="r" b="b"/>
                <a:pathLst>
                  <a:path w="8964" h="1959">
                    <a:moveTo>
                      <a:pt x="8963" y="0"/>
                    </a:moveTo>
                    <a:lnTo>
                      <a:pt x="8778" y="178"/>
                    </a:lnTo>
                    <a:lnTo>
                      <a:pt x="8567" y="350"/>
                    </a:lnTo>
                    <a:lnTo>
                      <a:pt x="8334" y="527"/>
                    </a:lnTo>
                    <a:lnTo>
                      <a:pt x="8079" y="699"/>
                    </a:lnTo>
                    <a:lnTo>
                      <a:pt x="7815" y="844"/>
                    </a:lnTo>
                    <a:lnTo>
                      <a:pt x="7531" y="993"/>
                    </a:lnTo>
                    <a:lnTo>
                      <a:pt x="7224" y="1121"/>
                    </a:lnTo>
                    <a:lnTo>
                      <a:pt x="6904" y="1256"/>
                    </a:lnTo>
                    <a:lnTo>
                      <a:pt x="6568" y="1386"/>
                    </a:lnTo>
                    <a:lnTo>
                      <a:pt x="6231" y="1489"/>
                    </a:lnTo>
                    <a:lnTo>
                      <a:pt x="5866" y="1591"/>
                    </a:lnTo>
                    <a:lnTo>
                      <a:pt x="5502" y="1684"/>
                    </a:lnTo>
                    <a:lnTo>
                      <a:pt x="5122" y="1751"/>
                    </a:lnTo>
                    <a:lnTo>
                      <a:pt x="4742" y="1820"/>
                    </a:lnTo>
                    <a:lnTo>
                      <a:pt x="4358" y="1871"/>
                    </a:lnTo>
                    <a:lnTo>
                      <a:pt x="3949" y="1923"/>
                    </a:lnTo>
                    <a:lnTo>
                      <a:pt x="3430" y="1958"/>
                    </a:lnTo>
                    <a:lnTo>
                      <a:pt x="2897" y="1958"/>
                    </a:lnTo>
                    <a:lnTo>
                      <a:pt x="2378" y="1940"/>
                    </a:lnTo>
                    <a:lnTo>
                      <a:pt x="1876" y="1906"/>
                    </a:lnTo>
                    <a:lnTo>
                      <a:pt x="1385" y="1838"/>
                    </a:lnTo>
                    <a:lnTo>
                      <a:pt x="897" y="1751"/>
                    </a:lnTo>
                    <a:lnTo>
                      <a:pt x="437" y="1658"/>
                    </a:lnTo>
                    <a:lnTo>
                      <a:pt x="0" y="1538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351400" y="3968640"/>
                <a:ext cx="93600" cy="88920"/>
              </a:xfrm>
              <a:custGeom>
                <a:avLst/>
                <a:gdLst/>
                <a:ahLst/>
                <a:rect l="l" t="t" r="r" b="b"/>
                <a:pathLst>
                  <a:path w="258" h="247">
                    <a:moveTo>
                      <a:pt x="0" y="246"/>
                    </a:moveTo>
                    <a:lnTo>
                      <a:pt x="0" y="178"/>
                    </a:lnTo>
                    <a:lnTo>
                      <a:pt x="227" y="0"/>
                    </a:lnTo>
                    <a:lnTo>
                      <a:pt x="257" y="49"/>
                    </a:lnTo>
                    <a:lnTo>
                      <a:pt x="29" y="246"/>
                    </a:lnTo>
                    <a:lnTo>
                      <a:pt x="29" y="178"/>
                    </a:lnTo>
                    <a:lnTo>
                      <a:pt x="0" y="246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5338800" y="4027320"/>
              <a:ext cx="109440" cy="92160"/>
              <a:chOff x="5338800" y="4027320"/>
              <a:chExt cx="109440" cy="92160"/>
            </a:xfrm>
          </p:grpSpPr>
          <p:sp>
            <p:nvSpPr>
              <p:cNvPr id="148" name=""/>
              <p:cNvSpPr/>
              <p:nvPr/>
            </p:nvSpPr>
            <p:spPr>
              <a:xfrm>
                <a:off x="5338800" y="4033800"/>
                <a:ext cx="14400" cy="25560"/>
              </a:xfrm>
              <a:custGeom>
                <a:avLst/>
                <a:gdLst/>
                <a:ahLst/>
                <a:rect l="l" t="t" r="r" b="b"/>
                <a:pathLst>
                  <a:path w="39" h="71">
                    <a:moveTo>
                      <a:pt x="38" y="70"/>
                    </a:moveTo>
                    <a:lnTo>
                      <a:pt x="0" y="35"/>
                    </a:lnTo>
                    <a:lnTo>
                      <a:pt x="38" y="0"/>
                    </a:lnTo>
                    <a:lnTo>
                      <a:pt x="38" y="70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351400" y="4033800"/>
                <a:ext cx="96840" cy="85680"/>
              </a:xfrm>
              <a:custGeom>
                <a:avLst/>
                <a:gdLst/>
                <a:ahLst/>
                <a:rect l="l" t="t" r="r" b="b"/>
                <a:pathLst>
                  <a:path w="270" h="240">
                    <a:moveTo>
                      <a:pt x="254" y="205"/>
                    </a:moveTo>
                    <a:lnTo>
                      <a:pt x="240" y="239"/>
                    </a:lnTo>
                    <a:lnTo>
                      <a:pt x="0" y="67"/>
                    </a:lnTo>
                    <a:lnTo>
                      <a:pt x="28" y="0"/>
                    </a:lnTo>
                    <a:lnTo>
                      <a:pt x="269" y="170"/>
                    </a:lnTo>
                    <a:lnTo>
                      <a:pt x="254" y="205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372280" y="4027320"/>
                <a:ext cx="26640" cy="32040"/>
              </a:xfrm>
              <a:custGeom>
                <a:avLst/>
                <a:gdLst/>
                <a:ahLst/>
                <a:rect l="l" t="t" r="r" b="b"/>
                <a:pathLst>
                  <a:path w="73" h="89">
                    <a:moveTo>
                      <a:pt x="72" y="0"/>
                    </a:moveTo>
                    <a:lnTo>
                      <a:pt x="0" y="18"/>
                    </a:lnTo>
                    <a:lnTo>
                      <a:pt x="0" y="88"/>
                    </a:lnTo>
                    <a:lnTo>
                      <a:pt x="72" y="88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" name=""/>
          <p:cNvGrpSpPr/>
          <p:nvPr/>
        </p:nvGrpSpPr>
        <p:grpSpPr>
          <a:xfrm>
            <a:off x="2997360" y="1189080"/>
            <a:ext cx="5497200" cy="3727440"/>
            <a:chOff x="2997360" y="1189080"/>
            <a:chExt cx="5497200" cy="3727440"/>
          </a:xfrm>
        </p:grpSpPr>
        <p:grpSp>
          <p:nvGrpSpPr>
            <p:cNvPr id="152" name=""/>
            <p:cNvGrpSpPr/>
            <p:nvPr/>
          </p:nvGrpSpPr>
          <p:grpSpPr>
            <a:xfrm>
              <a:off x="2997360" y="1189080"/>
              <a:ext cx="5497200" cy="3727440"/>
              <a:chOff x="2997360" y="1189080"/>
              <a:chExt cx="5497200" cy="3727440"/>
            </a:xfrm>
          </p:grpSpPr>
          <p:sp>
            <p:nvSpPr>
              <p:cNvPr id="153" name=""/>
              <p:cNvSpPr/>
              <p:nvPr/>
            </p:nvSpPr>
            <p:spPr>
              <a:xfrm>
                <a:off x="2997360" y="1189080"/>
                <a:ext cx="5497200" cy="3727440"/>
              </a:xfrm>
              <a:custGeom>
                <a:avLst/>
                <a:gdLst/>
                <a:ahLst/>
                <a:rect l="l" t="t" r="r" b="b"/>
                <a:pathLst>
                  <a:path w="15270" h="10356">
                    <a:moveTo>
                      <a:pt x="15269" y="0"/>
                    </a:moveTo>
                    <a:lnTo>
                      <a:pt x="15239" y="365"/>
                    </a:lnTo>
                    <a:lnTo>
                      <a:pt x="15180" y="731"/>
                    </a:lnTo>
                    <a:lnTo>
                      <a:pt x="15129" y="1097"/>
                    </a:lnTo>
                    <a:lnTo>
                      <a:pt x="15056" y="1464"/>
                    </a:lnTo>
                    <a:lnTo>
                      <a:pt x="14976" y="1803"/>
                    </a:lnTo>
                    <a:lnTo>
                      <a:pt x="14873" y="2170"/>
                    </a:lnTo>
                    <a:lnTo>
                      <a:pt x="14778" y="2519"/>
                    </a:lnTo>
                    <a:lnTo>
                      <a:pt x="14648" y="2869"/>
                    </a:lnTo>
                    <a:lnTo>
                      <a:pt x="14524" y="3219"/>
                    </a:lnTo>
                    <a:lnTo>
                      <a:pt x="14385" y="3551"/>
                    </a:lnTo>
                    <a:lnTo>
                      <a:pt x="14231" y="3898"/>
                    </a:lnTo>
                    <a:lnTo>
                      <a:pt x="14063" y="4231"/>
                    </a:lnTo>
                    <a:lnTo>
                      <a:pt x="13881" y="4555"/>
                    </a:lnTo>
                    <a:lnTo>
                      <a:pt x="13685" y="4888"/>
                    </a:lnTo>
                    <a:lnTo>
                      <a:pt x="13472" y="5200"/>
                    </a:lnTo>
                    <a:lnTo>
                      <a:pt x="13261" y="5516"/>
                    </a:lnTo>
                    <a:lnTo>
                      <a:pt x="13028" y="5832"/>
                    </a:lnTo>
                    <a:lnTo>
                      <a:pt x="12785" y="6129"/>
                    </a:lnTo>
                    <a:lnTo>
                      <a:pt x="12537" y="6444"/>
                    </a:lnTo>
                    <a:lnTo>
                      <a:pt x="12268" y="6743"/>
                    </a:lnTo>
                    <a:lnTo>
                      <a:pt x="11977" y="7023"/>
                    </a:lnTo>
                    <a:lnTo>
                      <a:pt x="11684" y="7305"/>
                    </a:lnTo>
                    <a:lnTo>
                      <a:pt x="11369" y="7586"/>
                    </a:lnTo>
                    <a:lnTo>
                      <a:pt x="11048" y="7874"/>
                    </a:lnTo>
                    <a:lnTo>
                      <a:pt x="10713" y="8139"/>
                    </a:lnTo>
                    <a:lnTo>
                      <a:pt x="10362" y="8387"/>
                    </a:lnTo>
                    <a:lnTo>
                      <a:pt x="9997" y="8649"/>
                    </a:lnTo>
                    <a:lnTo>
                      <a:pt x="9625" y="8897"/>
                    </a:lnTo>
                    <a:lnTo>
                      <a:pt x="9231" y="9126"/>
                    </a:lnTo>
                    <a:lnTo>
                      <a:pt x="8822" y="9366"/>
                    </a:lnTo>
                    <a:lnTo>
                      <a:pt x="8406" y="9596"/>
                    </a:lnTo>
                    <a:lnTo>
                      <a:pt x="7967" y="9808"/>
                    </a:lnTo>
                    <a:lnTo>
                      <a:pt x="7785" y="9893"/>
                    </a:lnTo>
                    <a:lnTo>
                      <a:pt x="7561" y="9978"/>
                    </a:lnTo>
                    <a:lnTo>
                      <a:pt x="7327" y="10037"/>
                    </a:lnTo>
                    <a:lnTo>
                      <a:pt x="7072" y="10123"/>
                    </a:lnTo>
                    <a:lnTo>
                      <a:pt x="6794" y="10175"/>
                    </a:lnTo>
                    <a:lnTo>
                      <a:pt x="6503" y="10242"/>
                    </a:lnTo>
                    <a:lnTo>
                      <a:pt x="6203" y="10295"/>
                    </a:lnTo>
                    <a:lnTo>
                      <a:pt x="5897" y="10327"/>
                    </a:lnTo>
                    <a:lnTo>
                      <a:pt x="5591" y="10355"/>
                    </a:lnTo>
                    <a:lnTo>
                      <a:pt x="5299" y="10355"/>
                    </a:lnTo>
                    <a:lnTo>
                      <a:pt x="4998" y="10355"/>
                    </a:lnTo>
                    <a:lnTo>
                      <a:pt x="4722" y="10338"/>
                    </a:lnTo>
                    <a:lnTo>
                      <a:pt x="4458" y="10310"/>
                    </a:lnTo>
                    <a:lnTo>
                      <a:pt x="4219" y="10242"/>
                    </a:lnTo>
                    <a:lnTo>
                      <a:pt x="3993" y="10158"/>
                    </a:lnTo>
                    <a:lnTo>
                      <a:pt x="3795" y="10056"/>
                    </a:lnTo>
                    <a:lnTo>
                      <a:pt x="3489" y="9860"/>
                    </a:lnTo>
                    <a:lnTo>
                      <a:pt x="3044" y="9578"/>
                    </a:lnTo>
                    <a:lnTo>
                      <a:pt x="2481" y="9229"/>
                    </a:lnTo>
                    <a:lnTo>
                      <a:pt x="1867" y="8881"/>
                    </a:lnTo>
                    <a:lnTo>
                      <a:pt x="1570" y="8702"/>
                    </a:lnTo>
                    <a:lnTo>
                      <a:pt x="1261" y="8548"/>
                    </a:lnTo>
                    <a:lnTo>
                      <a:pt x="985" y="8404"/>
                    </a:lnTo>
                    <a:lnTo>
                      <a:pt x="715" y="8285"/>
                    </a:lnTo>
                    <a:lnTo>
                      <a:pt x="495" y="8199"/>
                    </a:lnTo>
                    <a:lnTo>
                      <a:pt x="283" y="8139"/>
                    </a:lnTo>
                    <a:lnTo>
                      <a:pt x="197" y="8139"/>
                    </a:lnTo>
                    <a:lnTo>
                      <a:pt x="116" y="8122"/>
                    </a:lnTo>
                    <a:lnTo>
                      <a:pt x="58" y="8139"/>
                    </a:lnTo>
                    <a:lnTo>
                      <a:pt x="0" y="8156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156440" y="3735360"/>
                <a:ext cx="55440" cy="133200"/>
              </a:xfrm>
              <a:custGeom>
                <a:avLst/>
                <a:gdLst/>
                <a:ahLst/>
                <a:rect l="l" t="t" r="r" b="b"/>
                <a:pathLst>
                  <a:path w="156" h="370">
                    <a:moveTo>
                      <a:pt x="28" y="369"/>
                    </a:moveTo>
                    <a:lnTo>
                      <a:pt x="0" y="318"/>
                    </a:lnTo>
                    <a:lnTo>
                      <a:pt x="103" y="0"/>
                    </a:lnTo>
                    <a:lnTo>
                      <a:pt x="155" y="34"/>
                    </a:lnTo>
                    <a:lnTo>
                      <a:pt x="58" y="335"/>
                    </a:lnTo>
                    <a:lnTo>
                      <a:pt x="28" y="299"/>
                    </a:lnTo>
                    <a:lnTo>
                      <a:pt x="28" y="369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7151760" y="3814920"/>
              <a:ext cx="119160" cy="55440"/>
              <a:chOff x="7151760" y="3814920"/>
              <a:chExt cx="119160" cy="55440"/>
            </a:xfrm>
          </p:grpSpPr>
          <p:sp>
            <p:nvSpPr>
              <p:cNvPr id="156" name=""/>
              <p:cNvSpPr/>
              <p:nvPr/>
            </p:nvSpPr>
            <p:spPr>
              <a:xfrm>
                <a:off x="7151760" y="385128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45" h="52">
                    <a:moveTo>
                      <a:pt x="44" y="51"/>
                    </a:moveTo>
                    <a:lnTo>
                      <a:pt x="0" y="51"/>
                    </a:lnTo>
                    <a:lnTo>
                      <a:pt x="14" y="0"/>
                    </a:lnTo>
                    <a:lnTo>
                      <a:pt x="44" y="51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167600" y="3832200"/>
                <a:ext cx="103320" cy="36360"/>
              </a:xfrm>
              <a:custGeom>
                <a:avLst/>
                <a:gdLst/>
                <a:ahLst/>
                <a:rect l="l" t="t" r="r" b="b"/>
                <a:pathLst>
                  <a:path w="286" h="103">
                    <a:moveTo>
                      <a:pt x="285" y="32"/>
                    </a:moveTo>
                    <a:lnTo>
                      <a:pt x="285" y="68"/>
                    </a:lnTo>
                    <a:lnTo>
                      <a:pt x="0" y="102"/>
                    </a:lnTo>
                    <a:lnTo>
                      <a:pt x="0" y="32"/>
                    </a:lnTo>
                    <a:lnTo>
                      <a:pt x="285" y="0"/>
                    </a:lnTo>
                    <a:lnTo>
                      <a:pt x="285" y="32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172280" y="3814920"/>
                <a:ext cx="38160" cy="36360"/>
              </a:xfrm>
              <a:custGeom>
                <a:avLst/>
                <a:gdLst/>
                <a:ahLst/>
                <a:rect l="l" t="t" r="r" b="b"/>
                <a:pathLst>
                  <a:path w="105" h="103">
                    <a:moveTo>
                      <a:pt x="59" y="0"/>
                    </a:moveTo>
                    <a:lnTo>
                      <a:pt x="0" y="51"/>
                    </a:lnTo>
                    <a:lnTo>
                      <a:pt x="45" y="102"/>
                    </a:lnTo>
                    <a:lnTo>
                      <a:pt x="104" y="51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9" name=""/>
          <p:cNvGrpSpPr/>
          <p:nvPr/>
        </p:nvGrpSpPr>
        <p:grpSpPr>
          <a:xfrm>
            <a:off x="2997360" y="3362400"/>
            <a:ext cx="5446440" cy="1724040"/>
            <a:chOff x="2997360" y="3362400"/>
            <a:chExt cx="5446440" cy="1724040"/>
          </a:xfrm>
        </p:grpSpPr>
        <p:grpSp>
          <p:nvGrpSpPr>
            <p:cNvPr id="160" name=""/>
            <p:cNvGrpSpPr/>
            <p:nvPr/>
          </p:nvGrpSpPr>
          <p:grpSpPr>
            <a:xfrm>
              <a:off x="2997360" y="3362400"/>
              <a:ext cx="5446440" cy="1724040"/>
              <a:chOff x="2997360" y="3362400"/>
              <a:chExt cx="5446440" cy="1724040"/>
            </a:xfrm>
          </p:grpSpPr>
          <p:sp>
            <p:nvSpPr>
              <p:cNvPr id="161" name=""/>
              <p:cNvSpPr/>
              <p:nvPr/>
            </p:nvSpPr>
            <p:spPr>
              <a:xfrm>
                <a:off x="2997360" y="3362400"/>
                <a:ext cx="5446440" cy="1724040"/>
              </a:xfrm>
              <a:custGeom>
                <a:avLst/>
                <a:gdLst/>
                <a:ahLst/>
                <a:rect l="l" t="t" r="r" b="b"/>
                <a:pathLst>
                  <a:path w="15130" h="4787">
                    <a:moveTo>
                      <a:pt x="15129" y="0"/>
                    </a:moveTo>
                    <a:lnTo>
                      <a:pt x="14946" y="323"/>
                    </a:lnTo>
                    <a:lnTo>
                      <a:pt x="14734" y="637"/>
                    </a:lnTo>
                    <a:lnTo>
                      <a:pt x="14522" y="955"/>
                    </a:lnTo>
                    <a:lnTo>
                      <a:pt x="14297" y="1252"/>
                    </a:lnTo>
                    <a:lnTo>
                      <a:pt x="14063" y="1542"/>
                    </a:lnTo>
                    <a:lnTo>
                      <a:pt x="13808" y="1824"/>
                    </a:lnTo>
                    <a:lnTo>
                      <a:pt x="13558" y="2088"/>
                    </a:lnTo>
                    <a:lnTo>
                      <a:pt x="13274" y="2335"/>
                    </a:lnTo>
                    <a:lnTo>
                      <a:pt x="12998" y="2579"/>
                    </a:lnTo>
                    <a:lnTo>
                      <a:pt x="12705" y="2808"/>
                    </a:lnTo>
                    <a:lnTo>
                      <a:pt x="12392" y="3028"/>
                    </a:lnTo>
                    <a:lnTo>
                      <a:pt x="12086" y="3243"/>
                    </a:lnTo>
                    <a:lnTo>
                      <a:pt x="11763" y="3420"/>
                    </a:lnTo>
                    <a:lnTo>
                      <a:pt x="11441" y="3609"/>
                    </a:lnTo>
                    <a:lnTo>
                      <a:pt x="11107" y="3787"/>
                    </a:lnTo>
                    <a:lnTo>
                      <a:pt x="10771" y="3942"/>
                    </a:lnTo>
                    <a:lnTo>
                      <a:pt x="10420" y="4087"/>
                    </a:lnTo>
                    <a:lnTo>
                      <a:pt x="10070" y="4223"/>
                    </a:lnTo>
                    <a:lnTo>
                      <a:pt x="9705" y="4334"/>
                    </a:lnTo>
                    <a:lnTo>
                      <a:pt x="9340" y="4452"/>
                    </a:lnTo>
                    <a:lnTo>
                      <a:pt x="8960" y="4539"/>
                    </a:lnTo>
                    <a:lnTo>
                      <a:pt x="8588" y="4615"/>
                    </a:lnTo>
                    <a:lnTo>
                      <a:pt x="8210" y="4683"/>
                    </a:lnTo>
                    <a:lnTo>
                      <a:pt x="7829" y="4734"/>
                    </a:lnTo>
                    <a:lnTo>
                      <a:pt x="7437" y="4768"/>
                    </a:lnTo>
                    <a:lnTo>
                      <a:pt x="7058" y="4786"/>
                    </a:lnTo>
                    <a:lnTo>
                      <a:pt x="6670" y="4786"/>
                    </a:lnTo>
                    <a:lnTo>
                      <a:pt x="6276" y="4786"/>
                    </a:lnTo>
                    <a:lnTo>
                      <a:pt x="5883" y="4751"/>
                    </a:lnTo>
                    <a:lnTo>
                      <a:pt x="5495" y="4717"/>
                    </a:lnTo>
                    <a:lnTo>
                      <a:pt x="5086" y="4649"/>
                    </a:lnTo>
                    <a:lnTo>
                      <a:pt x="4692" y="4589"/>
                    </a:lnTo>
                    <a:lnTo>
                      <a:pt x="4371" y="4505"/>
                    </a:lnTo>
                    <a:lnTo>
                      <a:pt x="4051" y="4419"/>
                    </a:lnTo>
                    <a:lnTo>
                      <a:pt x="3729" y="4317"/>
                    </a:lnTo>
                    <a:lnTo>
                      <a:pt x="3408" y="4223"/>
                    </a:lnTo>
                    <a:lnTo>
                      <a:pt x="3080" y="4102"/>
                    </a:lnTo>
                    <a:lnTo>
                      <a:pt x="2773" y="3975"/>
                    </a:lnTo>
                    <a:lnTo>
                      <a:pt x="2467" y="3823"/>
                    </a:lnTo>
                    <a:lnTo>
                      <a:pt x="2175" y="3677"/>
                    </a:lnTo>
                    <a:lnTo>
                      <a:pt x="1867" y="3523"/>
                    </a:lnTo>
                    <a:lnTo>
                      <a:pt x="1582" y="3363"/>
                    </a:lnTo>
                    <a:lnTo>
                      <a:pt x="1306" y="3174"/>
                    </a:lnTo>
                    <a:lnTo>
                      <a:pt x="1021" y="2996"/>
                    </a:lnTo>
                    <a:lnTo>
                      <a:pt x="759" y="2791"/>
                    </a:lnTo>
                    <a:lnTo>
                      <a:pt x="495" y="2594"/>
                    </a:lnTo>
                    <a:lnTo>
                      <a:pt x="240" y="2399"/>
                    </a:lnTo>
                    <a:lnTo>
                      <a:pt x="0" y="2181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02600" y="4441680"/>
                <a:ext cx="71280" cy="120960"/>
              </a:xfrm>
              <a:custGeom>
                <a:avLst/>
                <a:gdLst/>
                <a:ahLst/>
                <a:rect l="l" t="t" r="r" b="b"/>
                <a:pathLst>
                  <a:path w="200" h="335">
                    <a:moveTo>
                      <a:pt x="28" y="334"/>
                    </a:moveTo>
                    <a:lnTo>
                      <a:pt x="0" y="282"/>
                    </a:lnTo>
                    <a:lnTo>
                      <a:pt x="139" y="0"/>
                    </a:lnTo>
                    <a:lnTo>
                      <a:pt x="199" y="32"/>
                    </a:lnTo>
                    <a:lnTo>
                      <a:pt x="58" y="316"/>
                    </a:lnTo>
                    <a:lnTo>
                      <a:pt x="28" y="264"/>
                    </a:lnTo>
                    <a:lnTo>
                      <a:pt x="28" y="334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7299360" y="4518000"/>
              <a:ext cx="114120" cy="57240"/>
              <a:chOff x="7299360" y="4518000"/>
              <a:chExt cx="114120" cy="57240"/>
            </a:xfrm>
          </p:grpSpPr>
          <p:sp>
            <p:nvSpPr>
              <p:cNvPr id="164" name=""/>
              <p:cNvSpPr/>
              <p:nvPr/>
            </p:nvSpPr>
            <p:spPr>
              <a:xfrm>
                <a:off x="7299360" y="45435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45" h="53">
                    <a:moveTo>
                      <a:pt x="44" y="52"/>
                    </a:moveTo>
                    <a:lnTo>
                      <a:pt x="0" y="52"/>
                    </a:lnTo>
                    <a:lnTo>
                      <a:pt x="14" y="0"/>
                    </a:lnTo>
                    <a:lnTo>
                      <a:pt x="44" y="52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313760" y="4537080"/>
                <a:ext cx="99720" cy="38160"/>
              </a:xfrm>
              <a:custGeom>
                <a:avLst/>
                <a:gdLst/>
                <a:ahLst/>
                <a:rect l="l" t="t" r="r" b="b"/>
                <a:pathLst>
                  <a:path w="279" h="104">
                    <a:moveTo>
                      <a:pt x="278" y="67"/>
                    </a:moveTo>
                    <a:lnTo>
                      <a:pt x="278" y="103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278" y="33"/>
                    </a:lnTo>
                    <a:lnTo>
                      <a:pt x="278" y="67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324560" y="4518000"/>
                <a:ext cx="28800" cy="36360"/>
              </a:xfrm>
              <a:custGeom>
                <a:avLst/>
                <a:gdLst/>
                <a:ahLst/>
                <a:rect l="l" t="t" r="r" b="b"/>
                <a:pathLst>
                  <a:path w="81" h="103">
                    <a:moveTo>
                      <a:pt x="52" y="0"/>
                    </a:moveTo>
                    <a:lnTo>
                      <a:pt x="0" y="35"/>
                    </a:lnTo>
                    <a:lnTo>
                      <a:pt x="21" y="102"/>
                    </a:lnTo>
                    <a:lnTo>
                      <a:pt x="80" y="52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" name=""/>
          <p:cNvGrpSpPr/>
          <p:nvPr/>
        </p:nvGrpSpPr>
        <p:grpSpPr>
          <a:xfrm>
            <a:off x="3033720" y="4033800"/>
            <a:ext cx="5334120" cy="1638360"/>
            <a:chOff x="3033720" y="4033800"/>
            <a:chExt cx="5334120" cy="1638360"/>
          </a:xfrm>
        </p:grpSpPr>
        <p:grpSp>
          <p:nvGrpSpPr>
            <p:cNvPr id="168" name=""/>
            <p:cNvGrpSpPr/>
            <p:nvPr/>
          </p:nvGrpSpPr>
          <p:grpSpPr>
            <a:xfrm>
              <a:off x="3033720" y="4033800"/>
              <a:ext cx="5334120" cy="1638360"/>
              <a:chOff x="3033720" y="4033800"/>
              <a:chExt cx="5334120" cy="1638360"/>
            </a:xfrm>
          </p:grpSpPr>
          <p:sp>
            <p:nvSpPr>
              <p:cNvPr id="169" name=""/>
              <p:cNvSpPr/>
              <p:nvPr/>
            </p:nvSpPr>
            <p:spPr>
              <a:xfrm>
                <a:off x="3033720" y="4033800"/>
                <a:ext cx="5334120" cy="1638360"/>
              </a:xfrm>
              <a:custGeom>
                <a:avLst/>
                <a:gdLst/>
                <a:ahLst/>
                <a:rect l="l" t="t" r="r" b="b"/>
                <a:pathLst>
                  <a:path w="14818" h="4549">
                    <a:moveTo>
                      <a:pt x="14817" y="1413"/>
                    </a:moveTo>
                    <a:lnTo>
                      <a:pt x="14663" y="1644"/>
                    </a:lnTo>
                    <a:lnTo>
                      <a:pt x="14509" y="1873"/>
                    </a:lnTo>
                    <a:lnTo>
                      <a:pt x="14327" y="2095"/>
                    </a:lnTo>
                    <a:lnTo>
                      <a:pt x="14130" y="2306"/>
                    </a:lnTo>
                    <a:lnTo>
                      <a:pt x="13918" y="2503"/>
                    </a:lnTo>
                    <a:lnTo>
                      <a:pt x="13707" y="2690"/>
                    </a:lnTo>
                    <a:lnTo>
                      <a:pt x="13473" y="2868"/>
                    </a:lnTo>
                    <a:lnTo>
                      <a:pt x="13233" y="3048"/>
                    </a:lnTo>
                    <a:lnTo>
                      <a:pt x="12976" y="3200"/>
                    </a:lnTo>
                    <a:lnTo>
                      <a:pt x="12713" y="3362"/>
                    </a:lnTo>
                    <a:lnTo>
                      <a:pt x="12436" y="3499"/>
                    </a:lnTo>
                    <a:lnTo>
                      <a:pt x="12152" y="3635"/>
                    </a:lnTo>
                    <a:lnTo>
                      <a:pt x="11861" y="3764"/>
                    </a:lnTo>
                    <a:lnTo>
                      <a:pt x="11553" y="3882"/>
                    </a:lnTo>
                    <a:lnTo>
                      <a:pt x="11247" y="3976"/>
                    </a:lnTo>
                    <a:lnTo>
                      <a:pt x="10919" y="4078"/>
                    </a:lnTo>
                    <a:lnTo>
                      <a:pt x="10598" y="4164"/>
                    </a:lnTo>
                    <a:lnTo>
                      <a:pt x="10261" y="4249"/>
                    </a:lnTo>
                    <a:lnTo>
                      <a:pt x="9926" y="4308"/>
                    </a:lnTo>
                    <a:lnTo>
                      <a:pt x="9574" y="4376"/>
                    </a:lnTo>
                    <a:lnTo>
                      <a:pt x="9226" y="4428"/>
                    </a:lnTo>
                    <a:lnTo>
                      <a:pt x="8875" y="4461"/>
                    </a:lnTo>
                    <a:lnTo>
                      <a:pt x="8509" y="4495"/>
                    </a:lnTo>
                    <a:lnTo>
                      <a:pt x="8151" y="4531"/>
                    </a:lnTo>
                    <a:lnTo>
                      <a:pt x="7787" y="4548"/>
                    </a:lnTo>
                    <a:lnTo>
                      <a:pt x="7410" y="4548"/>
                    </a:lnTo>
                    <a:lnTo>
                      <a:pt x="7043" y="4548"/>
                    </a:lnTo>
                    <a:lnTo>
                      <a:pt x="6663" y="4531"/>
                    </a:lnTo>
                    <a:lnTo>
                      <a:pt x="6283" y="4514"/>
                    </a:lnTo>
                    <a:lnTo>
                      <a:pt x="5910" y="4478"/>
                    </a:lnTo>
                    <a:lnTo>
                      <a:pt x="5532" y="4446"/>
                    </a:lnTo>
                    <a:lnTo>
                      <a:pt x="5153" y="4393"/>
                    </a:lnTo>
                    <a:lnTo>
                      <a:pt x="4831" y="4326"/>
                    </a:lnTo>
                    <a:lnTo>
                      <a:pt x="4466" y="4213"/>
                    </a:lnTo>
                    <a:lnTo>
                      <a:pt x="4057" y="4061"/>
                    </a:lnTo>
                    <a:lnTo>
                      <a:pt x="3641" y="3882"/>
                    </a:lnTo>
                    <a:lnTo>
                      <a:pt x="3233" y="3677"/>
                    </a:lnTo>
                    <a:lnTo>
                      <a:pt x="2824" y="3482"/>
                    </a:lnTo>
                    <a:lnTo>
                      <a:pt x="2459" y="3287"/>
                    </a:lnTo>
                    <a:lnTo>
                      <a:pt x="2151" y="3098"/>
                    </a:lnTo>
                    <a:lnTo>
                      <a:pt x="1948" y="2970"/>
                    </a:lnTo>
                    <a:lnTo>
                      <a:pt x="1751" y="2817"/>
                    </a:lnTo>
                    <a:lnTo>
                      <a:pt x="1569" y="2690"/>
                    </a:lnTo>
                    <a:lnTo>
                      <a:pt x="1386" y="2535"/>
                    </a:lnTo>
                    <a:lnTo>
                      <a:pt x="1218" y="2374"/>
                    </a:lnTo>
                    <a:lnTo>
                      <a:pt x="1051" y="2205"/>
                    </a:lnTo>
                    <a:lnTo>
                      <a:pt x="912" y="2044"/>
                    </a:lnTo>
                    <a:lnTo>
                      <a:pt x="751" y="1856"/>
                    </a:lnTo>
                    <a:lnTo>
                      <a:pt x="627" y="1678"/>
                    </a:lnTo>
                    <a:lnTo>
                      <a:pt x="503" y="1464"/>
                    </a:lnTo>
                    <a:lnTo>
                      <a:pt x="394" y="1260"/>
                    </a:lnTo>
                    <a:lnTo>
                      <a:pt x="291" y="1029"/>
                    </a:lnTo>
                    <a:lnTo>
                      <a:pt x="197" y="800"/>
                    </a:lnTo>
                    <a:lnTo>
                      <a:pt x="122" y="552"/>
                    </a:lnTo>
                    <a:lnTo>
                      <a:pt x="50" y="29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434360" y="5318280"/>
                <a:ext cx="100080" cy="45720"/>
              </a:xfrm>
              <a:custGeom>
                <a:avLst/>
                <a:gdLst/>
                <a:ahLst/>
                <a:rect l="l" t="t" r="r" b="b"/>
                <a:pathLst>
                  <a:path w="278" h="130">
                    <a:moveTo>
                      <a:pt x="277" y="77"/>
                    </a:moveTo>
                    <a:lnTo>
                      <a:pt x="277" y="129"/>
                    </a:lnTo>
                    <a:lnTo>
                      <a:pt x="0" y="68"/>
                    </a:lnTo>
                    <a:lnTo>
                      <a:pt x="13" y="0"/>
                    </a:lnTo>
                    <a:lnTo>
                      <a:pt x="277" y="50"/>
                    </a:lnTo>
                    <a:lnTo>
                      <a:pt x="277" y="77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7419960" y="5224320"/>
              <a:ext cx="81000" cy="120960"/>
              <a:chOff x="7419960" y="5224320"/>
              <a:chExt cx="81000" cy="120960"/>
            </a:xfrm>
          </p:grpSpPr>
          <p:sp>
            <p:nvSpPr>
              <p:cNvPr id="172" name=""/>
              <p:cNvSpPr/>
              <p:nvPr/>
            </p:nvSpPr>
            <p:spPr>
              <a:xfrm>
                <a:off x="7429680" y="5224320"/>
                <a:ext cx="71280" cy="120960"/>
              </a:xfrm>
              <a:custGeom>
                <a:avLst/>
                <a:gdLst/>
                <a:ahLst/>
                <a:rect l="l" t="t" r="r" b="b"/>
                <a:pathLst>
                  <a:path w="197" h="334">
                    <a:moveTo>
                      <a:pt x="13" y="333"/>
                    </a:moveTo>
                    <a:lnTo>
                      <a:pt x="0" y="280"/>
                    </a:lnTo>
                    <a:lnTo>
                      <a:pt x="152" y="0"/>
                    </a:lnTo>
                    <a:lnTo>
                      <a:pt x="196" y="43"/>
                    </a:lnTo>
                    <a:lnTo>
                      <a:pt x="42" y="314"/>
                    </a:lnTo>
                    <a:lnTo>
                      <a:pt x="28" y="263"/>
                    </a:lnTo>
                    <a:lnTo>
                      <a:pt x="13" y="333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419960" y="53244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46" h="54">
                    <a:moveTo>
                      <a:pt x="45" y="53"/>
                    </a:moveTo>
                    <a:lnTo>
                      <a:pt x="0" y="53"/>
                    </a:lnTo>
                    <a:lnTo>
                      <a:pt x="30" y="0"/>
                    </a:lnTo>
                    <a:lnTo>
                      <a:pt x="45" y="53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450200" y="5299200"/>
                <a:ext cx="28440" cy="37800"/>
              </a:xfrm>
              <a:custGeom>
                <a:avLst/>
                <a:gdLst/>
                <a:ahLst/>
                <a:rect l="l" t="t" r="r" b="b"/>
                <a:pathLst>
                  <a:path w="81" h="105">
                    <a:moveTo>
                      <a:pt x="49" y="0"/>
                    </a:moveTo>
                    <a:lnTo>
                      <a:pt x="0" y="36"/>
                    </a:lnTo>
                    <a:lnTo>
                      <a:pt x="14" y="104"/>
                    </a:lnTo>
                    <a:lnTo>
                      <a:pt x="80" y="70"/>
                    </a:lnTo>
                    <a:lnTo>
                      <a:pt x="49" y="0"/>
                    </a:lnTo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5" name=""/>
          <p:cNvGrpSpPr/>
          <p:nvPr/>
        </p:nvGrpSpPr>
        <p:grpSpPr>
          <a:xfrm>
            <a:off x="6073920" y="2432160"/>
            <a:ext cx="1450800" cy="1047600"/>
            <a:chOff x="6073920" y="2432160"/>
            <a:chExt cx="1450800" cy="1047600"/>
          </a:xfrm>
        </p:grpSpPr>
        <p:sp>
          <p:nvSpPr>
            <p:cNvPr id="176" name=""/>
            <p:cNvSpPr/>
            <p:nvPr/>
          </p:nvSpPr>
          <p:spPr>
            <a:xfrm>
              <a:off x="6073920" y="2432160"/>
              <a:ext cx="1450800" cy="1047600"/>
            </a:xfrm>
            <a:prstGeom prst="roundRect">
              <a:avLst>
                <a:gd name="adj" fmla="val 148"/>
              </a:avLst>
            </a:pr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73920" y="2432160"/>
              <a:ext cx="1450800" cy="1047600"/>
            </a:xfrm>
            <a:prstGeom prst="roundRect">
              <a:avLst>
                <a:gd name="adj" fmla="val 148"/>
              </a:avLst>
            </a:prstGeom>
            <a:noFill/>
            <a:ln w="324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349320" y="2689200"/>
              <a:ext cx="993600" cy="199080"/>
            </a:xfrm>
            <a:prstGeom prst="roundRect">
              <a:avLst>
                <a:gd name="adj" fmla="val 67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1f1a17"/>
                  </a:solidFill>
                  <a:latin typeface="Arial"/>
                </a:rPr>
                <a:t>Sistema d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87400" y="2916360"/>
              <a:ext cx="1060560" cy="199080"/>
            </a:xfrm>
            <a:prstGeom prst="roundRect">
              <a:avLst>
                <a:gd name="adj" fmla="val 67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1f1a17"/>
                  </a:solidFill>
                  <a:latin typeface="Arial"/>
                </a:rPr>
                <a:t>Informaçõ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33200" y="961920"/>
            <a:ext cx="29797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spcBef>
                <a:spcPts val="10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os Setoria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