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A8B-9471-476A-966E-DD889CC9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8E0-4031-4E46-964E-A7B4D4CC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1DF-17F2-40F6-A3C8-4189CD01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CDD-C53A-472B-A0B7-A12B2D01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9E3E-3591-4919-80FB-1B984846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EC8F-9FDF-4751-B6EE-B75A9171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1AF6-7D18-435E-931C-E205C17C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B8F6-3A1F-4A30-B60B-E45862EC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0BED-577D-4C17-BC83-B672A583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A60C-96CA-4BE4-8842-331C4749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8E4E-C1C6-4A96-B9B5-00BCD7C7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002-D441-4172-897A-5EC0B619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8D4D-935D-40F9-B9F3-88D823E3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164F-88E1-44B2-B89F-817AED95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DF32-3806-4C71-A222-7578550D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FEFF-92DF-417A-BD8E-79462747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9756-40BC-4CBB-94A3-747B978F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4E3-FA20-414B-82A4-C175FBAE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764-46B4-4B17-BD9F-CDF7349A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422-582C-4C9F-B8FA-359A064F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823-2C7D-4BE0-919B-AC1CE26F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ECA-7F96-4A85-BDF7-454CF6F5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172-FF23-4EED-A269-5D33826D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C39-9350-41F4-AF6A-86F32073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2C86-29FA-4C69-9DA3-B81DB81879A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683A-7C3C-4197-A6B7-8DB2B21C808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92480" y="3716280"/>
            <a:ext cx="5340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48000" y="4941720"/>
            <a:ext cx="15112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0548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4c2b"/>
                </a:solidFill>
                <a:latin typeface="Times New Roman"/>
              </a:rPr>
              <a:t>Aplicação dos Recursos da Cobrança na Bacia do Paraíba do Su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43400" y="4343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Novembro/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a Uniã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79360" y="27936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7936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43080" y="1676520"/>
            <a:ext cx="861048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Recursos 2003:  </a:t>
            </a: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R$5.800.000 (sem 3 meses CSN)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Situação atual: </a:t>
            </a: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Projetos /</a:t>
            </a: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Obras em contratação / execução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nvênios ANA 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  CEF 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 Municípios Beneficiados</a:t>
            </a:r>
            <a:br>
              <a:rPr sz="2400"/>
            </a:b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84360" y="613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393480"/>
            <a:ext cx="659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333333"/>
                </a:solidFill>
                <a:latin typeface="Times New Roman"/>
              </a:rPr>
              <a:t>QUADRO DE APLICAÇÃO DE RECURSOS – COBRANÇA CONDOMINIAL – EXERCÍCIO DE 2003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80880" y="5793840"/>
            <a:ext cx="7772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902120"/>
            <a:ext cx="8610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Totalidade dos recursos empenhados no exercício de 200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Não foi possível a assinatura do contrato de Guaratinguetá e da obra emergencial de Barra Mansa com a CEF e os recursos foram perdid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Obras de controle de erosão em andament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Projeto Esgotos de Barra Mansa licitad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Projeto ETE Muriaé concluído, obra hierarquizada em 200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Obras de esgotamento sanitário em andament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2080" y="1550880"/>
          <a:ext cx="7383600" cy="32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550880"/>
                    <a:ext cx="738360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a Uniã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95360" y="4237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37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17520" y="1778040"/>
            <a:ext cx="86104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Recursos 2004:</a:t>
            </a: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R$6.350.000 (Sem CSN)</a:t>
            </a:r>
            <a:br>
              <a:rPr sz="2400"/>
            </a:b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Projetos/Obras em contratação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ntrato de Gestão ANA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 AGEVAP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Conta Corrente CEF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Contrato Investimentos AGEVAP  </a:t>
            </a:r>
            <a:r>
              <a:rPr b="1" lang="pt-BR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 CEF (2,2%)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Contrato de Gestão assinado em setembro/2004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Desembolso de recursos a partir de setembro/2004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Recursos repassados não retornam ao fim do exercíc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a Uniã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182680" y="1397160"/>
          <a:ext cx="6166080" cy="52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1397160"/>
                    <a:ext cx="6166080" cy="52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o Estado do Rio de Janeir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95360" y="4237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37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55680" y="142236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brança aprovada pela Resolução 06/2003 do CERHI/RJ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de junho de 2003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Não é Lei 4247/2003 aprovada em dezembro de 2003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Recursos 2004:</a:t>
            </a: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R$700.000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Recursos depositados no FUNDRHI (não sujeitos a contingenciamento ou esterilização ao fim do exercíc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838760"/>
            <a:ext cx="7340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9120" y="4560120"/>
            <a:ext cx="85471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4c2b"/>
                </a:solidFill>
                <a:latin typeface="Times New Roman"/>
              </a:rPr>
              <a:t>SISTEMÁTICA DE APLICAÇÃ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Convênio SERLA </a:t>
            </a:r>
            <a:r>
              <a:rPr b="1" lang="pt-BR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 AGEVAP</a:t>
            </a:r>
            <a:r>
              <a:rPr b="1" lang="pt-BR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Conta Corrente CEF (10% recursos)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10% Órgão Gestor (SERLA)</a:t>
            </a:r>
            <a:br>
              <a:rPr sz="2000"/>
            </a:b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80% recursos Contrato/Convênios SERLA </a:t>
            </a:r>
            <a:r>
              <a:rPr b="1" lang="pt-BR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Municípios ou executor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DELIBERAÇÃO CEIVAP N.º ____/2004                           DE 23 DE NOVEMBRO DE 2004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98760" y="1522440"/>
          <a:ext cx="597060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22440"/>
                    <a:ext cx="59706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47480" y="228600"/>
            <a:ext cx="67438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Lei 4247: Cobrança em Rios de Domínio do Estado do Rio de Janeir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825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5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91960" y="1181160"/>
            <a:ext cx="861084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Não conflita com a Resolução CERHI 06/2003 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Institui cobrança “transitória” em bacias de rios exclusivamente estaduais (bacias costeiras)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/RJ aprovou em outubro/2004 proposta de reformulação da Lei 4247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T Legal e Institucional preparou proposta de regulamentação da lei nos aspectos cabíveis a ser discutida na próxima reunião do CERHI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mitê Guandu: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 aprovou aplicação dos recursos da cobrança na Bacia do Guandu para implantação e manutenção da Secretaria Executiva do Comitê e outros comitês estaduais estão pleiteando o mesmo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GT Comitê Guandu estuda proposta de cobrança altern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Lei 4247: Cobrança em Rios de Domínio do Estado do Rio de Janeir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95360" y="4237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37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55680" y="1422360"/>
            <a:ext cx="86104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Comitê Guandu: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Considerando a existência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Não conflita com a Resolução CERHI 06/2003 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Institui cobrança “transitória” em bacias de rios exclusivamente estaduais (bacias costeiras)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/RJ aprovou em outubro/2004 proposta de reformulação da Lei 4247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T Legal e Institucional preparou proposta de regulamentação da lei nos aspectos cabíveis a ser discutida na próxima reunião do CERHI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 aprovou aplicação dos recursos da cobrança na Bacia do Guandu para implantação e manutenção da Secretaria Executiva do Comitê e outros comitês estaduais estão pleiteando o mesmo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4838760"/>
            <a:ext cx="7340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02:30:58Z</dcterms:created>
  <dc:creator>Formiga Johnsson</dc:creator>
  <dc:description/>
  <dc:language>en-US</dc:language>
  <cp:lastModifiedBy>SRH</cp:lastModifiedBy>
  <dcterms:modified xsi:type="dcterms:W3CDTF">2004-12-06T19:22:05Z</dcterms:modified>
  <cp:revision>318</cp:revision>
  <dc:subject>palestra panorama nacional reformas</dc:subject>
  <dc:title>Seminario1 UEG</dc:title>
</cp:coreProperties>
</file>