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whoosh.wav" ContentType="audio/x-wav"/>
  <Override PartName="/ppt/media/image3.png" ContentType="image/png"/>
  <Override PartName="/ppt/media/camera.wav" ContentType="audio/x-wav"/>
  <Override PartName="/ppt/media/carbrake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F146-5798-4950-B180-E7F80F063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E5F2-D664-426D-8B6C-97D447E4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1570-6C49-486B-9986-0221227F7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D5C1-B414-443A-A279-310A32A7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C5D9-04AC-4A28-B7AA-8B7795BD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D87A-A57E-4FA1-8F8E-FFE00323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67DE-7E58-4894-AD5E-CD896EDF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E0C9-C6B8-4462-89DB-9048454A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1341-C117-4886-9B65-F11371B9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E9BEE-D6CC-4DE3-AD53-AFF1308B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4DBE-EAEB-4502-8161-A497BE04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E0DA-4398-422B-A3BD-98C3DD61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09BF-2A5E-49D5-810C-D334229F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807B-18D3-4471-B41D-0531C799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8258-4D55-4A93-81A5-FB207C80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8671-4E9D-45AE-88CE-75C441A5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66EE-4629-4EC1-BF5C-6BB0D600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8661-4E74-4EAA-B473-5A7000EA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56B2-2AD4-4A28-AFED-DF56D7F9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FC6E-6090-479B-84EB-5D086F60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72B7-DA8E-49F4-A88D-334C01D7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F978-E398-4C0D-8809-5063D941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E106-FA6A-4F9C-8EB5-3E93C850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A9D9-86F2-4DD6-895F-36662F4B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4E64-CB4C-46C9-BD9A-F1E323DEBF9D}" type="slidenum">
              <a:rPr b="0" lang="pt-BR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486E-2A26-473B-89FD-9BE14CC5BADA}" type="slidenum">
              <a:rPr b="0" lang="pt-BR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INSTRUMENTO DA COBRANÇA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OPINIÕES E RECOMENDAÇÕ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Saneamento Básic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3680" y="28404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      </a:t>
            </a:r>
            <a:r>
              <a:rPr b="0" lang="en-US" sz="3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ara a credibilidade da cobrança, deve-se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er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Participação dos usuários da bacia, com     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representatividade da sociedade,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na            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formação do preço a ser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cobrad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Total transparência na gestão dos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recursos financeiros obtidos da cobrança.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Total certeza de que os valores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rrecadados em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uma Bacia serão nela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plicados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cobrança deverá levar em consideração os seguintes itens, entre outro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reço Público Unitário (PPU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Volumes Captado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   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Volumes Consumidos ( perda inerente 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spejo de efluent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Classe de corpo líquido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- O PPU deverá  estar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ujeito as leis de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ercado (oferta x demanda)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- O PPU  deverá respeitar as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sazonalidades.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(Período seco e úmido).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- O Preço Público Unitário (PPU), precisa de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ser estudado tecnicamente, tirando-se a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sua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formação por base empírica.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- Na formação do preço de cobrança devemos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dar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maior peso ao componente poluidor e 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menor peso ao componente captação  de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água.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RECOMENDAÇÕE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ropomo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) Que a CTIL/CTCOB realize seminário  sobre o tema: “A Política de Recursos Hídricos e a Cobrança pelo Uso da Água”, tendo como convidados as Prestadoras de Serviços deste segment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b) Que a CTCOB crie um grupo técnico para estudar um embasamento técnico, para a definição do PPU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IMPACTOS SETORIAIS DA COBRANÇ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quase totalidade das </a:t>
            </a:r>
            <a:r>
              <a:rPr b="0" lang="en-US" sz="3200" spc="-1" strike="noStrike" u="sng">
                <a:solidFill>
                  <a:srgbClr val="00264c"/>
                </a:solidFill>
                <a:uFillTx/>
                <a:latin typeface="Times New Roman"/>
              </a:rPr>
              <a:t>prestadoras de serviço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, teriam dificuldades de absorver aumento de dispêndios em sua estrutura de custos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bsorver a cobrança implica sempre em adequar custos ou postergar investimentos, algo sempre complicado de se fazer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8305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IMPACTOS SETORIAIS DA COBRANÇ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Não é intenção repassar custos para o usuário final, que terá dificuldades de absorver aumentos tarifários. Reflexo desse aumento: crescimento da </a:t>
            </a:r>
            <a:r>
              <a:rPr b="0" lang="en-US" sz="3200" spc="-1" strike="noStrike" u="sng">
                <a:solidFill>
                  <a:srgbClr val="00264c"/>
                </a:solidFill>
                <a:uFillTx/>
                <a:latin typeface="Times New Roman"/>
              </a:rPr>
              <a:t>inadimplência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É um dilema que o setor deverá analisar, discutir e a decisão será sempre caso a caso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A tarifa pelo uso tem de ter valores módicos e ser referendada por instância superior aos Comitês de Bacia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DEFINIÇÃO DE USOS INSIGNIFICANTE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O universo das Prestadoras de Serviços inclui a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ESB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AE’S, DAAE’S (Municipal);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mpresas Privada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Dentro deste universo, é difícil inserir o conceito de uso insignificante, pois quase todas estas “unidades consumidoras” são representativas a nível da utilização dos recursos hídrico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LIMITES DE SUSTENTABILIDADE ECONÔMICA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628280"/>
            <a:ext cx="7772400" cy="46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O Brasil é muito diversificad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O limite de sustentabilidade estará  sempre atrelado ao cenário econômico de cada região e como a Bacia Hidrográfica se insere dentro desse  cenári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264c"/>
                </a:solidFill>
                <a:latin typeface="Times New Roman"/>
              </a:rPr>
              <a:t>Nessa situação, é muito difícil definir um limite de sustentabilidade da cobrança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QUANDO IMPLANTAR 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umprir a Lei 9.433/97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apítulo IV –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ção IV – Da cobrança do uso dos Recursos Hídrico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ítulo II – Capítulo III – Dos comitês de Bacia Hidrográfica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ítulo II – Capítulo IV – Das agências de água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QUANDO IMPLANTAR 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6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</a:rPr>
              <a:t>Durante o andamento dos trâmites para cumprimento itens da lei retromencionada, os Comitês de Bacia deverão: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</a:rPr>
              <a:t>Realizar amplo debate entre usuários e a sociedade, visando: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Explicar o que é a COBRANÇA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senvolvimento amplo programa Plano de Educação Ambiental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ostrando claramente a situação de degradação da Bacia (quantitativamente e qualitativamente)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ando ampla divulgação junto aos usuários da Bacia daquilo que está sendo realizado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7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iscutir o Plano de Bacia, de forma democrática, com a participação da Sociedade e dos usuários.</a:t>
            </a: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Introdução do conceito de auto sustentabilidade econômica da Bacia Hidrográfica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264c"/>
                </a:solidFill>
                <a:latin typeface="Symbol"/>
                <a:ea typeface="Symbol"/>
              </a:rPr>
              <a:t>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Este conceito tem por base que, a unidade territorial Bacia Hidrográfica seja um “ente econômico” capaz de no 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médio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e 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longo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prazos encontrar a maioria das soluções para os seus próprios problemas, preservando os seus corpos líquidos e assegurando as necessidades de gerações futura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ONCEITOS GERAIS PARA INTRODUÇÃO DA COBRANÇA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Symbol"/>
                <a:ea typeface="Symbol"/>
              </a:rPr>
              <a:t>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aseado neste conceito, deveremos ter em mente os seguintes princípios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)  Isonomia de Tratamento aos Integrantes da Bacia.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Inexistência de isenções de qualquer espécie.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 u="sng">
                <a:solidFill>
                  <a:srgbClr val="00264c"/>
                </a:solidFill>
                <a:uFillTx/>
                <a:latin typeface="Times New Roman"/>
                <a:ea typeface="Times New Roman"/>
              </a:rPr>
              <a:t>“Todos devem pagar”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) Isonomia de Aplicação, o que implicaria na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plicação, ao mesmo tempo, da cobrança a todos 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os setore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    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9T16:06:44Z</dcterms:created>
  <dc:creator>Katia Lepletier</dc:creator>
  <dc:description/>
  <dc:language>en-US</dc:language>
  <cp:lastModifiedBy>Katia Lepletier</cp:lastModifiedBy>
  <dcterms:modified xsi:type="dcterms:W3CDTF">2002-09-24T17:56:41Z</dcterms:modified>
  <cp:revision>39</cp:revision>
  <dc:subject/>
  <dc:title>Apresentação do PowerPoint</dc:title>
</cp:coreProperties>
</file>