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4BCF-D6BF-4537-9FD0-3BC84AC5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F7E-DEAC-4EB7-A397-C59315F7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00A-EF6C-4DBF-9090-8ABE960B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DAB-C15A-4C9C-8F34-8C7EFC0E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649-55C0-4AAA-B526-36E9E603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C12-3EA9-4A22-92BE-DA3AC9B5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0E9E-8B13-4CE0-9C1D-C0D098DD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EF30-B5CC-4853-A4E5-729E24EC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80F-088B-4E74-A240-97BD0A57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388E-8956-4509-9AFE-90934DD2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60E-03B0-441D-9F29-2C3D74DF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4C6-90B1-475A-AF94-E6538C27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d4d4d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479A-A187-490D-BCD2-C5B352E48AAA}" type="slidenum">
              <a:rPr b="0" lang="pt-BR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4d4d4d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4d4d4d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4d4d4d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O IMPACTO DA COBRANÇA PELO USO DA ÁGUA 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NO COMPORTAMENTO</a:t>
            </a:r>
            <a:br>
              <a:rPr sz="4400"/>
            </a:br>
            <a:r>
              <a:rPr b="1" lang="pt-BR" sz="4400" spc="-1" strike="noStrike">
                <a:solidFill>
                  <a:srgbClr val="0000cc"/>
                </a:solidFill>
                <a:latin typeface="Tahoma"/>
              </a:rPr>
              <a:t> DO USUÁRIO</a:t>
            </a:r>
            <a:endParaRPr b="0" lang="en-US" sz="4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4572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Marilene de O. Ramos M. dos Santo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D.Sc. Engenharia Ambiental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oordenadora do Núcleo de Águas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Tahoma"/>
              </a:rPr>
              <a:t>CIDS/EBAPE/FGV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45960" y="255600"/>
          <a:ext cx="8452080" cy="634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55600"/>
                    <a:ext cx="8452080" cy="634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71680" y="1257480"/>
          <a:ext cx="7981920" cy="560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257480"/>
                    <a:ext cx="798192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533520" y="2590920"/>
          <a:ext cx="8065800" cy="30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065800" cy="30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O impacto da cobrança sobre</a:t>
            </a:r>
            <a:br>
              <a:rPr sz="3200"/>
            </a:b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 o usuário doméstico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O impacto da cobrança sobre o usuário industria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6280" y="1447920"/>
          <a:ext cx="8172360" cy="523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447920"/>
                    <a:ext cx="81723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61960" y="38160"/>
            <a:ext cx="802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50800" y="835200"/>
          <a:ext cx="8042400" cy="518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835200"/>
                    <a:ext cx="8042400" cy="51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Eficiência e efetividade financeira da cobrança pelo uso da água</a:t>
            </a:r>
            <a:endParaRPr b="0" lang="en-US" sz="3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752480"/>
            <a:ext cx="8458200" cy="55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Inglaterra e País de Gales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1,5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Financia apenas os custos do sistema de gestão (administrativos e de monitoramento)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Franç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30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Gera recursos para financiar parte dos investimento contemplados nos planos de bacia e os custos administrativos dos comitês/agências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Holanda: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“Cobrança equivalente”: US$43/hab.ano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ressarcimento às agências dos custos incorridos para tratamento dos efluentes nas estações sob sua responsabilidade</a:t>
            </a:r>
            <a:br>
              <a:rPr sz="2200"/>
            </a:b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cc"/>
                </a:solidFill>
                <a:latin typeface="Tahoma"/>
              </a:rPr>
              <a:t>Avaliação das experiências/propostas brasileiras</a:t>
            </a:r>
            <a:endParaRPr b="0" lang="en-US" sz="4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76320" y="1239840"/>
          <a:ext cx="8993160" cy="43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39840"/>
                    <a:ext cx="899316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2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Analisar o impacto da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cobrança pelo uso da água bruta e da cobrança-tarifaç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ão </a:t>
            </a:r>
            <a:br>
              <a:rPr sz="4200"/>
            </a:br>
            <a:r>
              <a:rPr b="0" lang="pt-BR" sz="4200" spc="-1" strike="noStrike">
                <a:solidFill>
                  <a:srgbClr val="4d4d4d"/>
                </a:solidFill>
                <a:latin typeface="Tahoma"/>
                <a:ea typeface="Tahoma"/>
              </a:rPr>
              <a:t>de água e esgoto </a:t>
            </a:r>
            <a:r>
              <a:rPr b="0" lang="pt-BR" sz="4200" spc="-1" strike="noStrike">
                <a:solidFill>
                  <a:srgbClr val="4d4d4d"/>
                </a:solidFill>
                <a:latin typeface="Tahoma"/>
              </a:rPr>
              <a:t>sobre o comportamento do usuário</a:t>
            </a:r>
            <a:endParaRPr b="0" lang="en-US" sz="4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 global do estudo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Impactos da cobrança pelo uso da água sobre as tarifas de saneamento no Brasil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320" y="1295280"/>
          <a:ext cx="8991360" cy="522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95280"/>
                    <a:ext cx="8991360" cy="52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04920"/>
          <a:ext cx="83059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3059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0"/>
          <a:ext cx="82296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229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685800" y="1828800"/>
          <a:ext cx="7591320" cy="421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59132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Tarifa x Consum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Tahoma"/>
              </a:rPr>
              <a:t>Países da OCDE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cc"/>
                </a:solidFill>
                <a:latin typeface="Tahoma"/>
              </a:rPr>
              <a:t>Relação Tarifas x Consumo no Brasi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Brasil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: R$55/hab.ano =1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 e esgoto: R$107/hab.ano = 2% da rend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aíses da OCDE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ta de Água+Esgoto = 0,3 a 0,8% da renda 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passe para as tarifas dos custos de ampliação destes é limitad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Tarifas ponderadas elevadas e níveis de consumo moderados para um país tropic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Tarifa média = US$1,13/m³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Tahoma"/>
              </a:rPr>
              <a:t>Consumo médio = 150l/hab.d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fasagem entre custos de provisão e tarifas vem se reduzindo, média de  6% (2000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Médi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m cobrança nas bacias do Amazonas, Tocantins e Paraguai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mais bacias adotou-se como “</a:t>
            </a:r>
            <a:r>
              <a:rPr b="1" i="1" lang="pt-BR" sz="2600" spc="-1" strike="noStrike">
                <a:solidFill>
                  <a:srgbClr val="4d4d4d"/>
                </a:solidFill>
                <a:latin typeface="Tahoma"/>
              </a:rPr>
              <a:t>cobrança unitária per capita de médio prazo”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 os seguintes valore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N/NE e São Francisco: US$0,6/hab.ano (similar ao Ceará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Vertente Leste, Uruguai e Vertente S/SE: US$1,3/hab.ano (similar ao Paraíba do Sul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Bacia do Paraná US$5/hab.ano (similar ao proposto para São Paulo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Longo prazo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 futura em níveis similares ao sistema francês, mas ponderado pela capacidade de pagamento existente em cada bacia (renda per capita)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Cobrança Longo Prazo (US$/hab.ano)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= 30*PIB</a:t>
            </a:r>
            <a:r>
              <a:rPr b="1" lang="pt-BR" sz="2600" spc="-1" strike="noStrike" baseline="-25000">
                <a:solidFill>
                  <a:srgbClr val="ff3300"/>
                </a:solidFill>
                <a:latin typeface="Tahoma"/>
              </a:rPr>
              <a:t>BACIA</a:t>
            </a:r>
            <a:r>
              <a:rPr b="1" lang="pt-BR" sz="2600" spc="-1" strike="noStrike">
                <a:solidFill>
                  <a:srgbClr val="ff3300"/>
                </a:solidFill>
                <a:latin typeface="Tahoma"/>
              </a:rPr>
              <a:t>/23.954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ndo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Cobrança francesa = US$30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IB França = US$23.954/hab.an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Arial"/>
              </a:rPr>
              <a:t>Simulação da receita potencial da cobrança por uso da água no Brasil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15920" y="380880"/>
          <a:ext cx="891396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920" y="380880"/>
                    <a:ext cx="89139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s em Água e Esgoto (SEDU, 1998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$44 bilhões, até 2010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20 bilhões em coleta de esgotos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10 bilhões em tratamento;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 7 bilhões em distribuição de água; 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R$7bilhões em reposição dos sistemas existente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Investimento em redução da poluição industrial (MENDES, 1994)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50% da carga poluente: US$815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ínimo de 75% da carga poluente: US$1.006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601"/>
              </a:spcBef>
              <a:buClr>
                <a:srgbClr val="4d4d4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batimento máximo da carga poluente: US$1.659 milhões/an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Impacto ambiental da cobrança no Brasil: alguns cenários (cont)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spcBef>
                <a:spcPts val="1800"/>
              </a:spcBef>
              <a:buClr>
                <a:srgbClr val="4d4d4d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Análise da experiência estrangeira de cobrança pelo uso da água bruta em termos de eficiência e efetividade (financeira e econômica), impacto ambiental, praticabilidade e aceitabilidad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2) Análise das práticas dos países da OCDE em termos d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 de água e esgot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e seu impacto sobre o usuário doméstico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56592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3) Avali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as potencialidades, impactos e limites da cobrança e tarifaç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ão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 de água no Brasil,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  <a:ea typeface="Tahoma"/>
              </a:rPr>
              <a:t>à luz da </a:t>
            </a:r>
            <a:r>
              <a:rPr b="0" lang="pt-BR" sz="2400" spc="-1" strike="noStrike">
                <a:solidFill>
                  <a:srgbClr val="4d4d4d"/>
                </a:solidFill>
                <a:latin typeface="Tahoma"/>
              </a:rPr>
              <a:t>experiência estrangeir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1522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cc"/>
                </a:solidFill>
                <a:latin typeface="Tahoma"/>
              </a:rPr>
              <a:t>Objetivos específicos</a:t>
            </a:r>
            <a:endParaRPr b="0" lang="en-US" sz="42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algumas constat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4d4d4d"/>
                </a:solidFill>
                <a:latin typeface="Tahoma"/>
              </a:rPr>
              <a:t>    </a:t>
            </a:r>
            <a:r>
              <a:rPr b="1" lang="pt-BR" sz="2000" spc="-1" strike="noStrike">
                <a:solidFill>
                  <a:srgbClr val="ff3300"/>
                </a:solidFill>
                <a:latin typeface="Tahoma"/>
              </a:rPr>
              <a:t>Limitações para tanto da cobrança pelo uso da água bruta, como da cobrança pelos serviços de saneamento de gerar os recursos necessários</a:t>
            </a: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es usuários: o que pagam ou pagarão não será suficiente para a reversão do quadr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tor público e os organismos de fomento: Buscar fontes de financiamento de “baixo custo” para gestão e investiment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Sem capacidade de intervenção e melhoria real dos problemas que afetam a qualidade da água e a disponibilidade hídrica, sistema pode cair em descrédito, e a cobrança passa a ser vista como apenas mais um impost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Gradualismo e simplicidade: qualidades essenciais, dentro do já complicado sistema federalista brasileir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Criação de agências de bacias ou sub-bacias precedida de análise de sua sustentabilidade econômico-financeira, social e técnica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210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d4d4d"/>
                </a:solidFill>
                <a:latin typeface="Tahoma"/>
              </a:rPr>
              <a:t>Uniformidade na cobrança pelo uso da água: metodologias díspares em cada bacia ou sub-bacia, reduz transparência, prejudica a aceitabilidade e o impacto ambiental da aplicação do instrumento</a:t>
            </a:r>
            <a:endParaRPr b="0" lang="en-US" sz="2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</a:rPr>
              <a:t>Estruturação da gestão de recursos hídricos no Brasil – recomendações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81240" y="144756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etividade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sistema de gestão de gerar receitas para financiamento das atividades necessárias ao alcance dos objetivos para os quais o sistema foi montado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financeir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é relativa aos custos de transação decorrentes dos encargos gerados para as autoridades responsáveis por sua aplicação e para os usuári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Eficiência econômica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a cobrança de incorporar os custos sociais (externalidades) dos usos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Impacto ambiental</a:t>
            </a:r>
            <a:r>
              <a:rPr b="0" lang="pt-BR" sz="2000" spc="-1" strike="noStrike">
                <a:solidFill>
                  <a:srgbClr val="4d4d4d"/>
                </a:solidFill>
                <a:latin typeface="Tahoma"/>
              </a:rPr>
              <a:t>: capacidade do instrumento de influenciar o comportamento dos usuários e melhorar a qualidade ambient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 algn="just">
              <a:lnSpc>
                <a:spcPct val="115000"/>
              </a:lnSpc>
              <a:spcBef>
                <a:spcPts val="601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d4d4d"/>
                </a:solidFill>
                <a:latin typeface="Tahoma"/>
              </a:rPr>
              <a:t>Praticabilidade e Aceitabilidade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cc"/>
                </a:solidFill>
                <a:latin typeface="Tahoma"/>
              </a:rPr>
              <a:t>Cobrança pelo uso da água x Instrumento Econômico</a:t>
            </a:r>
            <a:r>
              <a:rPr b="0" lang="pt-BR" sz="2400" spc="-1" strike="noStrike">
                <a:solidFill>
                  <a:srgbClr val="0000c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doméstico individual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Reduz uso quant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Não tem controle sobre o uso qualitativ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ode privilegiar conforto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Limitações macroeconômic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2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Prestadores dos serviços de água e esgot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spcBef>
                <a:spcPts val="225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Se repassam não são induzidos a reduzir uso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91404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d4d4d"/>
                </a:solidFill>
                <a:latin typeface="Tahoma"/>
              </a:rPr>
              <a:t>Usuário industrial:</a:t>
            </a:r>
            <a:endParaRPr b="0" lang="en-US" sz="30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remamente sensível à cobrança quantitativ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Mais sensível à cobrança qualitativa quando descarrega os efluentes diretamente nos corpos hídric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571680" indent="-571680" algn="just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Descarga em rede pública: depende dos padrões permitidos e do tipo de tarifa/cobrança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cc"/>
                </a:solidFill>
                <a:latin typeface="Tahoma"/>
                <a:ea typeface="Times New Roman"/>
              </a:rPr>
              <a:t>Comportamentos esperados em relação à cobrança (cont)</a:t>
            </a:r>
            <a:endParaRPr b="0" lang="en-US" sz="32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609480"/>
            <a:ext cx="76201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Cobrança da água bruta na França, Alemanha, Holanda e </a:t>
            </a:r>
            <a:br>
              <a:rPr sz="3600"/>
            </a:br>
            <a:r>
              <a:rPr b="0" lang="pt-BR" sz="3600" spc="-1" strike="noStrike">
                <a:solidFill>
                  <a:srgbClr val="0000cc"/>
                </a:solidFill>
                <a:latin typeface="Tahoma"/>
              </a:rPr>
              <a:t>Inglaterra &amp; País de Gales 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cc"/>
                </a:solidFill>
                <a:latin typeface="Tahoma"/>
              </a:rPr>
              <a:t>Cobrança nos países analisados</a:t>
            </a:r>
            <a:endParaRPr b="0" lang="en-US" sz="38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não se baseia nos danos ambientais decorrentes do uso da água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é um instrumento arrecadador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Desvinculação entre a cobrança por qualidade e por quantidad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s por captação e por consumo incidem sobre o volume outorgado/licenciado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por kg de poluente presente no efluente final (tabelas de cargas poluentes por tipologia e porte da fonte)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por poluição: fórmula única definida nacionalmente e incide sobre fatores de cobrança também definidos nacionalmente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Tahoma"/>
              </a:rPr>
              <a:t>Cobrança gradual (valores unitários e  novos poluentes) </a:t>
            </a: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1T16:30:18Z</dcterms:created>
  <dc:creator>FGV</dc:creator>
  <dc:description/>
  <dc:language>en-US</dc:language>
  <cp:lastModifiedBy>Mramos</cp:lastModifiedBy>
  <cp:lastPrinted>2002-04-01T16:57:58Z</cp:lastPrinted>
  <dcterms:modified xsi:type="dcterms:W3CDTF">2002-09-24T22:47:50Z</dcterms:modified>
  <cp:revision>56</cp:revision>
  <dc:subject/>
  <dc:title>O IMPACTO DA COBRANÇA PELO USO DA ÁGUA NO COMPORTAMENTO DO USUÁRIO</dc:title>
</cp:coreProperties>
</file>