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A348-4A26-4BAC-956E-E4550050E8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9BA4A-1D9F-4956-8C4A-FFD76E26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0C84B-E042-4499-A824-9725EAAE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C8D0F-9CDD-4E5C-9FF8-C889A04E8B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2E2B1-244E-4059-866A-70E0E18B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BDC80-9185-4711-8C49-93C9ADC8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8D164-723D-4207-87F2-A9B28581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6CEF7-5CE7-4B4B-8FEE-21248EC8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E4628-B3F8-4A26-AF0F-6C5B6637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D81DF-8A00-41BD-84DF-9B4A96DD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AB666-3D23-4714-8304-1ECDCCA2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9457F-AFDB-43CF-A359-6BA87B0B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8136D-8D09-4019-967C-59F13220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B6061-DCE3-4A61-8D9F-55F2C83D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52586F-11E8-4A7F-92F0-052C7EF2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56BF19-DA56-4B2A-A876-A7A706D6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52F18-D0C7-43F1-9E40-0DCB89396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AE11F-BB2C-4B77-8ADB-22C827F1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D8A8C-0DC8-4ED1-BB25-422D439F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498E0-57A7-4E3A-ADD9-155EBDAB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F1203-1CD7-4DEC-A91A-C33F466D7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4DA53-D303-41F5-9060-D909AFC0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423F7-15A1-4978-BE96-9E4AA218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C35EF-F22D-4CA5-8317-0FCEBFABF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5053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4169-337C-4FA3-BFE1-EB5A9C03FD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BB1F-1C59-492E-A262-FB4B27D07F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3280" y="3978360"/>
            <a:ext cx="8136000" cy="1679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ociação Regional dos Usuários de Recursos Hídricos do Brasil Cen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de: Caldas Novas – 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457280" y="981000"/>
            <a:ext cx="623088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685160" y="260280"/>
            <a:ext cx="57736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ipos de Empreendimen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 do mar para lazer e entretenimento e água doce de poços tubulares somente para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cursos de água doce, rios e lagos, “in situ”, ou por meio de derivação ou captação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Que utilizam águas superficiais ou subterrâneas, consideradas minerais para lazer e entretenimento e/ou infra-estru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42440" y="260280"/>
            <a:ext cx="6459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mpacto Setoriais da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joração dos custos dos empreendi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acia do rio Paraíba do Sul, critérios e valores para uso industrial e saneamento básico: água captada + água consumida + variação de DBO entre captação e devolu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generalizada para o setor turístico em termo de Brasil ou regional, é prematu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mo em mananciais tão próximos com Caldas Novas e Rio Quente, há diferenciações técnicas consideráveis e complex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60480" y="260280"/>
            <a:ext cx="72230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finição de “Usos Insignificante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39640" y="1219320"/>
            <a:ext cx="8064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ve variar de bacia para bacia, considerando quantidade e qualidade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“in situ” que não altere o volume e a qualidade dos corpos d’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Águas subterrâneas extraídas, quando devolvidas em igual volume e qualidade por intermédio de recarga artifi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ceito de Berlim - Alemanha: desde que o usuário não cause alteração no equilíbrio do corpo d’água, nada deve ser cobr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6000" y="260280"/>
            <a:ext cx="85338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mites de Sustentabilidade Econômica da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539640" y="1368360"/>
            <a:ext cx="806472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É necessário que se faça avaliação profunda do setor turístico, partindo do âmbito nacional para os regionais e até mesmo para os loc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s limites e condições da cobrança se processam em termos de bacia hidrográf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esmo no caso da bacia do rio Paraíba do Sul ainda aguarda-se soluções relacionadas a dominialidade para os recursos hídricos subterrâneos e/ou miner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25080" y="260280"/>
            <a:ext cx="849420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para Avaliações de Subsídi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640" y="1635120"/>
            <a:ext cx="8064720" cy="38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ar todos os fundamentos econômico-financeiros e sociais da ativida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resas turísticas são de natureza muito variada em seus níveis de atividade, de infra-estrutura aplicada, de insumos utilizados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ismo – atividade “limpa”: atenuação do grau de agressividade ao equilíbrio natural dos recurs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97200" y="260280"/>
            <a:ext cx="894996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ugestões de Tetos Máximos de Cobranç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39640" y="1994040"/>
            <a:ext cx="80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5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lumbramos como fórmula mais justa aquela que levar em conta, que ao usuário que promova a devolução da água em sua plenitude mantendo o equilíbrio do corpo d’água não seja imposto qualquer tipo de 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7040" y="260280"/>
            <a:ext cx="8811000" cy="52056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ras Considerações Sobre os Critérios de Cobranç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39640" y="1295280"/>
            <a:ext cx="8064720" cy="46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termais: foco e essência do turismo na Região das Águas Qu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elo grau de purez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 serem de uso limi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ão especiais porque carecem de ampla proteção e preserv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gerimos, mecanismos de compensação às empresas que investirem na manutenção e equilíbrio do corpo hídrico e do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716360" y="5013360"/>
            <a:ext cx="3099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ernando Gambi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Geo. Fábio Haesbae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Jáckson A. R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sp. TH. Lázaro Cun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aboração - A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29592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40840" y="333000"/>
            <a:ext cx="6861960" cy="119124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ÁGUA PARA O TURISM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OBRANÇA PELO SEU US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1120" y="5013360"/>
            <a:ext cx="295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laboraçã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Emerson M.Co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cn. Marcos F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Adv. Leila P. Pas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ng. Valter E. Per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57280" y="1700280"/>
            <a:ext cx="6230880" cy="2919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116000" y="4978440"/>
            <a:ext cx="691344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953360" y="26028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84360" y="1197000"/>
            <a:ext cx="8423280" cy="4953600"/>
            <a:chOff x="684360" y="1197000"/>
            <a:chExt cx="8423280" cy="4953600"/>
          </a:xfrm>
        </p:grpSpPr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684360" y="1197000"/>
              <a:ext cx="8423280" cy="475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532920" y="5813280"/>
              <a:ext cx="195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EMBRATU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953360" y="266760"/>
            <a:ext cx="52372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Turístic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03280" y="1214280"/>
            <a:ext cx="8136000" cy="4914360"/>
            <a:chOff x="503280" y="1214280"/>
            <a:chExt cx="8136000" cy="4914360"/>
          </a:xfrm>
        </p:grpSpPr>
        <p:sp>
          <p:nvSpPr>
            <p:cNvPr id="99" name=""/>
            <p:cNvSpPr/>
            <p:nvPr/>
          </p:nvSpPr>
          <p:spPr>
            <a:xfrm>
              <a:off x="503280" y="1214280"/>
              <a:ext cx="8136000" cy="4515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mundial – 12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Brasil - Receita direta e indireta R$39,1(bilhões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Participação PIB nacional – 3,5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io de Janeiro, Florianópolis e Salvador, recebem 63% do fluxo internacional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1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Gasto médio per capita/dia: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Internacional - US$ 79,08</a:t>
              </a:r>
              <a:br>
                <a:rPr sz="2800"/>
              </a:br>
              <a:r>
                <a:rPr b="0" lang="pt-BR" sz="2800" spc="-1" strike="noStrike">
                  <a:solidFill>
                    <a:srgbClr val="ffffff"/>
                  </a:solidFill>
                  <a:latin typeface="Arial"/>
                </a:rPr>
                <a:t>Receptivo Doméstico - R$ 25,35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81880" y="57913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39640" y="1355760"/>
            <a:ext cx="8064360" cy="4426560"/>
            <a:chOff x="539640" y="1355760"/>
            <a:chExt cx="8064360" cy="4426560"/>
          </a:xfrm>
        </p:grpSpPr>
        <p:sp>
          <p:nvSpPr>
            <p:cNvPr id="105" name=""/>
            <p:cNvSpPr/>
            <p:nvPr/>
          </p:nvSpPr>
          <p:spPr>
            <a:xfrm>
              <a:off x="539640" y="1355760"/>
              <a:ext cx="8064360" cy="4040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m volume de geração de divisas, só perde para a soj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Cada US$7(mil) deixados no Brasil repercute na manutenção de 1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170(mil) na Indústria automobilística ou R$40(mil) num hotel ou R$10(mil) num restaurante geram 1 novo emprego diret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$50 de matéria-prima emprega um artesã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34920" y="5445000"/>
              <a:ext cx="217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38960" y="26028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4653000"/>
            <a:ext cx="7920000" cy="792000"/>
          </a:xfrm>
          <a:prstGeom prst="rect">
            <a:avLst/>
          </a:prstGeom>
          <a:solidFill>
            <a:srgbClr val="ffff00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11280" y="1197000"/>
            <a:ext cx="7920000" cy="4637880"/>
            <a:chOff x="611280" y="1197000"/>
            <a:chExt cx="7920000" cy="4637880"/>
          </a:xfrm>
        </p:grpSpPr>
        <p:grpSp>
          <p:nvGrpSpPr>
            <p:cNvPr id="112" name=""/>
            <p:cNvGrpSpPr/>
            <p:nvPr/>
          </p:nvGrpSpPr>
          <p:grpSpPr>
            <a:xfrm>
              <a:off x="611280" y="1197000"/>
              <a:ext cx="7920000" cy="4247640"/>
              <a:chOff x="611280" y="1197000"/>
              <a:chExt cx="7920000" cy="4247640"/>
            </a:xfrm>
          </p:grpSpPr>
          <p:sp>
            <p:nvSpPr>
              <p:cNvPr id="113" name=""/>
              <p:cNvSpPr/>
              <p:nvPr/>
            </p:nvSpPr>
            <p:spPr>
              <a:xfrm>
                <a:off x="760680" y="1197000"/>
                <a:ext cx="7546320" cy="420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eração de Empregos Diretos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An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Geral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Turismo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1996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3.830.812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882.215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2000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25.752.249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1.241.708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Ganho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     8,06%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3600" spc="-1" strike="noStrike">
                    <a:solidFill>
                      <a:srgbClr val="ffffff"/>
                    </a:solidFill>
                    <a:latin typeface="Arial"/>
                  </a:rPr>
                  <a:t> 40,75%</a:t>
                </a:r>
                <a:endParaRPr b="0" lang="en-US" sz="3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1280" y="1274400"/>
                <a:ext cx="7920000" cy="417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1280" y="213696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1280" y="300060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1280" y="37915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1280" y="4653720"/>
                <a:ext cx="792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9456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11280" y="2136960"/>
                <a:ext cx="0" cy="3307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7166880" y="5497560"/>
              <a:ext cx="128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RAI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926000" y="266760"/>
            <a:ext cx="52664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ados do Setor Na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39640" y="1332000"/>
            <a:ext cx="8064720" cy="4595040"/>
            <a:chOff x="539640" y="1332000"/>
            <a:chExt cx="8064720" cy="4595040"/>
          </a:xfrm>
        </p:grpSpPr>
        <p:sp>
          <p:nvSpPr>
            <p:cNvPr id="126" name=""/>
            <p:cNvSpPr/>
            <p:nvPr/>
          </p:nvSpPr>
          <p:spPr>
            <a:xfrm>
              <a:off x="539640" y="1332000"/>
              <a:ext cx="8064720" cy="4218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tua em 53 segmentos diferentes da economi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65% turismo é doméstico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7% das viagens tem motivação turística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3% dos turistas se hospedam em casas de amigo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53880" indent="-353880" algn="just">
                <a:lnSpc>
                  <a:spcPct val="100000"/>
                </a:lnSpc>
                <a:spcBef>
                  <a:spcPts val="1400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s Estados do Brasil Central, apesar do potencial, emitem de 2 a 3 vezes mais turista do que recebem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75400" y="5589720"/>
              <a:ext cx="285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nte: Carta de Goiás e FI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35400" y="260280"/>
            <a:ext cx="427284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ção ao Tem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1368360"/>
            <a:ext cx="8064720" cy="43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tual escassez e poluição cresc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cientização  da interdependência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– Meio Amb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ituição de 1988: bem de domínio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ito novo: contradições e dúvi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brança em valores reais: enfoques distintos pelos diferentes setores econôm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 no TURISMO: essencial x subestim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41440" y="260280"/>
            <a:ext cx="8061480" cy="642600"/>
          </a:xfrm>
          <a:prstGeom prst="rect">
            <a:avLst/>
          </a:pr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ceitos Preliminares - Pressupos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360" y="62802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5/09/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7594560" y="6093000"/>
            <a:ext cx="1476360" cy="6904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39640" y="1368360"/>
            <a:ext cx="806472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guas de superfícies e subterrâneas, único sistema na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hecer a água como bem público com valor econôm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urgente necessidade de racionalizar o uso da águ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53880" indent="-3538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inação dos recursos para programas e intervenções para conseguir auto-sustentação e manutenção dos regimes naturais das águ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18:36:37Z</dcterms:created>
  <dc:creator>CTRQ</dc:creator>
  <dc:description/>
  <dc:language>en-US</dc:language>
  <cp:lastModifiedBy>CTRQ</cp:lastModifiedBy>
  <dcterms:modified xsi:type="dcterms:W3CDTF">2002-09-25T14:53:38Z</dcterms:modified>
  <cp:revision>30</cp:revision>
  <dc:subject/>
  <dc:title>Apresentação do PowerPoint</dc:title>
</cp:coreProperties>
</file>