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792C6-9C1D-4CC2-A59C-E9A3E54448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AA869-7397-49DB-A848-1A4A5D5A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C832C-8F4D-47E0-902D-CAB9B9CB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9B633-5256-40CB-AEFF-74719CC98D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00CD5-FABC-41D4-83CE-CA1D21C5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8045E-7A06-4E24-A0CF-9F001DA2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7B90D-97B1-484D-A2BE-52D33646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76452-14E3-40F3-B691-3C01AB19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D0ED8-92F7-4F04-8FF2-E76D1635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7CC75-9F88-4AA0-94A4-7007909C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46CF1-7D1B-410F-9198-6BF11034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9C189-51BE-444A-B815-4F314970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4F75E-7B51-465C-BB0E-CDBCAB33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89F30-FBBD-4E0E-A802-FDBE8C97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C04DA-80A8-4329-A9FB-71BC62EE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A32FB-8CDD-47B9-9029-3C3E4D05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BDF64-025B-4228-9EF5-8A7B506C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B8AE4-F28F-46FE-9BCA-883E28BD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67DCB-20F3-43E6-AD8A-FA9769F4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4B87F-9156-4A6F-83ED-AE330EE0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E7D6D-ED71-45A5-8188-3B440E71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1990F-4F8D-4BF0-A205-6BB55881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A04F1-EBEF-4EE7-B4C9-7E8D6D87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304A0-96E6-4B74-934A-46C164E3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5053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7C0D-F0A2-4334-B104-88B6FAF1E4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3BCC-3F0C-4A5F-9DA3-FBDC88EEEB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8920" y="295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3280" y="3978360"/>
            <a:ext cx="8136000" cy="1679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ção Regional dos Usuários de Recursos Hídricos do Brasil Cen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e: Caldas Novas – 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457280" y="981000"/>
            <a:ext cx="623088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85160" y="260280"/>
            <a:ext cx="57736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pos de Empreendimen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1368360"/>
            <a:ext cx="806472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água do mar para lazer e entretenimento e água doce de poços tubulares somente para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cursos de água doce, rios e lagos, “in situ”, ou por meio de derivação ou captação para lazer e entretenimento e/ou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águas superficiais ou subterrâneas, consideradas minerais para lazer e entretenimento e/ou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42440" y="260280"/>
            <a:ext cx="64594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acto Setoriais da Cobranç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9640" y="1219320"/>
            <a:ext cx="806472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ação dos custos dos empreendi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acia do rio Paraíba do Sul, critérios e valores para uso industrial e saneamento básico: água captada + água consumida + variação de DBO entre captação e devolu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brança generalizada para o setor turístico em termo de Brasil ou regional, é prema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mo em mananciais tão próximos com Caldas Novas e Rio Quente, há diferenciações técnicas consideráveis e complex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60480" y="260280"/>
            <a:ext cx="72230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finição de “Usos Insignificante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39640" y="1219320"/>
            <a:ext cx="806472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ve variar de bacia para bacia, considerando quantidade e qualidade das águ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so “in situ” que não altere o volume e a qualidade dos corpos d’águ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Águas subterrâneas extraídas, quando devolvidas em igual volume e qualidade por intermédio de recarga artifi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ceito de Berlim - Alemanha: desde que o usuário não cause alteração no equilíbrio do corpo d’água, nada deve ser cobr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6000" y="260280"/>
            <a:ext cx="8533800" cy="5205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imites de Sustentabilidade Econômica da Cobranç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39640" y="1368360"/>
            <a:ext cx="806472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É necessário que se faça avaliação profunda do setor turístico, partindo do âmbito nacional para os regionais e até mesmo para os loc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s limites e condições da cobrança se processam em termos de bacia hidrográf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esmo no caso da bacia do rio Paraíba do Sul ainda aguarda-se soluções relacionadas a dominialidade para os recursos hídricos subterrâneos e/ou miner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5080" y="260280"/>
            <a:ext cx="849420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gestões para Avaliações de Subsídi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9640" y="1635120"/>
            <a:ext cx="806472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ar todos os fundamentos econômico-financeiros e sociais da ativi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resas turísticas são de natureza muito variada em seus níveis de atividade, de infra-estrutura aplicada, de insumos utilizados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ismo – atividade “limpa”: atenuação do grau de agressividade ao equilíbrio natural dos recur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7200" y="260280"/>
            <a:ext cx="894996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gestões de Tetos Máximos de Cobranç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39640" y="1994040"/>
            <a:ext cx="80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lumbramos como fórmula mais justa aquela que levar em conta, que ao usuário que promova a devolução da água em sua plenitude mantendo o equilíbrio do corpo d’água não seja imposto qualquer tipo de cobranç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7040" y="260280"/>
            <a:ext cx="8811000" cy="5205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ras Considerações Sobre os Critérios de Cobranç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9640" y="1295280"/>
            <a:ext cx="806472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s termais: foco e essência do turismo na Região das Águas Qu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elo grau de pure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or serem de uso limi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orque carecem de ampla proteção e preserv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gerimos, mecanismos de compensação às empresas que investirem na manutenção e equilíbrio do corpo hídrico e do meio amb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716360" y="5013360"/>
            <a:ext cx="3099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eo. Fernando Gamb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eo. Fábio Haesba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Jáckson A. R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sp. TH. Lázaro Cun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laboração - A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295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0840" y="333000"/>
            <a:ext cx="6861960" cy="11912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ÁGUA PARA O TURISM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COBRANÇA PELO SEU US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01120" y="5013360"/>
            <a:ext cx="295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laboraçã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Emerson M.Cos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cn. Marcos F. Per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Leila P. Pas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ng. Valter E. Per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57280" y="1700280"/>
            <a:ext cx="6230880" cy="2919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16000" y="4978440"/>
            <a:ext cx="691344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3360" y="260280"/>
            <a:ext cx="52372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Turís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84360" y="1197000"/>
            <a:ext cx="8423280" cy="4953600"/>
            <a:chOff x="684360" y="1197000"/>
            <a:chExt cx="8423280" cy="495360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684360" y="1197000"/>
              <a:ext cx="8423280" cy="47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532920" y="5813280"/>
              <a:ext cx="195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EMBRATU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3360" y="266760"/>
            <a:ext cx="52372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Turís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03280" y="1214280"/>
            <a:ext cx="8136000" cy="4914360"/>
            <a:chOff x="503280" y="1214280"/>
            <a:chExt cx="8136000" cy="4914360"/>
          </a:xfrm>
        </p:grpSpPr>
        <p:sp>
          <p:nvSpPr>
            <p:cNvPr id="99" name=""/>
            <p:cNvSpPr/>
            <p:nvPr/>
          </p:nvSpPr>
          <p:spPr>
            <a:xfrm>
              <a:off x="503280" y="1214280"/>
              <a:ext cx="8136000" cy="451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Participação PIB mundial – 12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Brasil - Receita direta e indireta R$39,1(bilhões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Participação PIB nacional – 3,5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io de Janeiro, Florianópolis e Salvador, recebem 63% do fluxo internaciona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Gasto médio per capita/dia:</a:t>
              </a:r>
              <a:br>
                <a:rPr sz="2800"/>
              </a:b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eceptivo Internacional - US$ 79,08</a:t>
              </a:r>
              <a:br>
                <a:rPr sz="2800"/>
              </a:b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eceptivo Doméstico - R$ 25,3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81880" y="5791320"/>
              <a:ext cx="28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 e FIP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926000" y="26676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39640" y="1355760"/>
            <a:ext cx="8064360" cy="4426560"/>
            <a:chOff x="539640" y="1355760"/>
            <a:chExt cx="8064360" cy="4426560"/>
          </a:xfrm>
        </p:grpSpPr>
        <p:sp>
          <p:nvSpPr>
            <p:cNvPr id="105" name=""/>
            <p:cNvSpPr/>
            <p:nvPr/>
          </p:nvSpPr>
          <p:spPr>
            <a:xfrm>
              <a:off x="539640" y="1355760"/>
              <a:ext cx="8064360" cy="4040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m volume de geração de divisas, só perde para a soj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ada US$7(mil) deixados no Brasil repercute na manutenção de 1 emprego diret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$170(mil) na Indústria automobilística ou R$40(mil) num hotel ou R$10(mil) num restaurante geram 1 novo emprego diret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$50 de matéria-prima emprega um artesã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34920" y="5445000"/>
              <a:ext cx="217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38960" y="26028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4653000"/>
            <a:ext cx="7920000" cy="792000"/>
          </a:xfrm>
          <a:prstGeom prst="rect">
            <a:avLst/>
          </a:prstGeom>
          <a:solidFill>
            <a:srgbClr val="ffff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11280" y="1197000"/>
            <a:ext cx="7920000" cy="4637880"/>
            <a:chOff x="611280" y="1197000"/>
            <a:chExt cx="7920000" cy="4637880"/>
          </a:xfrm>
        </p:grpSpPr>
        <p:grpSp>
          <p:nvGrpSpPr>
            <p:cNvPr id="112" name=""/>
            <p:cNvGrpSpPr/>
            <p:nvPr/>
          </p:nvGrpSpPr>
          <p:grpSpPr>
            <a:xfrm>
              <a:off x="611280" y="1197000"/>
              <a:ext cx="7920000" cy="4247640"/>
              <a:chOff x="611280" y="1197000"/>
              <a:chExt cx="7920000" cy="4247640"/>
            </a:xfrm>
          </p:grpSpPr>
          <p:sp>
            <p:nvSpPr>
              <p:cNvPr id="113" name=""/>
              <p:cNvSpPr/>
              <p:nvPr/>
            </p:nvSpPr>
            <p:spPr>
              <a:xfrm>
                <a:off x="760680" y="1197000"/>
                <a:ext cx="7546320" cy="420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Geração de Empregos Diretos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Ano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Geral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Turismo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1996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23.830.812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882.215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2000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25.752.249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1.241.708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Ganho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8,06%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40,75%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1280" y="1274400"/>
                <a:ext cx="7920000" cy="4170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1280" y="213696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1280" y="300060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1280" y="379152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1280" y="465372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94560" y="2136960"/>
                <a:ext cx="0" cy="3307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11280" y="2136960"/>
                <a:ext cx="0" cy="3307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7166880" y="5497560"/>
              <a:ext cx="128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RA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926000" y="26676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39640" y="1332000"/>
            <a:ext cx="8064720" cy="4595040"/>
            <a:chOff x="539640" y="1332000"/>
            <a:chExt cx="8064720" cy="4595040"/>
          </a:xfrm>
        </p:grpSpPr>
        <p:sp>
          <p:nvSpPr>
            <p:cNvPr id="126" name=""/>
            <p:cNvSpPr/>
            <p:nvPr/>
          </p:nvSpPr>
          <p:spPr>
            <a:xfrm>
              <a:off x="539640" y="1332000"/>
              <a:ext cx="8064720" cy="4218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tua em 53 segmentos diferentes da econom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5% turismo é doméstic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77% das viagens tem motivação turístic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73% dos turistas se hospedam em casas de amig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s Estados do Brasil Central, apesar do potencial, emitem de 2 a 3 vezes mais turista do que recebe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75400" y="5589720"/>
              <a:ext cx="28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 e FIP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35400" y="260280"/>
            <a:ext cx="42728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odução ao Te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9640" y="1368360"/>
            <a:ext cx="8064720" cy="43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ual escassez e poluição cresc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cientização  da interdependência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 – Meio Amb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ituição de 1988: bem de domínio pú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ito novo: contradições e dúvi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brança em valores reais: enfoques distintos pelos diferentes setores econô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 no TURISMO: essencial x subestim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41440" y="260280"/>
            <a:ext cx="80614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eitos Preliminares - Pressupos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9640" y="1368360"/>
            <a:ext cx="8064720" cy="44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s de superfícies e subterrâneas, único sistema natu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hecer a água como bem público com valor econôm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urgente necessidade de racionalizar o uso da águ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tinação dos recursos para programas e intervenções para conseguir auto-sustentação e manutenção dos regimes naturais das águ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18:36:37Z</dcterms:created>
  <dc:creator>CTRQ</dc:creator>
  <dc:description/>
  <dc:language>en-US</dc:language>
  <cp:lastModifiedBy>CTRQ</cp:lastModifiedBy>
  <dcterms:modified xsi:type="dcterms:W3CDTF">2002-09-25T14:53:38Z</dcterms:modified>
  <cp:revision>30</cp:revision>
  <dc:subject/>
  <dc:title>Apresentação do PowerPoint</dc:title>
</cp:coreProperties>
</file>