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7CF75-F561-4178-AA0A-7681D838B8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3524-605E-4341-A4E8-62B6A673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5A43-CDB3-42CB-987B-C1FBA58F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8D68C-4602-42FC-94BF-C0E8849EFD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E9238-04F0-4D27-8477-36B3375A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C7BDF-BD8B-4BD3-A7E0-CCA9A103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D1DA8-98D0-4F98-87AB-0A9BB509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96E66-8C7F-4AD9-B1B5-F81D100C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59483-B01C-4D41-8ED0-AABF642B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E01AB-EC3A-4602-A86A-07714965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44FE7-8044-4FE0-AAAC-4F1AFAF4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A8851-2A0D-441A-9E85-E3418616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31CF7-BAEF-424E-A99B-3B40E6D6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D5995-EC37-4A88-BD8A-2980AEB1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37DC6-D170-46D9-92E8-39557597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7451A-19D9-4B27-82CF-A19A9D82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73C5C-FF7D-4A22-A068-E2EBED77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D6B3A-E075-4797-9631-12650F8D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26D8D-74ED-427D-B6F1-985DF140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6189-42E2-4232-BE43-69D563CA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B3F8-6C70-493E-95AA-310C8CC2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CF25-00F9-49A4-B4C0-060C67FF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8AF70-61FC-413F-B14E-6DC3F075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89F6-64AE-4BFE-8C9D-7A6F3EA3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5053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5889-2302-4172-89EE-EBA99527B8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2194-FBDA-440B-9C8A-D6B5865FF5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3978360"/>
            <a:ext cx="8136000" cy="167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ção Regional dos Usuários de Recursos Hídricos do Brasil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e: Caldas Novas – 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457280" y="981000"/>
            <a:ext cx="62308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85160" y="260280"/>
            <a:ext cx="57736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pos de Empreendim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 do mar para lazer e entretenimento e água doce de poços tubulares somente para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cursos de água doce, rios e lagos, “in situ”, ou por meio de derivação ou captação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s superficiais ou subterrâneas, consideradas minerais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42440" y="260280"/>
            <a:ext cx="6459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acto Setoriais da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ação dos custos dos empreendi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cia do rio Paraíba do Sul, critérios e valores para uso industrial e saneamento básico: água captada + água consumida + variação de DBO entre captação e devolu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generalizada para o setor turístico em termo de Brasil ou regional, é prem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mo em mananciais tão próximos com Caldas Novas e Rio Quente, há diferenciações técnicas consideráveis e complex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60480" y="260280"/>
            <a:ext cx="72230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finição de “Usos Insignificante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ve variar de bacia para bacia, considerando quantidade e qualidade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“in situ” que não altere o volume e a qualidade dos corpos d’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Águas subterrâneas extraídas, quando devolvidas em igual volume e qualidade por intermédio de recarga arti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ceito de Berlim - Alemanha: desde que o usuário não cause alteração no equilíbrio do corpo d’água, nada deve ser cob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6000" y="260280"/>
            <a:ext cx="85338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mites de Sustentabilidade Econômica da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É necessário que se faça avaliação profunda do setor turístico, partindo do âmbito nacional para os regionais e até mesmo para os loc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limites e condições da cobrança se processam em termos de bacia hidrográ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smo no caso da bacia do rio Paraíba do Sul ainda aguarda-se soluções relacionadas a dominialidade para os recursos hídricos subterrâneos e/ou miner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5080" y="260280"/>
            <a:ext cx="849420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para Avaliações de Subsíd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640" y="1635120"/>
            <a:ext cx="806472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ar todos os fundamentos econômico-financeiros e sociais da ativ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resas turísticas são de natureza muito variada em seus níveis de atividade, de infra-estrutura aplicada, de insumos utilizados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ismo – atividade “limpa”: atenuação do grau de agressividade ao equilíbrio natural dos 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200" y="260280"/>
            <a:ext cx="894996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de Tetos Máximos de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9640" y="199404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lumbramos como fórmula mais justa aquela que levar em conta, que ao usuário que promova a devolução da água em sua plenitude mantendo o equilíbrio do corpo d’água não seja imposto qualquer tipo de 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7040" y="260280"/>
            <a:ext cx="88110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ras Considerações Sobre os Critérios de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1295280"/>
            <a:ext cx="80647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termais: foco e essência do turismo na Região das Águas Qu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elo grau de pure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 serem de uso limi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que carecem de ampla proteção e preserv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erimos, mecanismos de compensação às empresas que investirem na manutenção e equilíbrio do corpo hídrico e do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16360" y="5013360"/>
            <a:ext cx="309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ernando Gamb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ábio Haesba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Jáckson A. R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p. TH. Lázaro Cun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aboração - A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0840" y="333000"/>
            <a:ext cx="6861960" cy="1191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ÁGUA PARA O TURISM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OBRANÇA PELO SEU U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1120" y="5013360"/>
            <a:ext cx="295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labor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Emerson M.Co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cn. Marcos F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Leila P. Pas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g. Valter E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57280" y="1700280"/>
            <a:ext cx="6230880" cy="2919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4978440"/>
            <a:ext cx="691344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3360" y="26028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4360" y="1197000"/>
            <a:ext cx="8423280" cy="4953600"/>
            <a:chOff x="684360" y="1197000"/>
            <a:chExt cx="8423280" cy="495360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684360" y="1197000"/>
              <a:ext cx="8423280" cy="47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532920" y="5813280"/>
              <a:ext cx="195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EMBRATU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3360" y="26676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03280" y="1214280"/>
            <a:ext cx="8136000" cy="4914360"/>
            <a:chOff x="503280" y="1214280"/>
            <a:chExt cx="8136000" cy="4914360"/>
          </a:xfrm>
        </p:grpSpPr>
        <p:sp>
          <p:nvSpPr>
            <p:cNvPr id="99" name=""/>
            <p:cNvSpPr/>
            <p:nvPr/>
          </p:nvSpPr>
          <p:spPr>
            <a:xfrm>
              <a:off x="503280" y="1214280"/>
              <a:ext cx="8136000" cy="451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mundial – 12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Brasil - Receita direta e indireta R$39,1(bilhões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nacional – 3,5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io de Janeiro, Florianópolis e Salvador, recebem 63% do fluxo internacion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Gasto médio per capita/dia: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Internacional - US$ 79,08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Doméstico - R$ 25,3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81880" y="57913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9640" y="1355760"/>
            <a:ext cx="8064360" cy="4426560"/>
            <a:chOff x="539640" y="1355760"/>
            <a:chExt cx="8064360" cy="4426560"/>
          </a:xfrm>
        </p:grpSpPr>
        <p:sp>
          <p:nvSpPr>
            <p:cNvPr id="105" name=""/>
            <p:cNvSpPr/>
            <p:nvPr/>
          </p:nvSpPr>
          <p:spPr>
            <a:xfrm>
              <a:off x="539640" y="1355760"/>
              <a:ext cx="8064360" cy="4040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m volume de geração de divisas, só perde para a so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ada US$7(mil) deixados no Brasil repercute na manutenção de 1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170(mil) na Indústria automobilística ou R$40(mil) num hotel ou R$10(mil) num restaurante geram 1 novo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50 de matéria-prima emprega um artesã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4920" y="5445000"/>
              <a:ext cx="217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38960" y="26028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653000"/>
            <a:ext cx="7920000" cy="79200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11280" y="1197000"/>
            <a:ext cx="7920000" cy="4637880"/>
            <a:chOff x="611280" y="1197000"/>
            <a:chExt cx="7920000" cy="4637880"/>
          </a:xfrm>
        </p:grpSpPr>
        <p:grpSp>
          <p:nvGrpSpPr>
            <p:cNvPr id="112" name=""/>
            <p:cNvGrpSpPr/>
            <p:nvPr/>
          </p:nvGrpSpPr>
          <p:grpSpPr>
            <a:xfrm>
              <a:off x="611280" y="1197000"/>
              <a:ext cx="7920000" cy="4247640"/>
              <a:chOff x="611280" y="1197000"/>
              <a:chExt cx="7920000" cy="4247640"/>
            </a:xfrm>
          </p:grpSpPr>
          <p:sp>
            <p:nvSpPr>
              <p:cNvPr id="113" name=""/>
              <p:cNvSpPr/>
              <p:nvPr/>
            </p:nvSpPr>
            <p:spPr>
              <a:xfrm>
                <a:off x="760680" y="1197000"/>
                <a:ext cx="7546320" cy="42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eração de Empregos Diretos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An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Geral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Turismo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1996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3.830.81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882.215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2000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5.752.249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1.241.708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anh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8,06%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40,75%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1280" y="1274400"/>
                <a:ext cx="7920000" cy="417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1280" y="213696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1280" y="300060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1280" y="37915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1280" y="46537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9456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1128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166880" y="549756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RA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39640" y="1332000"/>
            <a:ext cx="8064720" cy="4595040"/>
            <a:chOff x="539640" y="1332000"/>
            <a:chExt cx="8064720" cy="4595040"/>
          </a:xfrm>
        </p:grpSpPr>
        <p:sp>
          <p:nvSpPr>
            <p:cNvPr id="126" name=""/>
            <p:cNvSpPr/>
            <p:nvPr/>
          </p:nvSpPr>
          <p:spPr>
            <a:xfrm>
              <a:off x="539640" y="1332000"/>
              <a:ext cx="8064720" cy="4218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tua em 53 segmentos diferentes da econom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5% turismo é domésti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7% das viagens tem motivação turíst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3% dos turistas se hospedam em casas de amig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s Estados do Brasil Central, apesar do potencial, emitem de 2 a 3 vezes mais turista do que recebe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75400" y="55897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35400" y="260280"/>
            <a:ext cx="42728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ção ao T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1368360"/>
            <a:ext cx="80647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 escassez e poluição cresc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cientização  da interdependência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–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ição de 1988: bem de domínio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ito novo: contradições e dúv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em valores reais: enfoques distintos pelos diferentes setores econô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no TURISMO: essencial x subesti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41440" y="260280"/>
            <a:ext cx="8061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eitos Preliminares - Pressupos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1368360"/>
            <a:ext cx="806472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de superfícies e subterrâneas, único sistema na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hecer a água como bem público com valor econôm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urgente necessidade de racionalizar o uso da 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inação dos recursos para programas e intervenções para conseguir auto-sustentação e manutenção dos regimes naturais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8:36:37Z</dcterms:created>
  <dc:creator>CTRQ</dc:creator>
  <dc:description/>
  <dc:language>en-US</dc:language>
  <cp:lastModifiedBy>CTRQ</cp:lastModifiedBy>
  <dcterms:modified xsi:type="dcterms:W3CDTF">2002-09-25T14:53:38Z</dcterms:modified>
  <cp:revision>30</cp:revision>
  <dc:subject/>
  <dc:title>Apresentação do PowerPoint</dc:title>
</cp:coreProperties>
</file>