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D9F3-5DE6-4DBC-9C07-F66CAF1C8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CAA6-057E-4887-93BE-628CAA147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5208-BE97-4A7B-9B88-ADC67860F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A8D9-D62C-4496-8578-E0525ADFE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C4C9-EBB8-434A-B9BE-8A809F061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3FA7-4E5D-4AC7-BD69-709945D03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665E-9AF2-4442-8279-156DED27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D8DA-FB3E-41A9-9198-7ABB7673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597D-3319-4FE1-878A-CAD3A6AA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0525-EF19-40B1-8600-0C00EA11E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735B-F12A-48CD-A43A-E043C0CDF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9E68-5B31-407F-86DF-615D2002B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d4d4d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d4d4d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d4d4d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d4d4d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d4d4d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D19F0-A8B9-4649-A080-9DB562F25F6F}" type="slidenum">
              <a:rPr b="0" lang="pt-BR" sz="14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457200" indent="0"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2" marL="914400" algn="ctr">
              <a:lnSpc>
                <a:spcPct val="95000"/>
              </a:lnSpc>
              <a:spcBef>
                <a:spcPts val="1049"/>
              </a:spcBef>
              <a:buClr>
                <a:srgbClr val="4d4d4d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3" marL="1371600" algn="ctr">
              <a:lnSpc>
                <a:spcPct val="75000"/>
              </a:lnSpc>
              <a:spcBef>
                <a:spcPts val="751"/>
              </a:spcBef>
              <a:buClr>
                <a:srgbClr val="4d4d4d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4" marL="1828800" algn="ctr">
              <a:lnSpc>
                <a:spcPct val="75000"/>
              </a:lnSpc>
              <a:spcBef>
                <a:spcPts val="675"/>
              </a:spcBef>
              <a:buClr>
                <a:srgbClr val="4d4d4d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cc"/>
                </a:solidFill>
                <a:latin typeface="Tahoma"/>
              </a:rPr>
              <a:t>O IMPACTO DA COBRANÇA PELO USO DA ÁGUA </a:t>
            </a:r>
            <a:br>
              <a:rPr sz="4400"/>
            </a:br>
            <a:r>
              <a:rPr b="1" lang="pt-BR" sz="4400" spc="-1" strike="noStrike">
                <a:solidFill>
                  <a:srgbClr val="0000cc"/>
                </a:solidFill>
                <a:latin typeface="Tahoma"/>
              </a:rPr>
              <a:t>NO COMPORTAMENTO</a:t>
            </a:r>
            <a:br>
              <a:rPr sz="4400"/>
            </a:br>
            <a:r>
              <a:rPr b="1" lang="pt-BR" sz="4400" spc="-1" strike="noStrike">
                <a:solidFill>
                  <a:srgbClr val="0000cc"/>
                </a:solidFill>
                <a:latin typeface="Tahoma"/>
              </a:rPr>
              <a:t> DO USUÁRIO</a:t>
            </a:r>
            <a:endParaRPr b="0" lang="en-US" sz="4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09480" y="4572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Tahoma"/>
              </a:rPr>
              <a:t>Marilene de O. Ramos M. dos Santos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Tahoma"/>
              </a:rPr>
              <a:t>D.Sc. Engenharia Ambiental 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Tahoma"/>
              </a:rPr>
              <a:t>Coordenadora do Núcleo de Águas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Tahoma"/>
              </a:rPr>
              <a:t>CIDS/EBAPE/FGV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345960" y="255600"/>
          <a:ext cx="8452080" cy="634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5960" y="255600"/>
                    <a:ext cx="8452080" cy="634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Tahoma"/>
              </a:rPr>
              <a:t>O impacto da cobrança sobre o usuário doméstico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71680" y="1257480"/>
          <a:ext cx="7981920" cy="560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1257480"/>
                    <a:ext cx="7981920" cy="56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533520" y="2590920"/>
          <a:ext cx="8065800" cy="307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590920"/>
                    <a:ext cx="8065800" cy="30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Tahoma"/>
              </a:rPr>
              <a:t>O impacto da cobrança sobre</a:t>
            </a:r>
            <a:br>
              <a:rPr sz="3200"/>
            </a:br>
            <a:r>
              <a:rPr b="0" lang="pt-BR" sz="3200" spc="-1" strike="noStrike">
                <a:solidFill>
                  <a:srgbClr val="0000cc"/>
                </a:solidFill>
                <a:latin typeface="Tahoma"/>
              </a:rPr>
              <a:t> o usuário doméstico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Tahoma"/>
              </a:rPr>
              <a:t>O impacto da cobrança sobre o usuário industrial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6280" y="1447920"/>
          <a:ext cx="8172360" cy="523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1447920"/>
                    <a:ext cx="8172360" cy="52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61960" y="38160"/>
            <a:ext cx="802152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609480"/>
            <a:ext cx="76201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cc"/>
                </a:solidFill>
                <a:latin typeface="Tahoma"/>
              </a:rPr>
              <a:t>Eficiência e efetividade financeira da cobrança pelo uso da água</a:t>
            </a:r>
            <a:endParaRPr b="0" lang="en-US" sz="36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550800" y="835200"/>
          <a:ext cx="8042400" cy="5187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00" y="835200"/>
                    <a:ext cx="8042400" cy="51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cc"/>
                </a:solidFill>
                <a:latin typeface="Tahoma"/>
              </a:rPr>
              <a:t>Eficiência e efetividade financeira da cobrança pelo uso da água</a:t>
            </a: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1752480"/>
            <a:ext cx="8458200" cy="55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Inglaterra e País de Gales:</a:t>
            </a:r>
            <a:br>
              <a:rPr sz="2200"/>
            </a:b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“Cobrança equivalente”: US$1,5/hab.ano</a:t>
            </a:r>
            <a:br>
              <a:rPr sz="2200"/>
            </a:b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 Financia apenas os custos do sistema de gestão (administrativos e de monitoramento)</a:t>
            </a:r>
            <a:endParaRPr b="0" lang="en-US" sz="22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França:</a:t>
            </a:r>
            <a:br>
              <a:rPr sz="2200"/>
            </a:b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“Cobrança equivalente”: US$30/hab.ano</a:t>
            </a:r>
            <a:br>
              <a:rPr sz="2200"/>
            </a:b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 Gera recursos para financiar parte dos investimento contemplados nos planos de bacia e os custos administrativos dos comitês/agências</a:t>
            </a:r>
            <a:endParaRPr b="0" lang="en-US" sz="22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Holanda:</a:t>
            </a:r>
            <a:br>
              <a:rPr sz="2200"/>
            </a:b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“Cobrança equivalente”: US$43/hab.ano</a:t>
            </a:r>
            <a:br>
              <a:rPr sz="2200"/>
            </a:b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 ressarcimento às agências dos custos incorridos para tratamento dos efluentes nas estações sob sua responsabilidade</a:t>
            </a:r>
            <a:br>
              <a:rPr sz="2200"/>
            </a:b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143000" y="609480"/>
            <a:ext cx="76201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cc"/>
                </a:solidFill>
                <a:latin typeface="Tahoma"/>
              </a:rPr>
              <a:t>Avaliação das experiências/propostas brasileiras</a:t>
            </a:r>
            <a:endParaRPr b="0" lang="en-US" sz="4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76320" y="1239840"/>
          <a:ext cx="8993160" cy="437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239840"/>
                    <a:ext cx="8993160" cy="43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854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120000"/>
              </a:lnSpc>
              <a:spcBef>
                <a:spcPts val="31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4d4d4d"/>
                </a:solidFill>
                <a:latin typeface="Tahoma"/>
              </a:rPr>
              <a:t>Analisar o impacto da </a:t>
            </a:r>
            <a:br>
              <a:rPr sz="4200"/>
            </a:br>
            <a:r>
              <a:rPr b="0" lang="pt-BR" sz="4200" spc="-1" strike="noStrike">
                <a:solidFill>
                  <a:srgbClr val="4d4d4d"/>
                </a:solidFill>
                <a:latin typeface="Tahoma"/>
              </a:rPr>
              <a:t>cobrança pelo uso da água bruta e da cobrança-tarifaç</a:t>
            </a:r>
            <a:r>
              <a:rPr b="0" lang="pt-BR" sz="4200" spc="-1" strike="noStrike">
                <a:solidFill>
                  <a:srgbClr val="4d4d4d"/>
                </a:solidFill>
                <a:latin typeface="Tahoma"/>
                <a:ea typeface="Tahoma"/>
              </a:rPr>
              <a:t>ão </a:t>
            </a:r>
            <a:br>
              <a:rPr sz="4200"/>
            </a:br>
            <a:r>
              <a:rPr b="0" lang="pt-BR" sz="4200" spc="-1" strike="noStrike">
                <a:solidFill>
                  <a:srgbClr val="4d4d4d"/>
                </a:solidFill>
                <a:latin typeface="Tahoma"/>
                <a:ea typeface="Tahoma"/>
              </a:rPr>
              <a:t>de água e esgoto </a:t>
            </a:r>
            <a:r>
              <a:rPr b="0" lang="pt-BR" sz="4200" spc="-1" strike="noStrike">
                <a:solidFill>
                  <a:srgbClr val="4d4d4d"/>
                </a:solidFill>
                <a:latin typeface="Tahoma"/>
              </a:rPr>
              <a:t>sobre o comportamento do usuário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28600"/>
            <a:ext cx="7619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00cc"/>
                </a:solidFill>
                <a:latin typeface="Tahoma"/>
              </a:rPr>
              <a:t>Objetivo global do estudo</a:t>
            </a:r>
            <a:endParaRPr b="0" lang="en-US" sz="4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Tahoma"/>
              </a:rPr>
              <a:t>Impactos da cobrança pelo uso da água sobre as tarifas de saneamento no Brasil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76320" y="1295280"/>
          <a:ext cx="8991360" cy="522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295280"/>
                    <a:ext cx="8991360" cy="522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380880" y="304920"/>
          <a:ext cx="830592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04920"/>
                    <a:ext cx="830592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457200" y="0"/>
          <a:ext cx="82296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0"/>
                    <a:ext cx="82296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685800" y="1828800"/>
          <a:ext cx="7591320" cy="421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28800"/>
                    <a:ext cx="7591320" cy="42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0" y="22860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cc"/>
                </a:solidFill>
                <a:latin typeface="Tahoma"/>
              </a:rPr>
              <a:t>Tarifa x Consumo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cc"/>
                </a:solidFill>
                <a:latin typeface="Tahoma"/>
              </a:rPr>
              <a:t>Países da OCDE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cc"/>
                </a:solidFill>
                <a:latin typeface="Tahoma"/>
              </a:rPr>
              <a:t>Relação Tarifas x Consumo no Brasil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Brasil: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Conta de água: R$55/hab.ano =1% da renda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Conta de água e esgoto: R$107/hab.ano = 2% da renda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Países da OCDE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Conta de Água+Esgoto = 0,3 a 0,8% da renda 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Repasse para as tarifas dos custos de ampliação destes é limitada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Tarifas ponderadas elevadas e níveis de consumo moderados para um país tropical: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Tarifa média = US$1,13/m³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Consumo médio = 150l/hab.dia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Defasagem entre custos de provisão e tarifas vem se reduzindo, média de  6% (2000)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Arial"/>
              </a:rPr>
              <a:t>Simulação da receita potencial da cobrança por uso da água no Brasil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Médio prazo: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Sem cobrança nas bacias do Amazonas, Tocantins e Paraguai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Demais bacias adotou-se como “</a:t>
            </a:r>
            <a:r>
              <a:rPr b="1" i="1" lang="pt-BR" sz="2600" spc="-1" strike="noStrike">
                <a:solidFill>
                  <a:srgbClr val="4d4d4d"/>
                </a:solidFill>
                <a:latin typeface="Tahoma"/>
              </a:rPr>
              <a:t>cobrança unitária per capita de médio prazo”</a:t>
            </a: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 os seguintes valores: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Vertente N/NE e São Francisco: US$0,6/hab.ano (similar ao Ceará)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Vertente Leste, Uruguai e Vertente S/SE: US$1,3/hab.ano (similar ao Paraíba do Sul)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Bacia do Paraná US$5/hab.ano (similar ao proposto para São Paulo)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09480" y="167616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Longo prazo: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Cobrança  futura em níveis similares ao sistema francês, mas ponderado pela capacidade de pagamento existente em cada bacia (renda per capita)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3300"/>
                </a:solidFill>
                <a:latin typeface="Tahoma"/>
              </a:rPr>
              <a:t>Cobrança Longo Prazo (US$/hab.ano)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3300"/>
                </a:solidFill>
                <a:latin typeface="Tahoma"/>
              </a:rPr>
              <a:t>= 30*PIB</a:t>
            </a:r>
            <a:r>
              <a:rPr b="1" lang="pt-BR" sz="2600" spc="-1" strike="noStrike" baseline="-25000">
                <a:solidFill>
                  <a:srgbClr val="ff3300"/>
                </a:solidFill>
                <a:latin typeface="Tahoma"/>
              </a:rPr>
              <a:t>BACIA</a:t>
            </a:r>
            <a:r>
              <a:rPr b="1" lang="pt-BR" sz="2600" spc="-1" strike="noStrike">
                <a:solidFill>
                  <a:srgbClr val="ff3300"/>
                </a:solidFill>
                <a:latin typeface="Tahoma"/>
              </a:rPr>
              <a:t>/23.954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Sendo: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Cobrança francesa = US$30/hab.ano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PIB França = US$23.954/hab.ano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Arial"/>
              </a:rPr>
              <a:t>Simulação da receita potencial da cobrança por uso da água no Brasil (cont)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115920" y="380880"/>
          <a:ext cx="8913960" cy="594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920" y="380880"/>
                    <a:ext cx="891396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457200"/>
            <a:ext cx="7315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cc"/>
                </a:solidFill>
                <a:latin typeface="Tahoma"/>
              </a:rPr>
              <a:t>Impacto ambiental da cobrança no Brasil: alguns cenários</a:t>
            </a:r>
            <a:endParaRPr b="0" lang="en-US" sz="3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Investimentos em Água e Esgoto (SEDU, 1998):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R$44 bilhões, até 2010: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R$20 bilhões em coleta de esgotos;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R$10 bilhões em tratamento;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R$ 7 bilhões em distribuição de água; e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R$7bilhões em reposição dos sistemas existentes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Investimento em redução da poluição industrial (MENDES, 1994):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Abatimento mínimo de 50% da carga poluente: US$815 milhões/ano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Abatimento mínimo de 75% da carga poluente: US$1.006 milhões/ano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Abatimento máximo da carga poluente: US$1.659 milhões/ano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cc"/>
                </a:solidFill>
                <a:latin typeface="Tahoma"/>
              </a:rPr>
              <a:t>Impacto ambiental da cobrança no Brasil: alguns cenários (cont)</a:t>
            </a:r>
            <a:endParaRPr b="0" lang="en-US" sz="38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914040" y="13716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spcBef>
                <a:spcPts val="1800"/>
              </a:spcBef>
              <a:buClr>
                <a:srgbClr val="4d4d4d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Análise da experiência estrangeira de cobrança pelo uso da água bruta em termos de eficiência e efetividade (financeira e econômica), impacto ambiental, praticabilidade e aceitabilidade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56592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2) Análise das práticas dos países da OCDE em termos de tarifaç</a:t>
            </a:r>
            <a:r>
              <a:rPr b="0" lang="pt-BR" sz="2400" spc="-1" strike="noStrike">
                <a:solidFill>
                  <a:srgbClr val="4d4d4d"/>
                </a:solidFill>
                <a:latin typeface="Tahoma"/>
                <a:ea typeface="Tahoma"/>
              </a:rPr>
              <a:t>ão de água e esgoto</a:t>
            </a: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 e seu impacto sobre o usuário doméstico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56592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3) Avaliaç</a:t>
            </a:r>
            <a:r>
              <a:rPr b="0" lang="pt-BR" sz="2400" spc="-1" strike="noStrike">
                <a:solidFill>
                  <a:srgbClr val="4d4d4d"/>
                </a:solidFill>
                <a:latin typeface="Tahoma"/>
                <a:ea typeface="Tahoma"/>
              </a:rPr>
              <a:t>ão</a:t>
            </a: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 das potencialidades, impactos e limites da cobrança e tarifaç</a:t>
            </a:r>
            <a:r>
              <a:rPr b="0" lang="pt-BR" sz="2400" spc="-1" strike="noStrike">
                <a:solidFill>
                  <a:srgbClr val="4d4d4d"/>
                </a:solidFill>
                <a:latin typeface="Tahoma"/>
                <a:ea typeface="Tahoma"/>
              </a:rPr>
              <a:t>ão</a:t>
            </a: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 de água no Brasil, </a:t>
            </a:r>
            <a:r>
              <a:rPr b="0" lang="pt-BR" sz="2400" spc="-1" strike="noStrike">
                <a:solidFill>
                  <a:srgbClr val="4d4d4d"/>
                </a:solidFill>
                <a:latin typeface="Tahoma"/>
                <a:ea typeface="Tahoma"/>
              </a:rPr>
              <a:t>à luz da </a:t>
            </a: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experiência estrangeira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152280"/>
            <a:ext cx="7620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00cc"/>
                </a:solidFill>
                <a:latin typeface="Tahoma"/>
              </a:rPr>
              <a:t>Objetivos específicos</a:t>
            </a:r>
            <a:endParaRPr b="0" lang="en-US" sz="4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Tahoma"/>
              </a:rPr>
              <a:t>Estruturação da gestão de recursos hídricos no Brasil – algumas constatações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d4d4d"/>
                </a:solidFill>
                <a:latin typeface="Tahoma"/>
              </a:rPr>
              <a:t>    </a:t>
            </a:r>
            <a:r>
              <a:rPr b="1" lang="pt-BR" sz="2000" spc="-1" strike="noStrike">
                <a:solidFill>
                  <a:srgbClr val="ff3300"/>
                </a:solidFill>
                <a:latin typeface="Tahoma"/>
              </a:rPr>
              <a:t>Limitações para tanto da cobrança pelo uso da água bruta, como da cobrança pelos serviços de saneamento de gerar os recursos necessários</a:t>
            </a: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1500"/>
              </a:spcBef>
              <a:buClr>
                <a:srgbClr val="4d4d4d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Setores usuários: o que pagam ou pagarão não será suficiente para a reversão do quadro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1500"/>
              </a:spcBef>
              <a:buClr>
                <a:srgbClr val="4d4d4d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Setor público e os organismos de fomento: Buscar fontes de financiamento de “baixo custo” para gestão e investimentos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1500"/>
              </a:spcBef>
              <a:buClr>
                <a:srgbClr val="4d4d4d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Sem capacidade de intervenção e melhoria real dos problemas que afetam a qualidade da água e a disponibilidade hídrica, sistema pode cair em descrédito, e a cobrança passa a ser vista como apenas mais um imposto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914040" y="129528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21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d4d4d"/>
                </a:solidFill>
                <a:latin typeface="Tahoma"/>
              </a:rPr>
              <a:t>Gradualismo e simplicidade: qualidades essenciais, dentro do já complicado sistema federalista brasileiro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21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d4d4d"/>
                </a:solidFill>
                <a:latin typeface="Tahoma"/>
              </a:rPr>
              <a:t>Criação de agências de bacias ou sub-bacias precedida de análise de sua sustentabilidade econômico-financeira, social e técnica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21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d4d4d"/>
                </a:solidFill>
                <a:latin typeface="Tahoma"/>
              </a:rPr>
              <a:t>Uniformidade na cobrança pelo uso da água: metodologias díspares em cada bacia ou sub-bacia, reduz transparência, prejudica a aceitabilidade e o impacto ambiental da aplicação do instrumento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685440" y="15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Tahoma"/>
              </a:rPr>
              <a:t>Estruturação da gestão de recursos hídricos no Brasil – recomendações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-381240" y="1447560"/>
            <a:ext cx="92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115000"/>
              </a:lnSpc>
              <a:spcBef>
                <a:spcPts val="601"/>
              </a:spcBef>
              <a:buClr>
                <a:srgbClr val="4d4d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Efetividade financeira</a:t>
            </a:r>
            <a:r>
              <a:rPr b="0" lang="pt-BR" sz="2000" spc="-1" strike="noStrike">
                <a:solidFill>
                  <a:srgbClr val="4d4d4d"/>
                </a:solidFill>
                <a:latin typeface="Tahoma"/>
              </a:rPr>
              <a:t>: capacidade do sistema de gestão de gerar receitas para financiamento das atividades necessárias ao alcance dos objetivos para os quais o sistema foi montado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>
              <a:lnSpc>
                <a:spcPct val="115000"/>
              </a:lnSpc>
              <a:spcBef>
                <a:spcPts val="601"/>
              </a:spcBef>
              <a:buClr>
                <a:srgbClr val="4d4d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Eficiência financeira</a:t>
            </a:r>
            <a:r>
              <a:rPr b="0" lang="pt-BR" sz="2000" spc="-1" strike="noStrike">
                <a:solidFill>
                  <a:srgbClr val="4d4d4d"/>
                </a:solidFill>
                <a:latin typeface="Tahoma"/>
              </a:rPr>
              <a:t>: é relativa aos custos de transação decorrentes dos encargos gerados para as autoridades responsáveis por sua aplicação e para os usuários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>
              <a:lnSpc>
                <a:spcPct val="115000"/>
              </a:lnSpc>
              <a:spcBef>
                <a:spcPts val="601"/>
              </a:spcBef>
              <a:buClr>
                <a:srgbClr val="4d4d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Eficiência econômica</a:t>
            </a:r>
            <a:r>
              <a:rPr b="0" lang="pt-BR" sz="2000" spc="-1" strike="noStrike">
                <a:solidFill>
                  <a:srgbClr val="4d4d4d"/>
                </a:solidFill>
                <a:latin typeface="Tahoma"/>
              </a:rPr>
              <a:t>: capacidade da cobrança de incorporar os custos sociais (externalidades) dos usos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>
              <a:lnSpc>
                <a:spcPct val="115000"/>
              </a:lnSpc>
              <a:spcBef>
                <a:spcPts val="601"/>
              </a:spcBef>
              <a:buClr>
                <a:srgbClr val="4d4d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Impacto ambiental</a:t>
            </a:r>
            <a:r>
              <a:rPr b="0" lang="pt-BR" sz="2000" spc="-1" strike="noStrike">
                <a:solidFill>
                  <a:srgbClr val="4d4d4d"/>
                </a:solidFill>
                <a:latin typeface="Tahoma"/>
              </a:rPr>
              <a:t>: capacidade do instrumento de influenciar o comportamento dos usuários e melhorar a qualidade ambiental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115000"/>
              </a:lnSpc>
              <a:spcBef>
                <a:spcPts val="601"/>
              </a:spcBef>
              <a:buClr>
                <a:srgbClr val="4d4d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Praticabilidade e Aceitabilidade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Tahoma"/>
              </a:rPr>
              <a:t>Cobrança pelo uso da água x Instrumento Econômico</a:t>
            </a:r>
            <a:r>
              <a:rPr b="0" lang="pt-BR" sz="2400" spc="-1" strike="noStrike">
                <a:solidFill>
                  <a:srgbClr val="0000cc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 algn="just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Usuário doméstico individua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 algn="just">
              <a:spcBef>
                <a:spcPts val="19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Reduz uso quantitativo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 algn="just">
              <a:spcBef>
                <a:spcPts val="19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Não tem controle sobre o uso qualitativo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 algn="just">
              <a:spcBef>
                <a:spcPts val="19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Pode privilegiar conforto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 algn="just">
              <a:spcBef>
                <a:spcPts val="19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Limitações macroeconômicas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Tahoma"/>
                <a:ea typeface="Times New Roman"/>
              </a:rPr>
              <a:t>Comportamentos esperados em relação à cobrança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Tahoma"/>
                <a:ea typeface="Times New Roman"/>
              </a:rPr>
              <a:t>Comportamentos esperados em relação à cobrança (cont)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 algn="just"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Tahoma"/>
              </a:rPr>
              <a:t>Prestadores dos serviços de água e esgoto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 algn="just">
              <a:spcBef>
                <a:spcPts val="2251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Se repassam não são induzidos a reduzir uso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914040" y="18284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 algn="just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Usuário industrial: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 algn="just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Extremamente sensível à cobrança quantitativa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 algn="just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Mais sensível à cobrança qualitativa quando descarrega os efluentes diretamente nos corpos hídricos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 algn="just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Descarga em rede pública: depende dos padrões permitidos e do tipo de tarifa/cobrança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Tahoma"/>
                <a:ea typeface="Times New Roman"/>
              </a:rPr>
              <a:t>Comportamentos esperados em relação à cobrança (cont)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143000" y="609480"/>
            <a:ext cx="76201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cc"/>
                </a:solidFill>
                <a:latin typeface="Tahoma"/>
              </a:rPr>
              <a:t>Cobrança da água bruta na França, Alemanha, Holanda e </a:t>
            </a:r>
            <a:br>
              <a:rPr sz="3600"/>
            </a:br>
            <a:r>
              <a:rPr b="0" lang="pt-BR" sz="3600" spc="-1" strike="noStrike">
                <a:solidFill>
                  <a:srgbClr val="0000cc"/>
                </a:solidFill>
                <a:latin typeface="Tahoma"/>
              </a:rPr>
              <a:t>Inglaterra &amp; País de Gales </a:t>
            </a:r>
            <a:endParaRPr b="0" lang="en-US" sz="36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cc"/>
                </a:solidFill>
                <a:latin typeface="Tahoma"/>
              </a:rPr>
              <a:t>Cobrança nos países analisados</a:t>
            </a:r>
            <a:endParaRPr b="0" lang="en-US" sz="3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Tahoma"/>
              </a:rPr>
              <a:t>Cobrança não se baseia nos danos ambientais decorrentes do uso da água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Tahoma"/>
              </a:rPr>
              <a:t>Cobrança é um instrumento arrecadador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Tahoma"/>
              </a:rPr>
              <a:t>Desvinculação entre a cobrança por qualidade e por quantidade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Tahoma"/>
              </a:rPr>
              <a:t>Cobranças por captação e por consumo incidem sobre o volume outorgado/licenciado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Tahoma"/>
              </a:rPr>
              <a:t>Cobrança por poluição: por kg de poluente presente no efluente final (tabelas de cargas poluentes por tipologia e porte da fonte)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Tahoma"/>
              </a:rPr>
              <a:t>Cobrança por poluição: fórmula única definida nacionalmente e incide sobre fatores de cobrança também definidos nacionalmente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Tahoma"/>
              </a:rPr>
              <a:t>Cobrança gradual (valores unitários e  novos poluentes) 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1T16:30:18Z</dcterms:created>
  <dc:creator>FGV</dc:creator>
  <dc:description/>
  <dc:language>en-US</dc:language>
  <cp:lastModifiedBy>Mramos</cp:lastModifiedBy>
  <cp:lastPrinted>2002-04-01T16:57:58Z</cp:lastPrinted>
  <dcterms:modified xsi:type="dcterms:W3CDTF">2002-09-24T22:47:50Z</dcterms:modified>
  <cp:revision>56</cp:revision>
  <dc:subject/>
  <dc:title>O IMPACTO DA COBRANÇA PELO USO DA ÁGUA NO COMPORTAMENTO DO USUÁRIO</dc:title>
</cp:coreProperties>
</file>