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5BB7-6502-4375-AE1D-BDC141596B3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Depois do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exemplifica o que foi colocado aqui pela CNA, na última reunião, sobre a grande segmentação do Setor, com muitas diferenças e especialidades em cada segmento, abrangendo fatores como: extensão das áreas, volume de água utilizado, grau de tecnologia, métodos e manejos empregados, níveis de administração, conhecimento, organização, faturamento, capital investido e endivid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s mecanismos para a Cobrança devem permitir tratar os desiguais de modo desigual, levando em consideração a disponibilidade local de água, a dimensão do impacto nos recursos hídricos da Bacia, a capacidade individual do usuário, a dimensão de seu negócio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i solicitado aos membros desta Câmara Técnica que, na qualidade de representantes de determinados setores, apresentassem suas opiniões sobre o assunto cobranç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inistério da Integração não representa 01, mas sim diversos setores, contemplados em suas ações em todo o território nacional, sempre de modo descentraliz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 MI... (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sas Obras de Infra-Estrutura Hídrica compreendem o universo dos investimentos públicos em irrigação e drenagem, que estão entre as principais ações do Ministério, do DNOCS na atualidade e da CODEVASF ao longo de toda sua história. Mas compreendem, além disso, projetos para o abastecimento humano em regiões carentes de água, principalmente para amenizar os efeitos das secas no Semi-Árido Brasileiro. E também outras ações, como a construção de barragens de uso múltiplo incluindo, além do abastecimento e da irrigação, proteção contra enchentes, recreação e turismo, ou a pequena geração hidrelétrica; ou ainda, projetos de piscicultura,  associados ou não a projetos de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ntrando um pouco mais na atuação de cada um desses órgão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055960" y="244440"/>
            <a:ext cx="2823840" cy="2117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28600" y="2590560"/>
            <a:ext cx="64008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INFRA-ESTRUTURA (NACIONAL) busca a ampliação da oferta de água, por meio da conclusão de obras fundamentais e prioritárias: adutoras, canais, barragens, transposição de bacias e extração de águas subterrâneas. Desenvolve ainda, ações direcionadas à construção de obras para a contenção de enchentes, por meio da canalização de córregos e rios, cais de proteção, muro de arrimo, drenagem pluvial, dragagem de cursos d'água e obras de combate a erosão. Além de ações voltadas para a perfuração e equipamento de poços públicos em pequenas e médias comunidades, dessalinização de água para o consumo humano, recuperação e manutenção de barragens e sistemas simplificados de abastecimento de água. Em 2002 o Programa conta com mais de R$ 1,3 bilhão alocados pelo OG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SEMI-ÁRIDO, financiado com recursos do Banco Mundial e contrapartida da União e dos Estados,  visa a garantir a ampliação da oferta de água de boa qualidade no semi-árido, com uso racional, para que a escassez não impeça o desenvolvimento sustentável. Ao Ministério da Integração Nacional cabe financiar, supervisionar e gerenciar as obras hidráulicas do programa. As atividades relacionadas à Gestão de Recursos Hídricos, estudos e projetos estão a cargo do Ministério do Meio Ambiente – por meio da sua Secretaria de Recursos Hídricos (que dá suporte à atuação do CNRH). De julho de 1998 a dezembro de 2003, estão previstos investimentos da ordem de US$ 330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DE IRRIGAÇÃO E DRENAGEM estimula a agricultura irrigada para expandir a produção agrícola em todo o país, com ênfase nos estados do Nordeste. O programa tem um leque amplo de ações que vai desde a elaboração de estudos básicos e projetos de engenharia e a construção de obras hídricas até ações de desenvolvimento agrícola. Estão previstas ações até 2015, mediante um investimento total da ordem de R$ 3,9 bilhões. Esses recursos vão beneficiar uma população estimada em 2,4 milhões de habitantes, podendo gerar 1,2 milhão de empregos (isso sem entrar no debate do Serra e do Lula que contempla algo em torno de 3,0 milhões de empregos no campo em 4 ano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JETO SÃO FRANCISCO dispensa maiores comentários. Convém apenas lembrar que é menos uma transposição e mais uma derivação de água, cujos números impressionam mas que, em termos relativos, são pequenos para (no meu entendimento, de Eng. Hidráulico), para caracterizar uma transposição de bacias propriamente dita. A água é aduzida para uma região altamente carente, onde vai favorecer uma sinergia de esforços, com operação mais racional dos sistemas de recursos hídricos e um significativo aumento da oferta hídrica global. Os principais usos são o abastecimento e a pequena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ÁGUA NA ESCOLA Dotar todas as escolas públicas com mais de 20 alunos, nos municípios beneficiados, de um sistema de abastecimento de água de boa qualidade para o consumo humano Foram selecionados 2.318 municípios, em diversos estados, para atendimento entre 2000 e 2002, mediante um investimento total de R$ 135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embro aqui a colocação da apresentação do Setor das Indústrias, na última reunião, tendo sido observado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altam estudos consubstanciados sobre o impacto da cobrança nas cadeias produtivas, por seto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esmo se aplica à Agricultura Irrigada e, acredito, todos ou quase todos os set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NA, aliás, ressaltou em sua apresentação a grande segmentação do Setor de Irrigação e o fato de ele situar-se na base do Agronegócio, viabilizando uma imensa cadeia de negócios, produtos e serviços. Assim, chegou-se à conclusão de que “Para avaliar o impacto sobre o setor como um todo, há que se efetuar estudos muito mais profund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5F0-B3A0-434C-AFE9-2348D6D9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8AEA-AA81-4820-97E6-A6765DEF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310-A542-41F1-9EAC-F05132A7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DAC-7619-40E7-92FE-8D55C820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A094-56F4-41F9-A776-2E54BAC3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DDF0-8878-4D7B-87A4-C730B288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CFBC-868C-40F1-939D-62FAD0A3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96CE-1119-485E-8DB1-95DAFAC4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CDEA-C7EC-4DFF-9424-013D7D50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6C23-F965-4DAD-A96C-40C492D2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B51B-4C0C-4C27-A247-ADBB619E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6EC-D128-4E94-BDC4-8C81181C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8A6D-5704-469A-9883-B2987FA4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78F8-7235-4928-AEB2-52180F2C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4284-A6DE-465C-9FD3-5B53EE18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1BEA-CDFC-4678-9C80-75DEC24D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2676-9A87-498D-A217-F8B2FFD5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75D-77BC-4903-9FCE-300CA9BB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877-B8FB-4EBF-9D3E-26E8E536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65E-428E-4409-AC76-7A2BCFD3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A4D-4EBA-4427-9778-08F26C07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043-090F-49DD-B848-85B7D88E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CA2-903C-4E9F-B6EF-70731178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BB4-FEEE-48C2-97C0-BED4ED2F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A7E2-930B-41EE-BC31-4BE5841BDCF2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0CF0-8DFF-430F-A832-EB7E17255C4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iderações sobre o tema da</a:t>
            </a:r>
            <a:br>
              <a:rPr sz="32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BRANÇA PELO USO DOS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mbro Titular do CNR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EDSON ZORZ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l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DEMETRIOS CHRISTOFID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presentante junto à CTCOB e à C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FERNANDO CAB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tembro/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Usos Insignificant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 Derivações consideradas Insignificantes não estão sujeitas à Cobranç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(conforme a PNRH - Lei n.º 9433/97, Artigos 12 e 20 combinad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 ponto de vista dos volumes de água derivados no tempo, dificilmente se caracterizam “usos insignificantes” em Irrig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emplo - Subsistência de 1 família no NE (5 pessoas): Cultivo Irrigado de Área &gt; 4,0 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ação mínima de 40.000 m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ano                            ( ~ Abastecimento de Água para 500 pessoa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Outros Aspectos com relação à Cobrança da Água para Aproveitamentos Hidroagrícol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drões de Eficiência por tipo de projeto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Limites para Consumo de Água          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ossibilidade de Sobretaxas como incentivo à otimização do uso da á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a bacia com grande presença de agricultores de subsistência não pode ter o mesmo tratamento, em termos de cobrança, que bacias com produtores empresa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260280"/>
            <a:ext cx="8893080" cy="65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MPACTOS  REG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que viabiliza a produção empresarial em pólos agrícolas na região Nordes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a Agricultura Familiar - Subsistência do Pequeno Produtor no Semi-Árido Brasileiro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complementar no Centro-Oeste (que tem mais água que o Nordeste, mas nem tanta nos períodos em que o agricultor precisa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o Sudeste, onde há bacias com restrições em termos de qualidade das águas e, por vezes, conflitos já estabelecid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de Várzeas no Sul, assegurando elevadas produtividades no cultivo do arroz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ODAS ESSAS SÃO SITUAÇÕES MUITO DISTI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Gera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É consensual a importância dos PLANOS DE BACIA para a implementação da Cobranç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s Planos de Bacia devem levar em conta a existência de ZEE – Zoneamento Econômico e Ecológico  e  de Planos de Ordenamento Territorial que disciplinem o uso do solo em diferentes bacias / sub-bac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 vista disso, e por contemplarem as particularidades de cada Bacia Hidrográfica, é de se esperar que produzam subsídios técnicos importantes para a implantação da Cobrança em bases sustentá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tre outras informações, devem estabelecer as prioridades de uso e quais aqueles que independem de outor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Times New Roman"/>
              </a:rPr>
              <a:t>Inter-relação dos Instrumentos da PNRH                                      </a:t>
            </a:r>
            <a:r>
              <a:rPr b="0" lang="pt-BR" sz="3600" spc="-1" strike="noStrike">
                <a:solidFill>
                  <a:srgbClr val="ffcc66"/>
                </a:solidFill>
                <a:latin typeface="Times New Roman"/>
              </a:rPr>
              <a:t>(afetando todos os setores de usuários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ndo a Lei n.º 9.433/97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COBRANÇ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eve incidir sobre os usos de Recursos Hídricos sujeitos à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OUTORG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” (Art. 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CNRH deve estabelecer Critérios Gerais para a Outorga e a Cobrança  (Art. 35, X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obstan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s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PLANOS DE RECURSOS HÍDRIC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é que devem estabelecer diretrizes e critérios (específicos) para a cobrança (Art. 7, I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elaboração dos Planos, por sua vez, deve contar com subsídios fornecidos pel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SISTEMA NACIONAL DE INFORMAÇÕ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Art.  27, III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serva-se ainda 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ENQUADRAMENTO DOS CORPOS DE ÁGU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visa a assegurar às águas qualidade compatível com os usos (Art. 9, I), a serem outorgados e cobr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É nossa opinião que a aplicação do instrumento de COBRANÇA deve contar com a aprovação e realização, a contento, dos demais instrumentos da Política Nacional de Recurso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stituição de Cobrança pelo Uso da Água, além de reconhecer esse recurso natural como bem dotado de valor econômico, objet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CENTIVAR A RACIONALIZAÇÃO DO USO DOS RECURSOS HÍDRIC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VER RECURSOS PARA PROGRAMAS E INTERVENÇÕES NA BACIA PARA A RECUPERAÇÃO E PRESERVAÇÃO DOS MANANCIAI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(Política Nacional de Recursos Hídricos, Lei          n.º 9.433/97, Artigo 19 – Caput da Resolução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LOCAÇÕES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EB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Atuação do MI na Área de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oio ao desenvolvimento de  Estudos e  Projetos e à execução de Obras de Infra-Estrutura Hídrica, mediante convênios com Governos Estaduais, Prefeituras Municipais e Instituições Públ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studos, Projetos e Obras desenvolvidos diretamente pela CODEVASF e pelo DNOCS, vinculados ao 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tua, principalmente, por meio de sua SECRETARIA DE INFRA-ESTRUTURA HÍDRICA, que formula e conduz a Política Nacional de Aproveitamento de Recursos Hídricos. São exemplos de Programas e Ações da SIH/M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Ó-ÁGUA NACIONAL E SEMI-ÁR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DE IRRIGAÇÃO E DRENAG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JETO SÃO FRANCISCO (TRANSPOSI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ÁGUA NA ES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NO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titui-se na mais antiga Agência de Obras Públicas do Brasil (IOCS, 190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Missão voltada para  problemática das secas na região do Semi-Ár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ntre suas principais atribuições destaca-se: “Elaborar projetos de engenharia e executar obras públicas de captação, acumulação, condução, distribuição, proteção e utilização de recursos hídricos, em conformidade com a Política e o Sistema Nacional de Gerenciamento de Recursos Hídricos” (Lei n.º 10.024/2001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DEVAS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iada em 1974, sucedendo a Superintendência do Vale do São Francis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m por Missão desenvolver os recursos da água e do solo dos Vales do São Francisco e do Parnaíba para finalidades agrícolas, agropecuárias e agroindust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tória experiência no Planejamento, Projeto, Implantação e Operação de Perímetros Irrig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sobre a Cobranç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 considerações a seguir são fruto de discussões sobre os critérios para Cobrança, a partir das versões preliminares da Resolução em pauta, envolvendo gestores e técnicos dessas três instituiçõ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vido à experiência acumulada no Planejamento, Implantação e Operação de Aproveitamentos Hidroagrícolas, enfocam (sem se restringir a ele) o Setor de Irrigação, somando-se às observações  apresentadas pela CNA e por representantes de outros set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Impactos Setoriais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stentabilidade Econômica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Tetos para Cobranç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mpacto da Cobrança depende do Modelo de Explor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. - Fruticultura tecnificada é altamente rentável, assegurando a Sustentabilidade Econômica da Cobranç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se podem estabelecer Tetos para Cobrança de  modo linear. É fundamental levar em conta a Rentabilidade da Atividade e a Capacidade de Pagamento de cada usuário. Grande diversidade de situações, demandando análises que podem ser muito específ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cessidade de estudos aprofundados sobre os impactos em toda a cadeia produtiva (ver recomendações  Indústrias e CN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bsídio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dem ser necessários para o PRODUTO e/ou para o PRODUTOR, respondendo a várias situaçõ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dução de Subsistência / Falta de Capacidade de Pagament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pressão de preços por Excesso de Produtos – Produção Nacional e/ou Importa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esse da Sociedade em estimular o cultivo de determinados produto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trição ao Aproveitamento Hidroagrícola das propriedades em vista da localização na Bacia Hidrográ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Quando Cobrar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implementação da Cobrança para Projetos de Irrigação e Drenagem deve ser feita de modo gradual (pode ser provida abertura nos critérios gerais, da Resolução do CNRH, como indicativo para o estabelecimento de diretrizes e critérios específicos, nos Planos de Baci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evar em conta os prazos demandados pelos Projetos para alcançar a plena produção, nas diversas as áreas, conforme os modelos de exploração (“maturação” dos perímetr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9:51:23Z</dcterms:created>
  <dc:creator>Compaq</dc:creator>
  <dc:description/>
  <dc:language>en-US</dc:language>
  <cp:lastModifiedBy>Compaq</cp:lastModifiedBy>
  <dcterms:modified xsi:type="dcterms:W3CDTF">2002-09-25T04:10:32Z</dcterms:modified>
  <cp:revision>35</cp:revision>
  <dc:subject/>
  <dc:title>Considerações sobre o tema da Cobrança pelo Uso dos Recursos Hídricos</dc:title>
</cp:coreProperties>
</file>