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0.png" ContentType="image/png"/>
  <Override PartName="/ppt/media/image6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3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84A4CA-35A8-450B-962E-C0E2187EBAF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81FF8E-85DA-40F3-9F1E-2EC617714E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181ADB-1C58-43DA-9E2E-FD2780DCC0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AC6EF9-1B2C-4C89-9D0F-28C87829C1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r">
              <a:spcBef>
                <a:spcPts val="349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o CBHSF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Tahoma"/>
              </a:rPr>
              <a:t>CTCOB/CNRH, 24 de fevereiro de 2010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305520" y="4605480"/>
            <a:ext cx="32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Na bacia do rio Paraíba do Sul: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1200240" y="5038560"/>
            <a:ext cx="7569000" cy="10544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-160200" y="1341360"/>
            <a:ext cx="1020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3366"/>
                </a:solidFill>
                <a:latin typeface="Tahoma"/>
              </a:rPr>
              <a:t>Impactos sobre usuários internos</a:t>
            </a:r>
            <a:endParaRPr b="0" lang="en-US" sz="23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309600" y="2000160"/>
            <a:ext cx="92869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0" y="2548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419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04880" y="1430280"/>
            <a:ext cx="85694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Impactos – usos externos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(Deliberação nº 40, de 2008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0" y="2502000"/>
            <a:ext cx="99061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952560" y="2571840"/>
            <a:ext cx="7983360" cy="3082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"/>
          <p:cNvSpPr/>
          <p:nvPr/>
        </p:nvSpPr>
        <p:spPr>
          <a:xfrm>
            <a:off x="809640" y="1500120"/>
            <a:ext cx="81439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ustentabilidade financeira da entidade delegatária de funções de agência de águ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2880" y="1341000"/>
            <a:ext cx="96332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afirma que os valores das vazões mínimas firmes são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0,29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6,11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, 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conforme NT ANA nº 390/2005/SOC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36520" y="31417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36520" y="35751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12880" y="3214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NT 390/2005 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essas foram vazões simulad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no âmbito do processo de análise da outorga (vazão firme do PISF é única: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26 m³/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12880" y="4551480"/>
            <a:ext cx="7704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s vazões reais a serem aduzidas em cada eixo somente serão conhecidas quando da operação do PISF, através dos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GAs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serão elaborados peço Conselho Gestor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36520" y="4363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36520" y="4797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72880" y="1240560"/>
            <a:ext cx="96332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s. 2º e 3º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: são estabelecidos valores distintos do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K</a:t>
            </a:r>
            <a:r>
              <a:rPr b="1" lang="pt-BR" sz="2600" spc="-1" strike="noStrike" baseline="-25000">
                <a:solidFill>
                  <a:srgbClr val="800000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Eixos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Les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orte</a:t>
            </a:r>
            <a:r>
              <a:rPr b="1" lang="pt-BR" sz="24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0,5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1,0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respectivam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36520" y="2581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36520" y="301464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2880" y="2654280"/>
            <a:ext cx="7848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Duplicação da cobrança no Eixo Norte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mbos os Eixos atenderão demandas de atendimento prioritário segundo o CBHSF (Del. Nº 18/2004)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2880" y="3976560"/>
            <a:ext cx="7704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ontraria o objetiv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, que é diferenciar a cobrança por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prioridade de us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800000"/>
                </a:solidFill>
                <a:latin typeface="Tahoma"/>
              </a:rPr>
              <a:t>não por eixo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78936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422280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2000" y="5274000"/>
            <a:ext cx="94708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3366"/>
                </a:solidFill>
                <a:uFillTx/>
                <a:latin typeface="Tahoma"/>
              </a:rPr>
              <a:t>Art. 1º: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stabelece que poderá haver redução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casos que atendam à Delib. CBHSF nº 18/2004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8520" y="2660760"/>
          <a:ext cx="9705960" cy="118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2660760"/>
                    <a:ext cx="970596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Rectangle 2"/>
          <p:cNvSpPr/>
          <p:nvPr/>
        </p:nvSpPr>
        <p:spPr>
          <a:xfrm>
            <a:off x="-376200" y="1630440"/>
            <a:ext cx="102823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Potencial de Arrecadação PISF - (Deliberação nº 45, de 2009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20880" y="39085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(acréscimo de 60% em relação à Del. 40/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352520" y="1914480"/>
          <a:ext cx="712800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914480"/>
                    <a:ext cx="712800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81240" y="4464000"/>
          <a:ext cx="7343640" cy="1606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1240" y="4464000"/>
                    <a:ext cx="7343640" cy="16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2"/>
          <p:cNvSpPr/>
          <p:nvPr/>
        </p:nvSpPr>
        <p:spPr>
          <a:xfrm>
            <a:off x="560520" y="1413000"/>
            <a:ext cx="8713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Les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560520" y="4006800"/>
            <a:ext cx="8713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Impactos </a:t>
            </a:r>
            <a:r>
              <a:rPr b="1" lang="en-US" sz="2200" spc="-1" strike="noStrike">
                <a:solidFill>
                  <a:srgbClr val="800000"/>
                </a:solidFill>
                <a:latin typeface="Tahoma"/>
              </a:rPr>
              <a:t>– Eixo Norte</a:t>
            </a: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 (Deliberação nº 45, de 2009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8520" y="2536560"/>
            <a:ext cx="96328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Mecanism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e cobrança estabelecid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e os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valore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propostos são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compatíveis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m a capacidade de pagamento dos usuári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3967200"/>
            <a:ext cx="957744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sta forma,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recomenda-se ao CNRH a aprova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dos mecanismos e valores de cobrança pelo uso de recursos hídricos sugeridos pelo CBHSF na sua Deliberação nº 40, de 2008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2120" y="18446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0, de 2008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272880" y="155736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ntroduçã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6760" y="3500280"/>
            <a:ext cx="57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0, de 2008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400" y="2693160"/>
            <a:ext cx="88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ciso VI, art. 4º da Lei nº 9.984, de 17 de julho de 2000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4520" y="436392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liberação CBHSF nº 45, de 2009;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5800" y="52149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 Condicionantes da Res. CNRH nº 48, de 2005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2880" y="1962360"/>
            <a:ext cx="928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s mecanismos de cobrança pelo uso de recursos hídricos propostos pelo CBHSF por meio da Deliberação nº 45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ão são adequado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tendo em vista qu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8120" y="3297240"/>
            <a:ext cx="8151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Foi estabelecida uma vazão mínima firme a ser utilizada em cada eixo, quando, na verdade, a vazão firme outorgada pela ANA é única para os dois eixos. As vazões a serem aduzidas por eixo, bem como a sua repartição entre Estados e setores usuários, somente serão definidas no PGA do PISF, quando do início da operação do empreendimen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2120" y="1319040"/>
            <a:ext cx="521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Del. CBHSF nº 45, de 200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9240" y="357192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9240" y="4005360"/>
            <a:ext cx="43200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96880" y="1528920"/>
            <a:ext cx="8137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Foi estabelecido um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diferenciado por eixos do PISF, sendo 0,5 para o Eixo Leste e 1,0 para o Eixo Norte, quando, na verdade, o objetivo do coeficiente é diferenciar a cobrança entre finalidades de uso (abastecimento humano, dessedentação animal, indústria, irrigação, etc...) e não entre eixos do PISF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20880" y="1627200"/>
            <a:ext cx="0" cy="433440"/>
          </a:xfrm>
          <a:prstGeom prst="line">
            <a:avLst/>
          </a:prstGeom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20880" y="2060640"/>
            <a:ext cx="4316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72880" y="1595160"/>
            <a:ext cx="92887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Além disso, o CBHSF propôs que poderá haver redução do valor do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para os usos de abastecimento humano e dessedentação animal, mas não definiu qual será a redução do valor do coefic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Cabe registrar, que a Deliberação nº 45 propõe, exclusivamente, regras para a cobrança do PISF, apesar de existirem as transposições operadas pela DES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4520" y="2253600"/>
            <a:ext cx="7848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Usos insignificante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4520" y="3530160"/>
            <a:ext cx="784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cesso de regularização de usos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4520" y="4723920"/>
            <a:ext cx="9561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800000"/>
                </a:solidFill>
                <a:latin typeface="Tahoma"/>
              </a:rPr>
              <a:t>Programa de investimentos definido no Plano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1320" y="1336680"/>
            <a:ext cx="741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ahoma"/>
              </a:rPr>
              <a:t>Condições Res. CNRH nº  48, de 2005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4520" y="212436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Aprovação pelo CNRH da proposta de cobrança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depende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520" y="3311640"/>
            <a:ext cx="87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400" spc="-1" strike="noStrike">
                <a:solidFill>
                  <a:srgbClr val="800000"/>
                </a:solidFill>
                <a:latin typeface="Tahoma"/>
              </a:rPr>
              <a:t>Implantação da Agência ou Entidade Delegatária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epende de proposição do CBHSF e aprovação do CNR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600" y="4449240"/>
            <a:ext cx="871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Elaboração por parte da ANA de estudos técnicos para subsidiar a proposta de metodologia de cobrança do CBHSF: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atendi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72880" y="1677960"/>
            <a:ext cx="928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 algn="just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00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Conclui-se, por fim, que das seis condições estabelecidas pela Resolução CNRH nº 48, de 2005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três já estão atendid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e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uas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s às propostas encaminhadas pelas Deliberações do CBHSF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m da aprovação do CNRH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 A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última condição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, referente à implantação da Agência de Bacia Hidrográfica ou de entidade delegatária de suas funções,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depende de proposição do CBHSF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97240" y="1916280"/>
            <a:ext cx="1843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817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5765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905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943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562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303120" y="1700280"/>
            <a:ext cx="53848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Rodrigo Flecha Ferreira Alve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Superintendente de Apoio à Gestão de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0520" y="836640"/>
            <a:ext cx="58896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indent="363600">
              <a:lnSpc>
                <a:spcPct val="110000"/>
              </a:lnSpc>
              <a:spcBef>
                <a:spcPts val="3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9240" y="5156280"/>
            <a:ext cx="842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Gerência de Cobrança pelo uso de Recursos Hídricos da Superintendência de Apoio à Gestão de Recursos Hídricos – GECOB/SAG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Agência Nacional de Águas – ANA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Setor Policial Sul – Área 5 – Quadra 3 – Bloco B - Brasília – DF – 70610-200 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Tel: (61) 2109 – 5437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Tahoma"/>
              </a:rPr>
              <a:t>www.ana.gov.br/CobrancaUso</a:t>
            </a: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520" y="2771640"/>
            <a:ext cx="424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iordano Bruno B. de Carvalho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Claudio Per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pecialista em Recursos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láucia Maria Oliveira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24520" y="2771640"/>
            <a:ext cx="4032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racyreny R.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Geison de Figueiredo Laport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Assistente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Matheus A. Rocha dos Santo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Tahoma"/>
              </a:rPr>
              <a:t>Estagiário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52880" y="1341360"/>
            <a:ext cx="38527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brigado pela Atenção !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72880" y="1413000"/>
            <a:ext cx="9433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Usos insignificantes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637000"/>
          <a:ext cx="10137600" cy="227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37000"/>
                    <a:ext cx="10137600" cy="22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272880" y="2852640"/>
            <a:ext cx="943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de cobranç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(Delib. CBHSF nº 40, de 2008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776160" y="134136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073240" y="1916280"/>
            <a:ext cx="66247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de: 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31800" y="2246040"/>
            <a:ext cx="8642520" cy="14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cap class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classe de enquadramento do corpo d´água no qual se faz a captação;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t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s boas práticas de uso e conservação da água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704880" y="3718080"/>
            <a:ext cx="79200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041560" y="4365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al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– 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041560" y="494172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irrigação:  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ons irrig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041560" y="5492880"/>
            <a:ext cx="6553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776160" y="1962720"/>
            <a:ext cx="72010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B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,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 F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776160" y="1386720"/>
            <a:ext cx="79218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C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x Preço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DB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lanç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0481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03440" y="398412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31800" y="5505120"/>
            <a:ext cx="86425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0" lang="pt-BR" sz="1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1800" spc="-1" strike="noStrike">
                <a:solidFill>
                  <a:srgbClr val="003366"/>
                </a:solidFill>
                <a:latin typeface="Tahoma"/>
              </a:rPr>
              <a:t> = Coeficiente que leva em conta a prioridade de uso estabelecida no Plano de Recursos Hídricos da Bacia do Rio São Francisco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0" y="47037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04880" y="2492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95360" y="2421000"/>
          <a:ext cx="8915400" cy="2246400"/>
        </p:xfrm>
        <a:graphic>
          <a:graphicData uri="http://schemas.openxmlformats.org/drawingml/2006/table">
            <a:tbl>
              <a:tblPr/>
              <a:tblGrid>
                <a:gridCol w="4295880"/>
                <a:gridCol w="1406520"/>
                <a:gridCol w="1404720"/>
                <a:gridCol w="1808280"/>
              </a:tblGrid>
              <a:tr h="49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nçamento – DBO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,20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en-US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B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7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31800" y="1522440"/>
            <a:ext cx="6697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95360" y="2060640"/>
          <a:ext cx="8915400" cy="3859200"/>
        </p:xfrm>
        <a:graphic>
          <a:graphicData uri="http://schemas.openxmlformats.org/drawingml/2006/table">
            <a:tbl>
              <a:tblPr/>
              <a:tblGrid>
                <a:gridCol w="4537080"/>
                <a:gridCol w="2555640"/>
                <a:gridCol w="18226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cons irrig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8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4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para irrigação, criação animal e aqüicultura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t (demais setores usuários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lanç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704880" y="1487520"/>
            <a:ext cx="83534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ahoma"/>
              </a:rPr>
              <a:t>Potencial de Arrecadação Total (Deliberação nº 40, de 2008)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04760" y="2023920"/>
            <a:ext cx="963468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ANA</cp:lastModifiedBy>
  <cp:lastPrinted>2001-06-06T00:02:34Z</cp:lastPrinted>
  <dcterms:modified xsi:type="dcterms:W3CDTF">2010-02-24T18:14:11Z</dcterms:modified>
  <cp:revision>1371</cp:revision>
  <dc:subject/>
  <dc:title>Apresentação do PowerPoint</dc:title>
</cp:coreProperties>
</file>