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wmf" ContentType="image/x-wmf"/>
  <Override PartName="/ppt/media/image15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70B26-042F-427A-8EBC-611816FA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41B67-B064-4ECD-9FA9-DD63652B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8797F-7741-4DE9-AA75-9557A564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FDF8-E0B2-4DC1-BD1F-D01B375F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716F-072A-46F1-891D-A02215A6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5C97-3756-41C5-B47D-683C734C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E7A6-FBAA-46DC-A4B2-1CDA3417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DE72-F805-47C1-B644-9EAE6AEAE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478E-4AC7-42D3-9940-FBB196E8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F3DD-7278-4324-B2B9-628CC6EF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391FE-C6EA-49F3-9B67-EDCE2ADC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E2F84-931F-49A4-B67E-C1467401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AF89-1A46-4E4D-8735-BD5475F2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D610-575B-4468-BC9C-0EC9D0DD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87C2-BB5C-467C-BF57-5B6F228A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E937-8635-485B-866D-8E150740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FECE-5045-472F-95B3-68FF18D0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55862-1765-48F8-81A0-FA6B42B7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2DC06-0C09-418F-8D8C-4A90128F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901B8-4176-46B0-AF81-02DB89E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9CB2-B0F0-43D9-849E-B8D0D93B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7FF0-D98D-40A5-B72E-918B8777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DD1A6-E99F-416D-83B2-513134D6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38B7D-01C1-4C5B-B44B-839205AC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9CD3-50C2-4C4F-B4AC-D20456FC4C6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E97D-632C-4401-BE8F-7D9D17476352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918560" cy="23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Trebuchet MS"/>
              </a:rPr>
              <a:t>Mecanismos e Valores da Cobrança pelo Uso da Água na Bacia do Rio São Francisco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  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4ª Reunião CTCOB- CNR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omaz Matta Mach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v.20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861720" y="6237360"/>
            <a:ext cx="53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ropriá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 rot="10800000">
            <a:off x="3779640" y="97992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 SE –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65530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40360" y="306864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Garajú - AL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-962280" y="432000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12160" y="615780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-962280" y="558828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-318240" y="6491160"/>
            <a:ext cx="604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7876440" y="4246920"/>
            <a:ext cx="22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3920" y="476280"/>
            <a:ext cx="52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Propriá/SE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23280" y="65088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957400" y="4292640"/>
            <a:ext cx="61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 em Piranhas/Alagoas - 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-550080" y="578736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-150120" y="2133720"/>
            <a:ext cx="72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Garamond"/>
              </a:rPr>
              <a:t>Rio São Francisco em Garajú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3280" y="655308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45720" y="616572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Rio São Francisco/Baixo São Francisco - 02/03/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8253720" y="5454000"/>
            <a:ext cx="162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514"/>
                </a:solidFill>
                <a:latin typeface="Garamond"/>
              </a:rPr>
              <a:t>Foto: João Zinc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Garamond"/>
              </a:rPr>
              <a:t>Rede </a:t>
            </a:r>
            <a:r>
              <a:rPr b="1" lang="pt-BR" sz="4400" spc="-1" strike="noStrike" u="sng">
                <a:solidFill>
                  <a:srgbClr val="ffffff"/>
                </a:solidFill>
                <a:uFillTx/>
                <a:latin typeface="Garamond"/>
              </a:rPr>
              <a:t>EcoVazã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4360" y="1989000"/>
            <a:ext cx="792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Com vistas à definição de um regime ou hidrograma de vazões ecológicas para o baixo curso do Rio São Francisco, estão sendo realizados estudos por uma rede de pesquisa formada por universidades, localizadas na Bacia (UFBA, UFMG, UFS, UFPE, UFLA), financiada pelo CT-Hidro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(Edital MCT/CNPq – CT-HIDRO 45/2006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A rede </a:t>
            </a:r>
            <a:r>
              <a:rPr b="1" lang="pt-BR" sz="2200" spc="-1" strike="noStrike">
                <a:solidFill>
                  <a:srgbClr val="ffffff"/>
                </a:solidFill>
                <a:latin typeface="Garamond"/>
              </a:rPr>
              <a:t>EcoVazão</a:t>
            </a:r>
            <a:r>
              <a:rPr b="0" lang="pt-BR" sz="2200" spc="-1" strike="noStrike">
                <a:solidFill>
                  <a:srgbClr val="ffffff"/>
                </a:solidFill>
                <a:latin typeface="Garamond"/>
              </a:rPr>
              <a:t> tem como objetivo a articulação de iniciativas, no campo da produção do conhecimento, que avance no sentido da construção de um saber mais próximo das múltiplas e complexas determinações naturais e sociai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Trebuchet MS"/>
              </a:rPr>
              <a:t>COMITÊ DA BACIA DO RIO SÃO FRANCISCO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Instituído por Decreto Presidencial de 05 de junho de 2001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124 Membros: 62 titulares e 62 suplen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Composição: 32,79% Poder Público; 37,70% Usuários;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24,59% Sociedade Civil; 4,92% Comunidade Tradicion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Diretoria: Presidência – Sociedade Civil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Vice Presidência – Poder Público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ecretaria Executiva - Poder Público/ 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to - Poder Público/ MG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Médio - Sociedade Civil/ BA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Sub-médio - Poder Público/ P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aixo - Sociedade Civil/ S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82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50920" y="260280"/>
            <a:ext cx="8712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AVALIAÇÃO DAS ALTERAÇÕES NAS COMUNIDADES DE PEIXES DE LAGOAS MARGINAIS DO BAIXO CURSO DO RIO SÃO FRANCISCO EM FUNÇÃO DE BARRAMENTOS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1989000"/>
            <a:ext cx="63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"/>
                <a:ea typeface="Arial"/>
              </a:rPr>
              <a:t>Defesa de mestrado em Ecologia Aplic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5516640"/>
            <a:ext cx="5832360" cy="1072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Marília Lourenço dos Sa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Orientador: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Paulo dos Santos Pomp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"/>
              </a:rPr>
              <a:t>Co-orientador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rlos Bernardo M. A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057560" y="88920"/>
            <a:ext cx="4998960" cy="66801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5840" y="764640"/>
            <a:ext cx="3673800" cy="4969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IO DAS VELHA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fluente em volume e extensão (761 Km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68520" indent="-2570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Projeto Manuelzão para Revitalização do Rio das Velh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822240"/>
            <a:ext cx="4464000" cy="58467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9280" y="333000"/>
            <a:ext cx="4105440" cy="63356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ÉDIO SÃO FRANCISCO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echo (600 km) entre Pirapora (MG) e Sobradinho (B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co em lagoas margi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353880"/>
            <a:ext cx="8929800" cy="6503760"/>
            <a:chOff x="0" y="353880"/>
            <a:chExt cx="8929800" cy="6503760"/>
          </a:xfrm>
        </p:grpSpPr>
        <p:grpSp>
          <p:nvGrpSpPr>
            <p:cNvPr id="155" name=""/>
            <p:cNvGrpSpPr/>
            <p:nvPr/>
          </p:nvGrpSpPr>
          <p:grpSpPr>
            <a:xfrm>
              <a:off x="2486160" y="2370240"/>
              <a:ext cx="6443280" cy="4487400"/>
              <a:chOff x="2486160" y="2370240"/>
              <a:chExt cx="6443280" cy="4487400"/>
            </a:xfrm>
          </p:grpSpPr>
          <p:pic>
            <p:nvPicPr>
              <p:cNvPr id="156" name="" descr=""/>
              <p:cNvPicPr/>
              <p:nvPr/>
            </p:nvPicPr>
            <p:blipFill>
              <a:blip r:embed="rId1"/>
              <a:srcRect l="0" t="7569" r="5869" b="0"/>
              <a:stretch/>
            </p:blipFill>
            <p:spPr>
              <a:xfrm>
                <a:off x="2486160" y="2370240"/>
                <a:ext cx="6411600" cy="44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" descr=""/>
              <p:cNvPicPr/>
              <p:nvPr/>
            </p:nvPicPr>
            <p:blipFill>
              <a:blip r:embed="rId2"/>
              <a:srcRect l="90859" t="1499" r="0" b="83368"/>
              <a:stretch/>
            </p:blipFill>
            <p:spPr>
              <a:xfrm>
                <a:off x="8431920" y="2442600"/>
                <a:ext cx="497520" cy="58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" name=""/>
            <p:cNvSpPr/>
            <p:nvPr/>
          </p:nvSpPr>
          <p:spPr>
            <a:xfrm>
              <a:off x="0" y="353880"/>
              <a:ext cx="8929800" cy="81936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0000"/>
            </a:bodyPr>
            <a:p>
              <a:pPr marL="205560" indent="-20556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    </a:t>
              </a:r>
              <a:r>
                <a:rPr b="1" lang="en-US" sz="3100" spc="-1" strike="noStrike">
                  <a:solidFill>
                    <a:srgbClr val="ffffff"/>
                  </a:solidFill>
                  <a:latin typeface="Garamond"/>
                </a:rPr>
                <a:t>BAIXO SÃO FRANCISCO</a:t>
              </a:r>
              <a:r>
                <a:rPr b="0" lang="en-US" sz="3100" spc="-1" strike="noStrike">
                  <a:solidFill>
                    <a:srgbClr val="ffffff"/>
                  </a:solidFill>
                  <a:latin typeface="Garamond"/>
                </a:rPr>
                <a:t>: 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45680" indent="-171360">
                <a:lnSpc>
                  <a:spcPct val="80000"/>
                </a:lnSpc>
                <a:spcBef>
                  <a:spcPts val="675"/>
                </a:spcBef>
                <a:buClr>
                  <a:srgbClr val="33cccc"/>
                </a:buClr>
                <a:buSzPct val="7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Garamond"/>
                </a:rPr>
                <a:t>Trecho mais curto (274 km)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11280" y="692280"/>
            <a:ext cx="8532720" cy="6024600"/>
            <a:chOff x="611280" y="692280"/>
            <a:chExt cx="8532720" cy="6024600"/>
          </a:xfrm>
        </p:grpSpPr>
        <p:sp>
          <p:nvSpPr>
            <p:cNvPr id="160" name=""/>
            <p:cNvSpPr/>
            <p:nvPr/>
          </p:nvSpPr>
          <p:spPr>
            <a:xfrm>
              <a:off x="3349800" y="692280"/>
              <a:ext cx="579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Riqueza espécies migradora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" descr=""/>
            <p:cNvPicPr/>
            <p:nvPr/>
          </p:nvPicPr>
          <p:blipFill>
            <a:blip r:embed="rId1"/>
            <a:srcRect l="2362" t="3549" r="43648" b="4170"/>
            <a:stretch/>
          </p:blipFill>
          <p:spPr>
            <a:xfrm>
              <a:off x="611280" y="1557360"/>
              <a:ext cx="4535280" cy="515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rcRect l="76779" t="0" r="0" b="73383"/>
            <a:stretch/>
          </p:blipFill>
          <p:spPr>
            <a:xfrm>
              <a:off x="5435640" y="1773360"/>
              <a:ext cx="1655640" cy="12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166360" y="5094360"/>
              <a:ext cx="3597480" cy="459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Kruscal-Wallis: p = 0,0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 Black"/>
              </a:rPr>
              <a:t>RESULTADOS E DISCUSS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norm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2960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11280" y="2016000"/>
            <a:ext cx="7993080" cy="4149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6"/>
          <p:cNvSpPr/>
          <p:nvPr/>
        </p:nvSpPr>
        <p:spPr>
          <a:xfrm>
            <a:off x="457200" y="557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Vazão Ambiental – ano se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56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Qcap  Qcons   CODBO 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ap = Qcap x PPUcap x Kca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Garamond"/>
              </a:rPr>
              <a:t>Valorcons = Qcons x PPUcons x Kc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DBO = CODBO x PPULanç x Klanç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rebuchet MS"/>
              </a:rPr>
              <a:t>MECANISMOS DE COBRANÇA PELO USO DA ÁGUA NA BACIA HIDROGRÁFICA DO RIO SÃO FRANCISCO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In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Valor total = Valorcap  +  Valorcons + ValorDBO x Kgestã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Garamond"/>
              </a:rPr>
              <a:t>Uso Exter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Valor total</a:t>
            </a:r>
            <a:r>
              <a:rPr b="1" lang="en-A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Garamond"/>
              </a:rPr>
              <a:t>=  valorcap+ valorcons x kprioridade x Kgestã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rebuchet MS"/>
              </a:rPr>
              <a:t>VALORES UNITÁRIOS DE COBRANÇA PPUS NA BACIA DO RIO SÃO FRANCISCO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8360" y="2060640"/>
          <a:ext cx="8229600" cy="38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ipo de us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Unida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 (R$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aptaçã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ap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nsumo de água bru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c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0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ançamento de carga orgânica DBO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5,2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PU</a:t>
                      </a:r>
                      <a:r>
                        <a:rPr b="0" lang="en-US" sz="24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DB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553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VALORES DOS COEFICIENTES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Trebuchet MS"/>
              </a:rPr>
              <a:t>MULTIPLICADORES DE COBRANÇA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600200"/>
          <a:ext cx="8229600" cy="442080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erm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cap clas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,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cons irri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 (para irrigação, criação animal e aquicultura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0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t(demais setores usuári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 lanç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</a:t>
                      </a:r>
                      <a:r>
                        <a:rPr b="0" lang="en-US" sz="2000" spc="-1" strike="noStrike" baseline="-25000">
                          <a:solidFill>
                            <a:srgbClr val="ffffff"/>
                          </a:solidFill>
                          <a:latin typeface="Garamond"/>
                        </a:rPr>
                        <a:t>prioridade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bastecimento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rt. 3º - Deliberação CBHSF nº18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492/2004 (coordenadas específicas e distint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ota Técnica ANA/SOC nº 390/2005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§1º, do art. 7º - Resolução CNRH nº 48 (diferenciação dos valore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solução nº 1 /2005 Outorga Vale (barragem, captação e lançamento)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Trebuchet MS"/>
              </a:rPr>
              <a:t>COBRANÇA PROJETO DE INTEGRAÇÃO DO RIO SÃO FRANCISCO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9220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de 26,40m3/s ( Outorga 11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 prioridade Deliberação CBHSF nº18/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Leste 10,29m³/s K prioridade= 0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ixo Norte 16,11m³/s K prioridade é igual a 1,0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zão média plurianual outorgad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SIDERAÇÕES FINAI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ponibilidade hídrica – NEST-109,9m³/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s 44,45,46..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Vazão firme em cada eix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ferenciação dos eixos: K</a:t>
            </a:r>
            <a:r>
              <a:rPr b="0" lang="pt-BR" sz="3200" spc="-1" strike="noStrike" baseline="-25000">
                <a:solidFill>
                  <a:srgbClr val="ffffff"/>
                </a:solidFill>
                <a:latin typeface="Garamond"/>
              </a:rPr>
              <a:t>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ágrafo 2, artigo I, Deliberação 45/200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ESO/Sergi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ara que comitê de bacia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Trebuchet MS"/>
              </a:rPr>
              <a:t>DADOS DEMOGRÁFICO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Área da bacia: 634.781 km²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8% do território nac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6 Estados: Minas Gerais, Bahia, Pernambuco, Alagoas, Sergipe, Goiá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Distrito Fed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503 municíp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População estimada: 12.796.082 hab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USO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670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Geração de energia elétrica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dústr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Sane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gr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esca e aquicultur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vegaçã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urismo e laze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1. Quantidade de águ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a) Geração de energia x outros usos (vazões críticas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)Agricultura irrigada x outros usos, sub-bacias do Paracatu (Entre Ribeiros), Jequitaí-Pacuí (Riachinho), Salitre e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55640" y="1484280"/>
            <a:ext cx="6912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Garamond"/>
              </a:rPr>
              <a:t>2. Qualidade da água:</a:t>
            </a: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Paraopeb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das Velh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Bacia do rio Verde-Gr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Garamond"/>
              </a:rPr>
              <a:t>Trechos da Cal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CONFLITOS EXISTENT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PRINCIPAIS DECISÕES 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ioridade de outorga: uso interno à b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Alocação externa: abastecimento humano comprovada a escassez hídr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alocável: 36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Vazão mínima diária na foz: 1300m³/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Instituição do Processo Administrativo 01/2004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Natureza jurídica da Agên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Mecanismos e valores de cobrança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e5e5ff"/>
                </a:solidFill>
                <a:latin typeface="Trebuchet MS"/>
              </a:rPr>
              <a:t>AGENDA EM DISCUSSÃO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dicação da Entidade Delegatária com funções de Agência da Ba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ntrato de Gest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cto da Águas (vazões de entrega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vitalizaçã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cesso administrativo da transposiçã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ição da vazão ambi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8:24:58Z</dcterms:created>
  <dc:creator>Medicina Preventiva e Social</dc:creator>
  <dc:description/>
  <dc:language>en-US</dc:language>
  <cp:lastModifiedBy>ANA</cp:lastModifiedBy>
  <dcterms:modified xsi:type="dcterms:W3CDTF">2010-02-24T12:27:08Z</dcterms:modified>
  <cp:revision>8</cp:revision>
  <dc:subject/>
  <dc:title>Mecanismos  Valores da Cobrança pelo Uso da Água na Bacia do Rio São Francisco   </dc:title>
</cp:coreProperties>
</file>