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8172450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73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516280" y="-36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249720" y="512280"/>
            <a:ext cx="3238560" cy="25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72720" y="3255840"/>
            <a:ext cx="7791480" cy="308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516280" y="651312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8B2EE0-6F12-468B-A0E7-A538E79848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56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56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325800"/>
            <a:ext cx="925956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92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326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440" indent="-261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262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8360"/>
            <a:ext cx="1028700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CONSELHO NACIONAL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RECURSOS HÍD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GRUPO DE TRABALHO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SEGURANÇA DE BARRA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GÉRIO  MENES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1 de janeiro d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6688080" cy="733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701280"/>
            <a:ext cx="1028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Substitu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JETO DE LEI N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o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 1.181, DE 2003</a:t>
            </a:r>
            <a:br>
              <a:rPr sz="2300"/>
            </a:b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Estabelece a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lítica nacional de  segurança de barragen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stinadas à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cumul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 água, ao aproveitament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tenc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hidráulicos, à disposição final ou temporária de estéril e de rejeitos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miner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e à acumulaçã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resíduos industr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líquidos.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Autor: 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LEONARDO MONTEI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Relator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: 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FERNANDO FER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79036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0"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jetiv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brangênci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çõ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unda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istema de Classificação por Categoria de Ris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Plano de Seguranç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NI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Educação e Comunicaçã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N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Proprietári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Órgão Fiscalizado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onsável Técni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posições finais e transitó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2040" y="3365640"/>
            <a:ext cx="431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SANÇÕES E PENAL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FONTES DE RECURSOS FINANCE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287000" cy="77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ntos a Desta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apensaçã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do PL 1181/2003 e votação em regime de urgência (análise conjunta com PL 4038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óximas eta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Fato: rupturas cada vez mais graves e numerosas a cada an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nvelhecimento sem manuteção – Caso Caldas No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ções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/AN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Cadastro e priorização pela Categoria de Ris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ivro e Manual de Segurança de Barragens do MI (www.mi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Banco de dados georeferenciados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Edita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T-Hidr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para pesquisa sobre Segurança de Barragens (R$ 1 milhão e bolsas de pesqui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Grupo de trabalho Interministerial (MMA, MME, MT e M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Recursos do OGU 2005 para Recuperação (~ 100 milhõ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O que pressiona os Estados/Municípios/Ministérios a responder aos ofícios do 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íveis Fontes de Recursos Financeiros (emerenciais/continuados) (priorização do OGU para recuperaçã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arração da liberação de recursos à entrega do Cadastro/Inspe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gências Legais (PL 1181/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25640"/>
            <a:ext cx="10287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Histó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incipais dificuldades encontra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Novas atividad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65280"/>
            <a:ext cx="10287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álise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lisar a situação de segurança de barragens, suas pertinências e responsabilida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, MI, DNOCS, DUKE, DNPM, SRH-BA, ANEEL, CONFEA, CBDB, CHESF, DNIT, Min. Defesa, MME, SRH/MMA, UNESP, Un. Feira de Santana-BA, Vale do rio Doce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Ver lista completa com Raquel Sc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5280"/>
            <a:ext cx="1028700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resentações (Rogério Menescal, PL 1181/2003, DNPM, ANEEL, PL 4038/2004, SEDEC/M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6 Reuniões (Abertura - 3/ago/04; “Fechamento” – 31/01/0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DIFICULDADES ENCONTR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Mudança dos membr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a apresentação do IB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apoio juríd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normas mínimas para condução de trabalhos do G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oio à Moção de Desapensação ao PL 1616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oposta de alteração do texto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TAP =&gt; CTIL =&gt; CNRH =&gt; Dep. Relator do PL 1181/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1320" y="846000"/>
            <a:ext cx="889308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Diretrizes para uma propost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legislação nacional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r sucinta sem deixar de cobrir os aspectos ess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r dispositivos para permitir uma ação preven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cura da descentralização (Pacto federativo, autoregulação e autofiscaliz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Utilizar o arcabouço legal/institucional existente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procurar resolver todos os problemas de uma só vez (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lantar uma sement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fincar uma vareta para a árvore nascer ereta. Os frutos só virão no médio e longo praz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0" y="3124080"/>
            <a:ext cx="30481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08520"/>
            <a:ext cx="2743200" cy="1272960"/>
          </a:xfrm>
          <a:prstGeom prst="downArrowCallout">
            <a:avLst>
              <a:gd name="adj1" fmla="val 53959"/>
              <a:gd name="adj2" fmla="val 53874"/>
              <a:gd name="adj3" fmla="val 13671"/>
              <a:gd name="adj4" fmla="val 7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170080" cy="1117440"/>
          </a:xfrm>
          <a:prstGeom prst="upArrowCallout">
            <a:avLst>
              <a:gd name="adj1" fmla="val 48555"/>
              <a:gd name="adj2" fmla="val 48550"/>
              <a:gd name="adj3" fmla="val 16667"/>
              <a:gd name="adj4" fmla="val 6666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99"/>
                </a:solidFill>
                <a:latin typeface="Times New Roman"/>
              </a:rPr>
              <a:t>NATIONAL FRAMEWORK RELATED WITH DAM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447920"/>
            <a:ext cx="525780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1" lang="pt-BR" sz="1400" spc="-1" strike="noStrike">
                <a:solidFill>
                  <a:srgbClr val="ff3300"/>
                </a:solidFill>
                <a:latin typeface="Times New Roman"/>
              </a:rPr>
              <a:t>(RIOS FEDERAIS E BANCO DE D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EEL (HIDRELÉTR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NPM (BARRAGENS DE REJE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DEC/SE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NRH/S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/CONFEA (Habilitação Profiss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mitês de B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Agências Reguladoras Estaduais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(HE, Min.,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&amp; MA)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(Rios e obras Estaduai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733920"/>
            <a:ext cx="281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stituições de Pesquisa e Suporte (CBDB, Uni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idades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, CREA/CONFEA,  Consultores e Peritos, BUREC, LNEC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862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GULAMENT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3434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ELATÓRIO DE SEGUR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03800"/>
            <a:ext cx="5105520" cy="289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5203800"/>
          <a:ext cx="5105520" cy="296856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46320"/>
                <a:gridCol w="111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OS E COM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VA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TRO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H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M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GE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E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it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IP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agu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rot="10800000">
            <a:off x="-4680" y="181764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GULATORY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-2880" y="556416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WNERS &amp;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12408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510552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3:07:54Z</dcterms:created>
  <dc:creator>wb204912</dc:creator>
  <dc:description/>
  <dc:language>en-US</dc:language>
  <cp:lastModifiedBy>rogerio.menescal</cp:lastModifiedBy>
  <dcterms:modified xsi:type="dcterms:W3CDTF">2005-01-31T18:18:33Z</dcterms:modified>
  <cp:revision>1123</cp:revision>
  <dc:subject/>
  <dc:title>PowerPoint Presentation</dc:title>
</cp:coreProperties>
</file>