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7621588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57388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-144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557388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6D8AB24B-1214-4BEA-9386-1009C7630779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1301760" y="3266640"/>
            <a:ext cx="7169040" cy="3056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Img"/>
          </p:nvPr>
        </p:nvSpPr>
        <p:spPr>
          <a:xfrm>
            <a:off x="3349440" y="515520"/>
            <a:ext cx="307476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9019080" y="6539040"/>
            <a:ext cx="86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25835097-D919-4189-8F53-AADD18F1D360}" type="slidenum">
              <a:rPr b="0" lang="pt-BR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57388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07F9060E-9D56-41EC-A347-634B3FCEB0BF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144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144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57388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343320" y="514440"/>
            <a:ext cx="308592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067-3E02-4532-A064-FBC64257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7F3-7ADA-481C-99A6-AFE14490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DE5-9E96-4997-B24F-C2F9C678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CF3-F498-4D11-BE75-5053D1F3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1A24-66C8-4DFF-8903-FB3B6133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7778-2559-44FC-80BC-022CB286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5F0E-50C2-4194-B1EF-719FECFC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9F88-BE9B-4B2A-985E-400B9D89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6F34-0EA9-49A9-827C-DBDCBB78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2B4B-886F-4ED1-BF52-FC6F9E48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B79F-CD91-4BA7-8F1E-E7E34E3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D46-A9DC-49A7-87E4-4A105CAD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62A0-AA85-43EB-B860-B4FC2EEB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B255-C3BE-4F02-8719-C14AF635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0596-6D9C-443E-A906-3D7BF71B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2BC1-08BC-41F4-BB08-AD278096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BF1-BB4F-4997-AD60-A21B2302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B17-8249-470C-A2B5-3F4B84B2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958-0E7B-444A-AB2A-C2E42083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B29-EC00-4B81-BDCC-467BE0C1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179-A953-4F92-818F-1795065B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C39-DE0C-4006-90E6-FD53D2D3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D9F-1D7E-4660-927E-1B40DB71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E13-E415-4D0F-A329-4195EE38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55600"/>
            <a:ext cx="202680" cy="7225920"/>
            <a:chOff x="177840" y="255600"/>
            <a:chExt cx="202680" cy="7225920"/>
          </a:xfrm>
        </p:grpSpPr>
        <p:sp>
          <p:nvSpPr>
            <p:cNvPr id="1" name=""/>
            <p:cNvSpPr/>
            <p:nvPr/>
          </p:nvSpPr>
          <p:spPr>
            <a:xfrm flipH="1">
              <a:off x="304200" y="285480"/>
              <a:ext cx="75960" cy="719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55600"/>
              <a:ext cx="76320" cy="695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44440"/>
            <a:ext cx="199080" cy="7120440"/>
            <a:chOff x="8792640" y="244440"/>
            <a:chExt cx="199080" cy="712044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44440"/>
              <a:ext cx="68400" cy="70365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421200"/>
              <a:ext cx="78120" cy="69433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7196040"/>
            <a:ext cx="8686800" cy="253080"/>
            <a:chOff x="412920" y="7196040"/>
            <a:chExt cx="8686800" cy="25308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4200" y="2894760"/>
              <a:ext cx="8424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0960" y="3155760"/>
              <a:ext cx="8460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94400"/>
            <a:ext cx="8745480" cy="181440"/>
            <a:chOff x="76320" y="194400"/>
            <a:chExt cx="8745480" cy="18144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556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5400" y="-4145040"/>
              <a:ext cx="6732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94400"/>
            <a:ext cx="8745840" cy="181440"/>
            <a:chOff x="71280" y="194400"/>
            <a:chExt cx="8745840" cy="18144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088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0360" y="-4145040"/>
              <a:ext cx="6732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6877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687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6877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1877-26A8-4A8E-A37E-B4B17783DE0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55600"/>
            <a:ext cx="202680" cy="7225920"/>
            <a:chOff x="177840" y="255600"/>
            <a:chExt cx="202680" cy="7225920"/>
          </a:xfrm>
        </p:grpSpPr>
        <p:sp>
          <p:nvSpPr>
            <p:cNvPr id="57" name=""/>
            <p:cNvSpPr/>
            <p:nvPr/>
          </p:nvSpPr>
          <p:spPr>
            <a:xfrm flipH="1">
              <a:off x="304200" y="285480"/>
              <a:ext cx="75960" cy="719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55600"/>
              <a:ext cx="76320" cy="695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44440"/>
            <a:ext cx="199080" cy="7120440"/>
            <a:chOff x="8792640" y="244440"/>
            <a:chExt cx="199080" cy="712044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44440"/>
              <a:ext cx="68400" cy="70365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421200"/>
              <a:ext cx="78120" cy="69433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7196040"/>
            <a:ext cx="8686800" cy="253080"/>
            <a:chOff x="412920" y="7196040"/>
            <a:chExt cx="8686800" cy="25308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4200" y="2894760"/>
              <a:ext cx="8424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0960" y="3155760"/>
              <a:ext cx="8460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94400"/>
            <a:ext cx="8745480" cy="181440"/>
            <a:chOff x="76320" y="194400"/>
            <a:chExt cx="8745480" cy="18144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556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5400" y="-4145040"/>
              <a:ext cx="6732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0176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665460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66864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664164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14C0-F158-4B12-BAE4-9F2E1E47C3C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783080"/>
            <a:ext cx="8229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1752840" cy="501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93824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SECRETARIA NACIONAL DE DEFESA CIVI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635280" y="4386240"/>
            <a:ext cx="17416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89080"/>
            <a:ext cx="9144000" cy="57132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2• CICLO EVOLUTIVO (1969 – 1970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75640" y="2202120"/>
            <a:ext cx="2160360" cy="3457440"/>
          </a:xfrm>
          <a:custGeom>
            <a:avLst/>
            <a:gdLst>
              <a:gd name="textAreaLeft" fmla="*/ 289440 w 2160360"/>
              <a:gd name="textAreaRight" fmla="*/ 1870920 w 2160360"/>
              <a:gd name="textAreaTop" fmla="*/ 653400 h 3457440"/>
              <a:gd name="textAreaBottom" fmla="*/ 23947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5" stAng="-5400000" swAng="-5400000"/>
                <a:lnTo>
                  <a:pt x="0" y="10877"/>
                </a:lnTo>
                <a:arcTo wR="21600" hR="8165" stAng="10800000" swAng="-2814880"/>
                <a:lnTo>
                  <a:pt x="14400" y="21133"/>
                </a:lnTo>
                <a:lnTo>
                  <a:pt x="21600" y="17686"/>
                </a:lnTo>
                <a:lnTo>
                  <a:pt x="14400" y="13305"/>
                </a:lnTo>
                <a:lnTo>
                  <a:pt x="14400" y="15863"/>
                </a:lnTo>
                <a:arcTo wR="21600" hR="8165" stAng="7985120" swAng="2596321"/>
                <a:lnTo>
                  <a:pt x="300" y="9521"/>
                </a:lnTo>
                <a:arcTo wR="21600" hR="8165" stAng="-10581442" swAng="5181442"/>
                <a:close/>
              </a:path>
              <a:path fill="darkenLess" w="21600" h="21600">
                <a:moveTo>
                  <a:pt x="21600" y="0"/>
                </a:moveTo>
                <a:arcTo wR="21600" hR="8165" stAng="-5400000" swAng="-5400000"/>
                <a:lnTo>
                  <a:pt x="0" y="8165"/>
                </a:lnTo>
                <a:arcTo wR="21600" hR="8165" stAng="10800000" swAng="-218558"/>
                <a:lnTo>
                  <a:pt x="300" y="9521"/>
                </a:lnTo>
                <a:arcTo wR="21600" hR="8165" stAng="-10581442" swAng="5181442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EFESA CIVI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3040" y="851040"/>
            <a:ext cx="3289320" cy="200016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DEC. N• 64.568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GRUPO DE TRABALHO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PARA ELABORAR PLANO DE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DEFESA PERMANENTE CONTRA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22 MAI 1969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70320"/>
            <a:ext cx="3948120" cy="22734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RETO LEI N• 95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FUNCA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FUNDO ESPECIAL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PARA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3 OUT 196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1170000"/>
            <a:ext cx="3564000" cy="223992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. N• 67.347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GEACA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GRUPO ESPECIAL PARA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ASSUNTOS DE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05 OUT 197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89080"/>
            <a:ext cx="9144000" cy="64116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3• CICLO EVOLUTIVO (1979 – 1980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4920" y="1170000"/>
            <a:ext cx="6192720" cy="16812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DECRETO Nº 83.83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CRIA A SECRETARIA ESPECIAL 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13 AGO 197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49680"/>
            <a:ext cx="2808360" cy="1440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THREE MILES ISLAND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97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3649680"/>
            <a:ext cx="2808000" cy="1440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SIPRON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98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2" idx="6"/>
            <a:endCxn id="163" idx="2"/>
          </p:cNvCxnSpPr>
          <p:nvPr/>
        </p:nvCxnSpPr>
        <p:spPr>
          <a:xfrm>
            <a:off x="3419640" y="3931920"/>
            <a:ext cx="2232720" cy="108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2746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NDAMENTOS LEG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2190600"/>
            <a:ext cx="8136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21, inciso XVIII - calamidades pública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22, incisos III e XXVIII – requisições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civil defes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136 e 137 - estado de defesa /         síti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144 - segurança pública / c. bombeir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6280" y="1330200"/>
            <a:ext cx="58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TITUIÇÃO DA REPÚBLICA - 198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449280"/>
            <a:ext cx="9144000" cy="64116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4• CICLO EVOLUTIVO (1992 - ...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5251320"/>
            <a:ext cx="3671640" cy="23194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. Nº 895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SISTEMA NACIONA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6 AGO 1993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46560" y="5251320"/>
            <a:ext cx="3529080" cy="23194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POLÍTICA NACIONA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2 DEZ 1994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6"/>
            <a:endCxn id="170" idx="2"/>
          </p:cNvCxnSpPr>
          <p:nvPr/>
        </p:nvCxnSpPr>
        <p:spPr>
          <a:xfrm>
            <a:off x="4282560" y="5770080"/>
            <a:ext cx="864360" cy="108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68360" y="1506600"/>
            <a:ext cx="8280360" cy="360036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CURSOS DE PÓS GRADUAÇÃ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FUNDAÇÃO GETÚLIO VARGAS – 199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UNIVERSIDADE FEDERAL DA PARAÍBA – 199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 Black"/>
              </a:rPr>
              <a:t>UNIVERSIDADE FEDERAL DE SANTA CATARINA - 200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46200" y="450720"/>
            <a:ext cx="65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entury Gothic"/>
              </a:rPr>
              <a:t>LIMITAÇÕES DO SISTEM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854440"/>
            <a:ext cx="816120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ONTINUIDADE DAS AÇÕES DE DEFESA CIVIL;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ÊNCIA DE TRABALHOS DE ENSINO, PESQUISA E EXTENSÃO;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INAMENTO E CAPACITAÇÃO DE RECURSOS   HUMANOS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TA DE VONTADE POLÍTICA E / OU INTERFERÊNCIAS POLÍTICAS EM QUESTÕES TÉCNICA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95120"/>
            <a:ext cx="9144000" cy="579960"/>
          </a:xfrm>
          <a:prstGeom prst="rect">
            <a:avLst/>
          </a:prstGeom>
          <a:solidFill>
            <a:srgbClr val="ff9933"/>
          </a:solidFill>
          <a:ln w="1260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2193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NDEC – Conselho Nacional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82880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SEDEC – Secretaria Nacional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43828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RDEC – Coordenadorias Region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0481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EDEC – Coordenadorias Estadu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65760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MDEC – Coordenadorias Municip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26708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Órgão Setoria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8769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Órgãos de Apoi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1981080"/>
            <a:ext cx="5410080" cy="1219320"/>
          </a:xfrm>
          <a:prstGeom prst="wedgeRectCallout">
            <a:avLst>
              <a:gd name="adj1" fmla="val -58833"/>
              <a:gd name="adj2" fmla="val -70444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 Superior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Constituído por representantes dos Ministérios e da Presidência da Repúblic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743200"/>
            <a:ext cx="5029200" cy="1143000"/>
          </a:xfrm>
          <a:prstGeom prst="wedgeRectCallout">
            <a:avLst>
              <a:gd name="adj1" fmla="val -61236"/>
              <a:gd name="adj2" fmla="val -83750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 Central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responsável pela coordenação e articulação do sistema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200400"/>
            <a:ext cx="4800600" cy="838080"/>
          </a:xfrm>
          <a:prstGeom prst="wedgeRectCallout">
            <a:avLst>
              <a:gd name="adj1" fmla="val -64185"/>
              <a:gd name="adj2" fmla="val -79546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Regiona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Não estão ativad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886200"/>
            <a:ext cx="6095880" cy="533520"/>
          </a:xfrm>
          <a:prstGeom prst="wedgeRectCallout">
            <a:avLst>
              <a:gd name="adj1" fmla="val -61092"/>
              <a:gd name="adj2" fmla="val -111310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Estaduais e do Distrito Fed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4495680"/>
            <a:ext cx="6705360" cy="1219320"/>
          </a:xfrm>
          <a:prstGeom prst="wedgeRectCallout">
            <a:avLst>
              <a:gd name="adj1" fmla="val -61032"/>
              <a:gd name="adj2" fmla="val -74217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Municipa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governamentais e não- governamentais (Núcleos Comunitários de Defesa Civil – NUDEC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410080"/>
            <a:ext cx="7086600" cy="1219320"/>
          </a:xfrm>
          <a:prstGeom prst="wedgeRectCallout">
            <a:avLst>
              <a:gd name="adj1" fmla="val 5958"/>
              <a:gd name="adj2" fmla="val -97398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Órgãos e entidades da Administração Pública Federal, dos Estados,  do Distrito Federal e dos Municípios, envolvidos nas ações de defesa civi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5867280"/>
            <a:ext cx="8381880" cy="762120"/>
          </a:xfrm>
          <a:prstGeom prst="wedgeRectCallout">
            <a:avLst>
              <a:gd name="adj1" fmla="val -5416"/>
              <a:gd name="adj2" fmla="val -105624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ntidades públicas e privadas, organizações não-governamentais, clubes de serviço e associações divers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1371600"/>
            <a:ext cx="8610480" cy="57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lanejar e promover a defesa permanente contra desastres naturais ou provocados pelo homem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tuar na iminência e em situações de desastres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revenir ou minimizar danos, socorrer e assistir populações atingidas e recuperar áreas deterioradas por desastr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80880"/>
            <a:ext cx="9144000" cy="5799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Estrutu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 SINDEC é constituído por órgãos e entidades da Administração Pública Federal, dos Estados, do Distrito Federal e dos Municípios, por entidades privadas e pela comunidad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struturado sob a forma de um sistema, que se articula nos três níveis de governo, em estreita interação com os órgãos setoriais, órgãos de apoio e com a comunidade.    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4920"/>
            <a:ext cx="9144000" cy="5799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vento Catarina –28/03/2004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288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295280"/>
          <a:ext cx="914400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5" dur="1" fill="hold"/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vento Catarina – 28/03/2004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8288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82880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828800"/>
            <a:ext cx="1904760" cy="9381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18288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7655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7432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6799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6576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36576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5943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5720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572000"/>
            <a:ext cx="2819520" cy="8920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08720"/>
            <a:ext cx="4419720" cy="968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5486400"/>
            <a:ext cx="1904760" cy="9907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5464080"/>
            <a:ext cx="2819520" cy="10130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7162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5920" y="198108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nicípios atingi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5560" y="28195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essoas atingi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7480" y="3886200"/>
            <a:ext cx="26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abrigados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9400" y="472428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alojado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9520" y="5715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itima fat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6960" y="2057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3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2760" y="2895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21.81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31000" y="38098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589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8720" y="4724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7.560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280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520" y="5791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0  - Torr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11320" y="571500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- mal súbi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1295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673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Órgãos envolvidos: SEDEC, INPE, INMET, Exército, Marinha, Aeronáutica, CEDEC, Bombeiros Militar et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7432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21932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ESTRUTURA E FUNCIONAMENTO DO SISTEMA NACIONAL DE DEFESA CIVIL - SINDE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038840" cy="201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5249880"/>
            <a:ext cx="86756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PAULO ROBERTO FEREGUETI </a:t>
            </a: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GÓES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– Coronel Bombeiro Militar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Diretor do Departamento de Minimização de Desastr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Secretaria Nacional de Defesa Civil / M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8f8f8"/>
                </a:solidFill>
                <a:latin typeface="Arial"/>
              </a:rPr>
              <a:t>Mobilização do SINDEC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Arial"/>
              </a:rPr>
              <a:t>Enchente – Jan a Mar/2004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7652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54296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9 es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ingido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 o Distrito Feder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224 municípios atingi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65.773 desabriga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1.214 desaloja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9 mort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15.984 casas destruídas/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046 pontes destruídas/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239840"/>
          <a:ext cx="9144000" cy="638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9840"/>
                    <a:ext cx="9144000" cy="638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- 2004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67652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523880"/>
            <a:ext cx="914400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ção nº 8, de 12.02.2004 cria o Comitê Gestor das Ações Federais de Emergência – CG e Comitês Federais nos Estados – CG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Fase Emergenci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535.000 Kg de aliment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279 kit medicamentos p/cada 3.000 pesso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peração emergencial de pontes e estr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Fase de Reconstruç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ção de casas destruí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peração de casas 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ção/Recuperação de pontes e estr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no Nordeste – Ago/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76520"/>
            <a:ext cx="769644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5 municípios atingidos: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N = 29, PE = 44, PB = 5 e AL = 27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264.600 pessoas afetad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5 mort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4.00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0.000 cobertor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4.000 colchonet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0 caminhões–pipa para PE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457200"/>
            <a:ext cx="9144000" cy="1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8f8f8"/>
                </a:solidFill>
                <a:latin typeface="Arial"/>
              </a:rPr>
              <a:t>Mobilização do SINDEC - 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"/>
              </a:rPr>
              <a:t>Enchente em Laranjal do Jari/A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2057400"/>
            <a:ext cx="61722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70% da área urbana atingid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40% da área rural atingid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200 famílias desabrigad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4.000 desalojad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1.50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2.500 colchonet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no Sudeste – Jan/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523880"/>
            <a:ext cx="815328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4 municípios atingidos: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P = 40, RJ = 17 e MG = 47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94.000 desabrigados  (MG = 81.533)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6 mort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5.02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obertores, colchonetes, lona plástic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cursos da União:  SP = R$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,7 milhõe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RJ = R$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7,2 milhõe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e MG =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$ 15,1 milhõ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20952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UMÁRI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143000"/>
            <a:ext cx="7696080" cy="42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rodução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istema Nacional de Defesa Civil – SINDE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Estrutur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1447920"/>
            <a:ext cx="822960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Escassez de oxigênio devido a greve dos  caminhoneir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440" y="533520"/>
            <a:ext cx="67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- 1999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895480"/>
            <a:ext cx="815364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 Martins solicitou intervenção para liberação dos caminhõ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DEC/MT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71360" y="68580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Mobilização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do SINDEC </a:t>
            </a: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- 1997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447920"/>
            <a:ext cx="822960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cre/inundação: transporte de 17 t medicamentos e 50 t de hipoclorido de sódio em 7 aviões hércules/FAB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am liberados recursos da ordem de R$ 2,4 milhões para AC, MG, ES e RJ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am liberados recursos da ordem de R$ 300 mil e enviadas 4.000 cestas de alimentos para o 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76520"/>
            <a:ext cx="81532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am transportados para os Estados de SP e MG, 20 t de donativos arrecadados pela CESIDEC, através de 2 aviões hércules/FAB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7680" y="76212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Mobilização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do SINDEC </a:t>
            </a: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- 1997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4000" y="3499920"/>
            <a:ext cx="8002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www.defesacivil.gov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aulo Roberto Feregueti Gó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Diretor Deptº de Minimização de Desastres – SEDEC/M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aulo.goes@integracao.gov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(61) 414-584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814400" y="2762280"/>
            <a:ext cx="73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retaria Nacional de Defesa Civi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14400" y="2286000"/>
            <a:ext cx="73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inistério da Integração Naciona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18306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74920" y="26352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 Black"/>
              </a:rPr>
              <a:t>FUNDAMENTOS LEGA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0000" y="2495160"/>
            <a:ext cx="731016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00"/>
                </a:solidFill>
                <a:uFillTx/>
                <a:latin typeface="Arial Unicode MS"/>
                <a:ea typeface="Times New Roman"/>
              </a:rPr>
              <a:t>TÍTULO DA ORGANIZAÇÃO FEDERAL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rtigo 5° - Incumbe a cada Estado prover, expensas próprias, as necessidades de seu governo e administração: a União, porém, </a:t>
            </a:r>
            <a:r>
              <a:rPr b="1" lang="pt-BR" sz="30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prestará socorros ao Estado que, em caso de calamidade pública, os solicitar.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7400" y="134928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ONSTITUIÇÃO DE 189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25440" y="2466360"/>
            <a:ext cx="7871040" cy="47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TÍTULO I- DA ORGANIZAÇÃO FED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CAPÍTULO I - DISPOSIÇÕES PRELIMINAR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Artigo 5° -  Compete, privativamente a União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XV —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r defesa permanente contra os efeitos da seca nos Estados do Nort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Artigo 7º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II — Prover as expensas próprias, as necessidades de sua administração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evendo,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orém, a União prestar socorros aos Estados que, em caso de calamidade pública, os solicitar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7400" y="128736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NSTITUIÇÃO DE 193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4920" y="26352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Arial Black"/>
              </a:rPr>
              <a:t>FUNDAMENTOS LEGA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95240" y="2768760"/>
            <a:ext cx="7850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808080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 baseline="16000">
                <a:solidFill>
                  <a:srgbClr val="0000ff"/>
                </a:solidFill>
                <a:latin typeface="Arial"/>
                <a:ea typeface="Times New Roman"/>
              </a:rPr>
              <a:t>DEFINE, COMO ENCARGOS NECESSÁRIOS À DEFESA DA PÁTRIA, OS SERVIÇOS DE DEFESA PASSIVA ANTI-AÉREA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90560"/>
            <a:ext cx="89913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DECRETO-LEI Nº 4098, DE 6 DE FEV 1942.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09800" y="2746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FUNDAMENTOS LEGAI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89080"/>
            <a:ext cx="9144000" cy="57132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1• CICLO EVOLUTIVO (1942 – 1946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851040"/>
            <a:ext cx="2735280" cy="11188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09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FES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PASSIVA ANTIAÉRE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6 FEV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649680"/>
            <a:ext cx="2735280" cy="12016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6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SERVIÇO DE DEFES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PASSIVA ANTIAÉRE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26 AGO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128680"/>
            <a:ext cx="1800000" cy="1006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CAMPANHAS DE ESCLARECIMENT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vistas, jornais, rádios e filme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091120"/>
            <a:ext cx="2519640" cy="11890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PROTEÇÃO DAS POPULÃÇÕ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ceber instruçõe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colher-se a abrigo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Atender aos alarmes 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Possuir os meios de defesa individu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6049800"/>
            <a:ext cx="2735280" cy="12002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80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ENSINO DE DEFESA PASSIV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6 OUT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3970440"/>
            <a:ext cx="2735280" cy="12794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5.86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CRIA O SERVIÇ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30 SET 194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170000"/>
            <a:ext cx="2735280" cy="12794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9.37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EXTINGUE O SERVIÇ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17 JUN 194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5970600"/>
            <a:ext cx="2519280" cy="1006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Organização Sistêmic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União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Estado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MUNICÍPIOS 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erviços Privado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68760"/>
            <a:ext cx="2519640" cy="6415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MEDIDAS ESTRUTURAIS E NÃO-ESTRUTURAIS DE PROTEÇÃ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828160" y="2201040"/>
            <a:ext cx="3919680" cy="3457440"/>
          </a:xfrm>
          <a:custGeom>
            <a:avLst/>
            <a:gdLst>
              <a:gd name="textAreaLeft" fmla="*/ 524880 w 3919680"/>
              <a:gd name="textAreaRight" fmla="*/ 3394800 w 3919680"/>
              <a:gd name="textAreaTop" fmla="*/ 653400 h 3457440"/>
              <a:gd name="textAreaBottom" fmla="*/ 23947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5" stAng="-5400000" swAng="-5400000"/>
                <a:lnTo>
                  <a:pt x="0" y="10877"/>
                </a:lnTo>
                <a:arcTo wR="21600" hR="8165" stAng="10800000" swAng="-2814880"/>
                <a:lnTo>
                  <a:pt x="14400" y="21133"/>
                </a:lnTo>
                <a:lnTo>
                  <a:pt x="21600" y="17686"/>
                </a:lnTo>
                <a:lnTo>
                  <a:pt x="14400" y="13305"/>
                </a:lnTo>
                <a:lnTo>
                  <a:pt x="14400" y="15863"/>
                </a:lnTo>
                <a:arcTo wR="21600" hR="8165" stAng="7985120" swAng="2596321"/>
                <a:lnTo>
                  <a:pt x="300" y="9521"/>
                </a:lnTo>
                <a:arcTo wR="21600" hR="8165" stAng="-10581442" swAng="5181442"/>
                <a:close/>
              </a:path>
              <a:path fill="darkenLess" w="21600" h="21600">
                <a:moveTo>
                  <a:pt x="21600" y="0"/>
                </a:moveTo>
                <a:arcTo wR="21600" hR="8165" stAng="-5400000" swAng="-5400000"/>
                <a:lnTo>
                  <a:pt x="0" y="8165"/>
                </a:lnTo>
                <a:arcTo wR="21600" hR="8165" stAng="10800000" swAng="-218558"/>
                <a:lnTo>
                  <a:pt x="300" y="9521"/>
                </a:lnTo>
                <a:arcTo wR="21600" hR="8165" stAng="-10581442" swAng="5181442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4516560" cy="762012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1160" y="0"/>
            <a:ext cx="4711680" cy="76071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4370400"/>
            <a:ext cx="9144000" cy="2319480"/>
          </a:xfrm>
          <a:prstGeom prst="rect">
            <a:avLst/>
          </a:prstGeom>
          <a:solidFill>
            <a:srgbClr val="66ffcc">
              <a:alpha val="25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ROVISO DAS AÇÕES DE RESPOSTA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RAVES CONSEQÜÊNCIAS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SOLUTA FALTA DE PLANEJAMENTO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369720"/>
            <a:ext cx="61214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JANEIRO DE 196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2681280"/>
            <a:ext cx="866772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TITULO I - DA ORGANIZAÇÃO NACIONA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CAPITULO XII - DA COMPETÊNCIA DA UNIÃO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Artigo 8º -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XII — Organizar a defesa permanente contra as calamidades públicas, especialmente, as secas e as inundaçõe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27400" y="162072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NSTITUIÇÃO DE 1967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94040" y="634536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(INCISO XVIII, Artigo 21, CF1988)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09800" y="274680"/>
            <a:ext cx="77724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FUNDAMENTOS LEGAI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9:43:06Z</dcterms:created>
  <dc:creator>Departamento de Defesa Civil</dc:creator>
  <dc:description/>
  <dc:language>en-US</dc:language>
  <cp:lastModifiedBy>Computador</cp:lastModifiedBy>
  <cp:lastPrinted>1999-09-21T18:27:05Z</cp:lastPrinted>
  <dcterms:modified xsi:type="dcterms:W3CDTF">2004-11-29T16:03:01Z</dcterms:modified>
  <cp:revision>199</cp:revision>
  <dc:subject/>
  <dc:title>IMPLANTAÇÃO E OPERACIONALIZAÇÃO DE COMDEC</dc:title>
</cp:coreProperties>
</file>