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0480" y="3340080"/>
            <a:ext cx="7655040" cy="485640"/>
          </a:xfrm>
          <a:custGeom>
            <a:avLst/>
            <a:gdLst/>
            <a:ahLst/>
            <a:rect l="l" t="t" r="r" b="b"/>
            <a:pathLst>
              <a:path w="21262" h="1351">
                <a:moveTo>
                  <a:pt x="839" y="563"/>
                </a:moveTo>
                <a:cubicBezTo>
                  <a:pt x="839" y="563"/>
                  <a:pt x="10578" y="0"/>
                  <a:pt x="21261" y="563"/>
                </a:cubicBezTo>
                <a:cubicBezTo>
                  <a:pt x="21261" y="563"/>
                  <a:pt x="21261" y="884"/>
                  <a:pt x="21261" y="1209"/>
                </a:cubicBezTo>
                <a:cubicBezTo>
                  <a:pt x="12211" y="563"/>
                  <a:pt x="3543" y="1350"/>
                  <a:pt x="0" y="1242"/>
                </a:cubicBezTo>
                <a:lnTo>
                  <a:pt x="839" y="563"/>
                </a:lnTo>
                <a:lnTo>
                  <a:pt x="839" y="563"/>
                </a:lnTo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7160"/>
            <a:ext cx="77709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1219320"/>
            <a:ext cx="4800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ed030e"/>
                </a:solidFill>
                <a:latin typeface="Times New Roman"/>
              </a:rPr>
              <a:t>PROJETO DE LEI Nº 4.038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rna obrigatória a contratação de segu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ra o rompimento de barragen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2438640" cy="190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64440" y="3860640"/>
            <a:ext cx="3628800" cy="836640"/>
          </a:xfrm>
          <a:prstGeom prst="roundRect">
            <a:avLst>
              <a:gd name="adj" fmla="val 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030e"/>
                </a:solidFill>
                <a:latin typeface="Times New Roman"/>
              </a:rPr>
              <a:t>Deputada  </a:t>
            </a:r>
            <a:r>
              <a:rPr b="1" lang="en-GB" sz="2600" spc="-1" strike="noStrike">
                <a:solidFill>
                  <a:srgbClr val="ed030e"/>
                </a:solidFill>
                <a:latin typeface="Times New Roman"/>
              </a:rPr>
              <a:t>ANN PO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d030e"/>
                </a:solidFill>
                <a:latin typeface="Times New Roman"/>
              </a:rPr>
              <a:t>PMDB -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90480" y="5829480"/>
            <a:ext cx="4249080" cy="62928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resentação: ANGELO B. M. AND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essor Parlame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609480"/>
            <a:ext cx="580716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013"/>
              </a:lnSpc>
              <a:spcAft>
                <a:spcPts val="35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Congresso Nacional</a:t>
            </a: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decre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Art. 1</a:t>
            </a:r>
            <a:r>
              <a:rPr b="1" lang="en-GB" sz="1400" spc="-1" strike="noStrike" u="sng" baseline="30000">
                <a:solidFill>
                  <a:srgbClr val="1a01d5"/>
                </a:solidFill>
                <a:uFillTx/>
                <a:latin typeface="Arial"/>
              </a:rPr>
              <a:t>o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 Esta Lei torna obrigatória a contratação de seguro contra o rompimento de barragens de cursos de água, para cobertura de danos físicos, inclusive morte, e prejuízos materiais às pessoas físicas e jurídicas domiciliadas nas respectivas jus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Parágrafo único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. Esta Lei aplica-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I -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 às barragens de cursos de água, em todo o território nacional, cujo rompimento possa provocar a inundação de áreas urbanas ou rurais habitadas ou utilizadas para quaisquer fins de natureza econômica, inclusive de subsistênc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1a01d5"/>
                </a:solidFill>
                <a:latin typeface="Arial"/>
              </a:rPr>
              <a:t>II –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 às barragens destinadas à contenção de rejeitos industriais e de esgotos sanitários, cujo rompimento possa provocar poluição ou contaminação de cursos de água, do solo e de aqüíferos subterrâne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838080"/>
            <a:ext cx="694980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013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Art. 2</a:t>
            </a:r>
            <a:r>
              <a:rPr b="0" lang="en-GB" sz="1400" spc="-1" strike="noStrike" u="sng" baseline="30000">
                <a:solidFill>
                  <a:srgbClr val="1a01d5"/>
                </a:solidFill>
                <a:uFillTx/>
                <a:latin typeface="ARIAL (W1)"/>
              </a:rPr>
              <a:t>o</a:t>
            </a:r>
            <a:r>
              <a:rPr b="0" lang="en-GB" sz="1400" spc="-1" strike="noStrike" baseline="30000">
                <a:solidFill>
                  <a:srgbClr val="1a01d5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a01d5"/>
                </a:solidFill>
                <a:latin typeface="ARIAL (W1)"/>
              </a:rPr>
              <a:t> É obrigatório que todas as barragens de cursos de água para quaisquer fins e que se enquadrem no parágrafo único do art. 1º tenham cobertura de seguro contra rompimento, com previsão de indenização de danos 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físicos, inclusive morte, e prejuízos materiais às pessoas físicas e jurídicas domiciliadas nas respectivas jus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§ 1º O disposto no </a:t>
            </a:r>
            <a:r>
              <a:rPr b="0" i="1" lang="en-GB" sz="1400" spc="-1" strike="noStrike">
                <a:solidFill>
                  <a:srgbClr val="1a01d5"/>
                </a:solidFill>
                <a:latin typeface="Arial"/>
              </a:rPr>
              <a:t>caput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 aplica-se tanto às barragens cujos proprietários tenham natureza jurídica pública quanto priv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§ 2º A cobertura do seguro deve incluir o período de implantação da barrag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Art. 3</a:t>
            </a:r>
            <a:r>
              <a:rPr b="0" lang="en-GB" sz="1400" spc="-1" strike="noStrike">
                <a:solidFill>
                  <a:srgbClr val="1a01d5"/>
                </a:solidFill>
                <a:latin typeface="ARIAL (W1)"/>
              </a:rPr>
              <a:t>º</a:t>
            </a: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 A ausência do seguro a que se refere o art. 2º constitui infração ambiental, sujeitando-se os representantes legais dos proprietários das barragens aos termos dos artigos 68, 70 e 72 da Lei nº 9.605, de 12 de fevereiro de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Art. 4º O Poder Executivo estabelecerá os regulamentos necessários à aplicação da presente Le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a01d5"/>
                </a:solidFill>
                <a:latin typeface="Arial"/>
              </a:rPr>
              <a:t>Art. 5º Esta Lei entra em vigor na data de sua publicação ofi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