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lvl="1" marL="301680" indent="-301680" algn="ctr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lvl="2" marL="301680" indent="-3016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lvl="3" marL="301680" indent="-301680" algn="ctr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lvl="4" marL="301680" indent="-301680" algn="ctr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lvl="5" marL="301680" indent="-301680" algn="ctr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lvl="6" marL="301680" indent="-301680" algn="ctr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27080" y="6165360"/>
            <a:ext cx="4048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CONSÓRCIO ESTREITO ENERGIA - CES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2555-A2D1-42A1-A8C1-3785E8ED6E90}" type="slidenum">
              <a:rPr b="0" lang="en-US" sz="14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95280" y="6172200"/>
            <a:ext cx="842472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39640" y="2133720"/>
            <a:ext cx="7993080" cy="25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152280"/>
            <a:ext cx="7772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HE Estre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68280"/>
            <a:ext cx="7993080" cy="54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DA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ndes quest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cessidade dos Empreend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efícios da implantação do AHE Estreito para o paí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efícios da implantação do AHE Estreito para as comun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ítica de Responsabilidade Social do C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nograma de implan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to AHE Estre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ções Téc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scimento do Merc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152280"/>
            <a:ext cx="7772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AÇÕES TÉCN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557360"/>
            <a:ext cx="79930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acidade instalada: 1.087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ia Assegurada: 584,9 MW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lização: Rio Tocant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nicípios: Estreito (MA) e Aguiarnópolis (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rea do Reservatório: 555 k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sem descontar o leito do r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mílias Atingid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rea Urbana: 26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rea Rural: 9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héus: 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unidade Ru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643280" y="198900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unidade Ru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2000" y="18446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SCIMENTO DO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332000" y="1052640"/>
          <a:ext cx="6624720" cy="1655640"/>
        </p:xfrm>
        <a:graphic>
          <a:graphicData uri="http://schemas.openxmlformats.org/drawingml/2006/table">
            <a:tbl>
              <a:tblPr/>
              <a:tblGrid>
                <a:gridCol w="2016000"/>
                <a:gridCol w="934920"/>
                <a:gridCol w="936720"/>
                <a:gridCol w="936720"/>
                <a:gridCol w="863640"/>
                <a:gridCol w="936720"/>
              </a:tblGrid>
              <a:tr h="28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82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rc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ga Própria (MWm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5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.5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.8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5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.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résci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1.9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 2.380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 2.663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 2.633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1835280" y="2708280"/>
          <a:ext cx="5689440" cy="343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708280"/>
                    <a:ext cx="5689440" cy="34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scimento do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24000" y="1125360"/>
          <a:ext cx="8569080" cy="485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25360"/>
                    <a:ext cx="8569080" cy="48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92000" y="1844280"/>
            <a:ext cx="62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ólica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omassa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érmica a Gá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érmica a Carvão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ar- (Fotovoltaica)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drelétrica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072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nergia Eólic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or Gerador com capacidade instalada = 1,5 MW (por unidade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equados para implantação em regiões planas e onde a confiabilidade dos ventos predominantes assegurem uma velocidade mínima compatível com o equipamento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2997360"/>
            <a:ext cx="374328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ustível renová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uição somente visual e son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nda da energia diretamente aos consumidores livres (maior ou igual a 500 k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ão contaminante: Licenças Ambientais facilita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ração próxima ao Centro de Car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14920" y="2997360"/>
            <a:ext cx="396072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ão possui energia assegu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nologia totalmente  import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actos sobre a avifau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 área em que estão instalados os geradores eólicos ocorre a restrição de uso para diversos f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ção área / capacidade instalada é ru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vado custo de implantação (R$ 200,00 / MWh - V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072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iomass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radores com pequena capacidade instalada (média = 50 MW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cessitam de biomassa no seu processo produtivo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ociado a viabilidade de projetos de co-geração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3286080"/>
            <a:ext cx="37432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ergia Assegu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z a poluição quando utiliza resíduos sólidos industriais e/ou domésticos (lixo, madeira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14920" y="3284640"/>
            <a:ext cx="3960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nologia import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vado custo de implantação (R$ 160,00 / MWh - V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antação limitada a existência de resídu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érmica a Carvão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ores Geradores com capacidade entre 300 e 1000 MW, existindo a possibilidade de grandes complexos (com vários geradores)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1989000"/>
            <a:ext cx="8136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ergia Assegu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ilidade de grande geração, para atendimento da energia de po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nde flexibilidade oper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rteza na existência de combustível para ger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3284640"/>
            <a:ext cx="8136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oluidoras no processo produ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arvão nacional com grande teor de cinza (&gt; 50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ecnologia básica nacional, e de ponta import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esíduos líquidos e sólidos no processo produ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Instalados nos centros de carga próximos às cidades, causando resistência da população em aceitar a unidade de ger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lto nível de ruí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ransporte intensivo de combustíveis (carvão) e resíduos (cinz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usto de implantação aproximado de R$ 130,00 / MWh – V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missão de CO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érmica a Gá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ores Geradores com capacidade entre 300 e 1000 MW, existindo a possibilidade de grandes complexos (com vários geradores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2637000"/>
            <a:ext cx="813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ergia Assegu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sibilidade de concentrar grandes unidades de ger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3716280"/>
            <a:ext cx="8136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bustível importado vendido em U$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nceito de pagamento contínuo mesmo quando não operando (“take-or-pay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ecnologia totalmente import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lexibilidade operacional limitada em função da não existência da venda de gás flexí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usto de implantação aproximado de R$ 130,00 / MW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issão de CO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NDES QUEST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1125360"/>
            <a:ext cx="835344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É realmente necessário aumentar a oferta de energi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alternativa de geração hidrelétrica é a melhor soluçã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be ao empreendedor substituir a ausência do Estado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ingid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 o critério para definirmos quem é diretamente atingi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dastro dos atingidos, critérios para inclusã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o tratar a população menos favoreci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Opção única por reassentamento rural coletiv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Varias opções a critério de cada atingi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atividade dos atingidos, critérios e defini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909720"/>
            <a:ext cx="8207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to Voltaica - Solar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acidade de geração de 100 a 300 W (por painel de geração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2276640"/>
            <a:ext cx="813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ergia li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o produtivo de baixo impacto ambi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3716280"/>
            <a:ext cx="8136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 aproximado de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$ 470,00 / MW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cessidade de baterias e/ou energia alternativa (no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CESSIDADES DOS EMPREEND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2565360"/>
            <a:ext cx="8353440" cy="23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ção de critérios dos seus encar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álogo permanente entre o Ministério Público e o Empreend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ção dos limites de atuação e encargos do Empreend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preendedor visto como Estado no atendimento das demandas soci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NEFÍCIOS DA IMPLANTAÇÃO DA UHE ESTREIT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 O PAÍ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916280"/>
            <a:ext cx="835344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087 MW de capacidade instal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0 km de vias navegáveis no Rio Tocant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pregos diretos: mais de 5.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pregos indiretos: mais de 16.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stimento de R$ 2.200.000.000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sibilidade para a agricultura irrigá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ra de mais de 98% do valor da obra no Bras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NEFÍCIOS DA IMPLANTAÇÃO DA UHE ESTREITO PARA AS COMUN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1916280"/>
            <a:ext cx="835344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ensação financeira pela utilização de recursos hídricos:                        R$ 13.636.919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vas estruturas de lazer (prai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lhorias na infra-estrutura 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ursos para Parques Nacionais: R$ 11.000.000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ursos para pesquisas básicas e aplicadas (EIA / RIMA, PB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squisas na área de arqueolo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ÍTICA DE RESPONSABILIDADE SOCIAL DO CE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58560" y="1268280"/>
            <a:ext cx="878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ito de atendimento ao universo dos atingidos: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rietários – Indenização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ão proprietários – Somente benefícios e compensaçõ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ícios diretos para os diretamente atingidos.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ícios indiretos para os indiretamente antigido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endimento direto ao universo dos atingidos cadastrado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lhoria da infra-estrutura pública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tamente atingidos: moradores na área inundada e devidamente cadastrado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retamente atingidos: moradores lindeiros e eventuais usuários da área inundada e beneficiários das melhorias de infra-estrutura realizadas pelo CEST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imentos de levantamento e avaliação da terra nua e benfeitorias mediante metodologia cientificamente validada e apresentada ao público atingido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ção quando requerida pelo atingido do acompanhamento do MP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ÍTICA DE RESPONSABILIDADE SOCIAL DO CE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1268280"/>
            <a:ext cx="835344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sseiros de boa fé terão mesmo tratamento de propriet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pções para famílias diretamente atingid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assentamento rural coletivo para fins pecuá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rta de crédito para auto reassentamento r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rta de crédito para auto reassentamento urb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assentamento urbano col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ote urbano com infra estru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eferencialmente contratar pessoas da regi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CESTE mantém canal aberto de comunicação com a população envolvida e as autoridades locais, através de Centro de Comunicação Social, funcionando em Carolina/MA desde 02/04/03, objetivando esclarecer ao público-alvo da região de interesse, questões relativas à implantação do empreendimento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onograma de Implant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cesso de Licenciamento Ambienta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76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edido de licença de estud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06/11/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finição do Termo de Referênci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01/04/200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trega do EIA/RIMA ao IBAM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8/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IA/RIMA disponível para consult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8/03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udiências públicas realizada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5/07/2002 à 19/07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união técnica inicia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09/01/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união técnica do process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5/02/2003 à 27/02/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va visita técnica de camp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06/04/2003 à 11/04/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issão de parece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9/08/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trega da complementaçã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0/12/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btenção da Licença Prévia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rço/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btenção da Licença de Instalação          dezembro/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ício das obra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rço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eração da unidade #1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io/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39640" y="981000"/>
          <a:ext cx="5056200" cy="511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981000"/>
                    <a:ext cx="5056200" cy="51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 flipH="1">
            <a:off x="4660560" y="1289160"/>
            <a:ext cx="6094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59520" y="1052640"/>
            <a:ext cx="193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entury Gothic"/>
              </a:rPr>
              <a:t>Estreito 1.087M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52280"/>
            <a:ext cx="7772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TO AHE ESTRE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19:04:09Z</dcterms:created>
  <dc:creator>Tractebel Brasil</dc:creator>
  <dc:description/>
  <dc:language>en-US</dc:language>
  <cp:lastModifiedBy>Édio da Luz</cp:lastModifiedBy>
  <dcterms:modified xsi:type="dcterms:W3CDTF">2004-04-13T17:22:57Z</dcterms:modified>
  <cp:revision>196</cp:revision>
  <dc:subject/>
  <dc:title>Slide 1</dc:title>
</cp:coreProperties>
</file>