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9925050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3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508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332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  <a:p>
            <a:pPr lvl="1" marL="301680" indent="-301680" algn="ctr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  <a:p>
            <a:pPr lvl="2" marL="301680" indent="-301680" algn="ctr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  <a:p>
            <a:pPr lvl="3" marL="301680" indent="-301680" algn="ctr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  <a:p>
            <a:pPr lvl="4" marL="301680" indent="-301680" algn="ctr"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  <a:p>
            <a:pPr lvl="5" marL="301680" indent="-301680" algn="ctr"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  <a:p>
            <a:pPr lvl="6" marL="301680" indent="-301680" algn="ctr"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4627080" y="6165360"/>
            <a:ext cx="4048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2b2b2"/>
                </a:solidFill>
                <a:latin typeface="Arial"/>
              </a:rPr>
              <a:t>CONSÓRCIO ESTREITO ENERGIA - CES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CC2AB-6ABE-49B0-98A1-1369097BC9D2}" type="slidenum">
              <a:rPr b="0" lang="en-US" sz="14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95280" y="6172200"/>
            <a:ext cx="8424720" cy="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539640" y="2133720"/>
            <a:ext cx="7993080" cy="25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85800" y="152280"/>
            <a:ext cx="777240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HE Estrei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39640" y="1268280"/>
            <a:ext cx="7993080" cy="54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GENDA: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randes questõ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cessidade dos Empreended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nefícios da implantação do AHE Estreito para o paí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nefícios da implantação do AHE Estreito para as comunida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lítica de Responsabilidade Social do CES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ronograma de implanta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jeto AHE Estrei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formações Técn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rescimento do Merc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mas de Geração de Energ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685800" y="152280"/>
            <a:ext cx="777240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FORMAÇÕES TÉCNIC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1557360"/>
            <a:ext cx="79930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pacidade instalada: 1.087 M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ergia Assegurada: 584,9 MWm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calização: Rio Tocanti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unicípios: Estreito (MA) e Aguiarnópolis (T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Área do Reservatório: 555 km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sem descontar o leito do ri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mílias Atingida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Área Urbana: 268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Área Rural: 9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héus: 5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munidade Rur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395280" y="198900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643280" y="1989000"/>
            <a:ext cx="4038840" cy="302904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munidade Rur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95280" y="184464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4572000" y="184464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468360" y="115920"/>
            <a:ext cx="822960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SCIMENTO DO MERC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1332000" y="1052640"/>
          <a:ext cx="6624720" cy="1655640"/>
        </p:xfrm>
        <a:graphic>
          <a:graphicData uri="http://schemas.openxmlformats.org/drawingml/2006/table">
            <a:tbl>
              <a:tblPr/>
              <a:tblGrid>
                <a:gridCol w="2016000"/>
                <a:gridCol w="934920"/>
                <a:gridCol w="936720"/>
                <a:gridCol w="936720"/>
                <a:gridCol w="863640"/>
                <a:gridCol w="936720"/>
              </a:tblGrid>
              <a:tr h="280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82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I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,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,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,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,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,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ercad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,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,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,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,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,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4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rga Própria (MWmed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.57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.50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.88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8.54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1.1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réscim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 1.9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+ 2.380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+ 2.663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+ 2.633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3" name=""/>
          <p:cNvGraphicFramePr/>
          <p:nvPr/>
        </p:nvGraphicFramePr>
        <p:xfrm>
          <a:off x="1835280" y="2708280"/>
          <a:ext cx="5689440" cy="3430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5280" y="2708280"/>
                    <a:ext cx="5689440" cy="343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over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468360" y="115920"/>
            <a:ext cx="822960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scimento do Merc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324000" y="1125360"/>
          <a:ext cx="8569080" cy="4853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125360"/>
                    <a:ext cx="8569080" cy="485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over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MAS DE GERAÇÃO DE ENERG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692000" y="1844280"/>
            <a:ext cx="626436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ólica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iomassa 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érmica a Gás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érmica a Carvão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ar- (Fotovoltaica)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idrelétrica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MAS DE GERAÇÃO DE ENERGI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68360" y="1052640"/>
            <a:ext cx="820728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Energia Eólica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marL="343080" indent="0" algn="just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80808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racterísticas: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ior Gerador com capacidade instalada = 1,5 MW (por unidade)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equados para implantação em regiões planas e onde a confiabilidade dos ventos predominantes assegurem uma velocidade mínima compatível com o equipamento 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2997360"/>
            <a:ext cx="3743280" cy="30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ntage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bustível renová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luição somente visual e sono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nda da energia diretamente aos consumidores livres (maior ou igual a 500 kW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ão contaminante: Licenças Ambientais facilitad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ração próxima ao Centro de Carg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714920" y="2997360"/>
            <a:ext cx="3960720" cy="32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svantage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ão possui energia assegura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cnologia totalmente  importa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actos sobre a avifau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a área em que estão instalados os geradores eólicos ocorre a restrição de uso para diversos fi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lação área / capacidade instalada é rui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levado custo de implantação (R$ 200,00 / MWh - V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MAS DE GERAÇÃO DE ENERG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8360" y="1052640"/>
            <a:ext cx="820728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iomassa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marL="343080" indent="0" algn="just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80808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racterísticas: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radores com pequena capacidade instalada (média = 50 MW)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cessitam de biomassa no seu processo produtivo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ociado a viabilidade de projetos de co-geração 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3286080"/>
            <a:ext cx="374328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ntage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ergia Assegura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duz a poluição quando utiliza resíduos sólidos industriais e/ou domésticos (lixo, madeira, etc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714920" y="3284640"/>
            <a:ext cx="396072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svantage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cnologia importa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levado custo de implantação (R$ 160,00 / MWh - V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lantação limitada a existência de resídu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MAS DE GERAÇÃO DE ENERG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820728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érmica a Carvão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80808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racterísticas: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iores Geradores com capacidade entre 300 e 1000 MW, existindo a possibilidade de grandes complexos (com vários geradores)</a:t>
            </a:r>
            <a:endParaRPr b="0" lang="en-US" sz="1400" spc="-1" strike="noStrike">
              <a:solidFill>
                <a:srgbClr val="80808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1989000"/>
            <a:ext cx="8136000" cy="13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ntagen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ergia Assegura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sibilidade de grande geração, para atendimento da energia de pon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nde flexibilidade operacio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erteza na existência de combustível para geraçã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68360" y="3284640"/>
            <a:ext cx="813600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Desvantagen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oluidoras no processo produtiv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Carvão nacional com grande teor de cinza (&gt; 50%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Tecnologia básica nacional, e de ponta importa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Resíduos líquidos e sólidos no processo produtiv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Instalados nos centros de carga próximos às cidades, causando resistência da população em aceitar a unidade de geraçã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Alto nível de ruí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Transporte intensivo de combustíveis (carvão) e resíduos (cinz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Custo de implantação aproximado de R$ 130,00 / MWh – V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Emissão de CO</a:t>
            </a:r>
            <a:r>
              <a:rPr b="0" lang="pt-BR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MAS DE GERAÇÃO DE ENERG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820728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Térmica a Gás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marL="343080" indent="0" algn="just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80808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racterísticas: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iores Geradores com capacidade entre 300 e 1000 MW, existindo a possibilidade de grandes complexos (com vários geradores)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2637000"/>
            <a:ext cx="813600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ntage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ergia Assegura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ssibilidade de concentrar grandes unidades de geraçã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95280" y="3716280"/>
            <a:ext cx="8136000" cy="23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Desvantage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ombustível importado vendido em U$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onceito de pagamento contínuo mesmo quando não operando (“take-or-pay”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Tecnologia totalmente importa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Flexibilidade operacional limitada em função da não existência da venda de gás flexí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usto de implantação aproximado de R$ 130,00 / MW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Emissão de CO</a:t>
            </a:r>
            <a:r>
              <a:rPr b="0" lang="pt-BR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ANDES QUESTÕ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95280" y="1125360"/>
            <a:ext cx="8353440" cy="59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É realmente necessário aumentar a oferta de energi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alternativa de geração hidrelétrica é a melhor soluçã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be ao empreendedor substituir a ausência do Estado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tingid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al o critério para definirmos quem é diretamente atingid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dastro dos atingidos, critérios para inclusã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o tratar a população menos favorecid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Opção única por reassentamento rural coletiv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Varias opções a critério de cada atingid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presentatividade dos atingidos, critérios e definiçõ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MAS DE GERAÇÃO DE ENERG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68360" y="909720"/>
            <a:ext cx="8207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Foto Voltaica - Solar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marL="343080"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80808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racterísticas: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pacidade de geração de 100 a 300 W (por painel de geração)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68360" y="2276640"/>
            <a:ext cx="813600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ntagen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ergia limp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o produtivo de baixo impacto ambient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95280" y="3716280"/>
            <a:ext cx="8136000" cy="23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vantagen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sto aproximado de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$ 470,00 / MW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cessidade de baterias e/ou energia alternativa (noit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CESSIDADES DOS EMPREENDED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68360" y="2565360"/>
            <a:ext cx="8353440" cy="234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finição de critérios dos seus encarg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álogo permanente entre o Ministério Público e o Empreende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finição dos limites de atuação e encargos do Empreende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preendedor visto como Estado no atendimento das demandas socia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NEFÍCIOS DA IMPLANTAÇÃO DA UHE ESTREITO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 O PAÍ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39640" y="1916280"/>
            <a:ext cx="835344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087 MW de capacidade instal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50 km de vias navegáveis no Rio Tocanti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mpregos diretos: mais de 5.5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mpregos indiretos: mais de 16.5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vestimento de R$ 2.200.000.000,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ssibilidade para a agricultura irrigá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ra de mais de 98% do valor da obra no Bras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NEFÍCIOS DA IMPLANTAÇÃO DA UHE ESTREITO PARA AS COMUNIDA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95280" y="1916280"/>
            <a:ext cx="8353440" cy="39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ensação financeira pela utilização de recursos hídricos:                        R$ 13.636.919,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vas estruturas de lazer (praia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lhorias na infra-estrutura loc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ursos para Parques Nacionais: R$ 11.000.000,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ursos para pesquisas básicas e aplicadas (EIA / RIMA, PB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squisas na área de arqueolog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LÍTICA DE RESPONSABILIDADE SOCIAL DO CES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58560" y="1268280"/>
            <a:ext cx="8785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eito de atendimento ao universo dos atingidos: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prietários – Indenização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ão proprietários – Somente benefícios e compensaçõe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nefícios diretos para os diretamente atingidos.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nefícios indiretos para os indiretamente antigido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endimento direto ao universo dos atingidos cadastrado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lhoria da infra-estrutura pública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tamente atingidos: moradores na área inundada e devidamente cadastrado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retamente atingidos: moradores lindeiros e eventuais usuários da área inundada e beneficiários das melhorias de infra-estrutura realizadas pelo CEST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dimentos de levantamento e avaliação da terra nua e benfeitorias mediante metodologia cientificamente validada e apresentada ao público atingido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icipação quando requerida pelo atingido do acompanhamento do MP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LÍTICA DE RESPONSABILIDADE SOCIAL DO CES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95280" y="1268280"/>
            <a:ext cx="8353440" cy="43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osseiros de boa fé terão mesmo tratamento de proprietár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pções para famílias diretamente atingida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Reassentamento rural coletivo para fins pecuár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arta de crédito para auto reassentamento ru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arta de crédito para auto reassentamento urba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Reassentamento urbano colet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Lote urbano com infra estrut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referencialmente contratar pessoas da regi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 CESTE mantém canal aberto de comunicação com a população envolvida e as autoridades locais, através de Centro de Comunicação Social, funcionando em Carolina/MA desde 02/04/03, objetivando esclarecer ao público-alvo da região de interesse, questões relativas à implantação do empreendimento</a:t>
            </a:r>
            <a:r>
              <a:rPr b="0" lang="pt-BR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ronograma de Implantaç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6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Processo de Licenciamento Ambienta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marL="76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√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edido de licença de estudo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06/11/2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√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efinição do Termo de Referência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01/04/2001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√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ntrega do EIA/RIMA ao IBAMA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28/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√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IA/RIMA disponível para consulta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28/03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√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udiências públicas realizadas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15/07/2002 à 19/07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√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Reunião técnica inicial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09/01/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√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Reunião técnica do processo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25/02/2003 à 27/02/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√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Nova visita técnica de campo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06/04/2003 à 11/04/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√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missão de parecer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29/08/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√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ntrega da complementação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30/12/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Obtenção da Licença Prévia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março/20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Obtenção da Licença de Instalação          dezembro/20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Início das obras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março/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Geração da unidade #1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maio/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"/>
          <p:cNvGraphicFramePr/>
          <p:nvPr/>
        </p:nvGraphicFramePr>
        <p:xfrm>
          <a:off x="539640" y="981000"/>
          <a:ext cx="5056200" cy="511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981000"/>
                    <a:ext cx="5056200" cy="511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"/>
          <p:cNvSpPr/>
          <p:nvPr/>
        </p:nvSpPr>
        <p:spPr>
          <a:xfrm flipH="1">
            <a:off x="4660560" y="1289160"/>
            <a:ext cx="60948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59520" y="1052640"/>
            <a:ext cx="193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Century Gothic"/>
              </a:rPr>
              <a:t>Estreito 1.087M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5800" y="152280"/>
            <a:ext cx="777240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JETO AHE ESTREI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07T19:04:09Z</dcterms:created>
  <dc:creator>Tractebel Brasil</dc:creator>
  <dc:description/>
  <dc:language>en-US</dc:language>
  <cp:lastModifiedBy>Édio da Luz</cp:lastModifiedBy>
  <dcterms:modified xsi:type="dcterms:W3CDTF">2004-04-13T17:22:57Z</dcterms:modified>
  <cp:revision>196</cp:revision>
  <dc:subject/>
  <dc:title>Slide 1</dc:title>
</cp:coreProperties>
</file>