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42E9-3402-4D75-9695-6579FB789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291B-FB62-439D-BCAD-7AEE4B8AD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8DADF-D0CB-4E11-8F25-BB17C88D3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BF3A-8BFA-4DEC-9463-86FD87378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F910-78D8-4576-A0CC-B96DB513B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1D5C-CDF6-4DD9-B703-08C62F3E8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3F347-56EB-4FF4-9A51-F80481A1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F505B-B120-47C7-AFD9-3BE43575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FB7FA-11D4-4201-8F82-705384940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B40B3-BDEB-437C-A268-574470445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B3EF-B9DA-4F0E-A4B3-91A4E6A3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B7A08-DC79-473F-85B5-F6B636580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EDBC-4267-4CBC-866E-094E7BA7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3A05-3BB0-4A6A-937D-B97D9ED0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EAFCA-5F45-4517-841B-427BFD6C5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6DEC9-F55E-4940-98A1-197C5B9A3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70057-88D7-46C4-A2E4-A425CCF19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4133-C477-4F96-8C0D-2FED5398E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032D-18D3-4D87-B102-58CB9A7D6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A946-3919-4C5B-A8D1-E4488C230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0F029-4FE5-4551-B3BE-C1568554D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EEE2D-DF10-44E3-BC02-1407E434C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9123-5237-47AC-ADE9-878F76B7B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75B9-ED1E-4AEB-B327-7E724C87C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57F1C-DA9C-4945-83D3-657FCCD77A45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9D2E-7AC8-4E31-AEA8-038610EDA1FF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006666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006666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90720" y="1676520"/>
            <a:ext cx="7772400" cy="27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006666"/>
                </a:solidFill>
                <a:latin typeface="Arial"/>
              </a:rPr>
              <a:t>Sistema Nacional de</a:t>
            </a:r>
            <a:br>
              <a:rPr sz="4000"/>
            </a:br>
            <a:r>
              <a:rPr b="0" lang="pt-BR" sz="4000" spc="-1" strike="noStrike">
                <a:solidFill>
                  <a:srgbClr val="006666"/>
                </a:solidFill>
                <a:latin typeface="Arial"/>
              </a:rPr>
              <a:t>Prevenção, Preparação e </a:t>
            </a:r>
            <a:br>
              <a:rPr sz="4000"/>
            </a:br>
            <a:r>
              <a:rPr b="0" lang="pt-BR" sz="4000" spc="-1" strike="noStrike">
                <a:solidFill>
                  <a:srgbClr val="006666"/>
                </a:solidFill>
                <a:latin typeface="Arial"/>
              </a:rPr>
              <a:t>Resposta Rápida a </a:t>
            </a:r>
            <a:br>
              <a:rPr sz="4000"/>
            </a:br>
            <a:r>
              <a:rPr b="0" lang="pt-BR" sz="4000" spc="-1" strike="noStrike">
                <a:solidFill>
                  <a:srgbClr val="006666"/>
                </a:solidFill>
                <a:latin typeface="Arial"/>
              </a:rPr>
              <a:t>Emergências Ambientais (P</a:t>
            </a:r>
            <a:r>
              <a:rPr b="0" lang="pt-BR" sz="4000" spc="-1" strike="noStrike" baseline="30000">
                <a:solidFill>
                  <a:srgbClr val="006666"/>
                </a:solidFill>
                <a:latin typeface="Arial"/>
              </a:rPr>
              <a:t>2</a:t>
            </a:r>
            <a:r>
              <a:rPr b="0" lang="pt-BR" sz="4000" spc="-1" strike="noStrike">
                <a:solidFill>
                  <a:srgbClr val="006666"/>
                </a:solidFill>
                <a:latin typeface="Arial"/>
              </a:rPr>
              <a:t>R</a:t>
            </a:r>
            <a:r>
              <a:rPr b="0" lang="pt-BR" sz="4000" spc="-1" strike="noStrike" baseline="30000">
                <a:solidFill>
                  <a:srgbClr val="006666"/>
                </a:solidFill>
                <a:latin typeface="Arial"/>
              </a:rPr>
              <a:t>2)</a:t>
            </a:r>
            <a:endParaRPr b="0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4338360"/>
            <a:ext cx="723924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Julho 2003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Arial"/>
              </a:rPr>
              <a:t>Preparação é a Chave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É preciso estar preparado para: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Prevenir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Responder rapidament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Identificar as situações de emergência antes que transformem-se em desastre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A preparação é a única ação que não depende de fatos externo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Preparação = treinamento, simulação, compartilhar informaçõ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5097600" y="5738760"/>
          <a:ext cx="3578040" cy="20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97600" y="5738760"/>
                    <a:ext cx="3578040" cy="20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Arial"/>
              </a:rPr>
              <a:t>Cataguazes de Papel / 2003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Isso não teria acontecido se aqueles pescadores tivessem sido ouvidos e levados em consideração”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Marina Silva, Ministra do Meio Ambient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Vamos sair daqui porque essa sujeira toda vai é descer rio abaixo”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524"/>
              </a:spcBef>
              <a:buClr>
                <a:srgbClr val="99cc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Verdana"/>
              </a:rPr>
              <a:t>Morador a jusante da lagoa de armazenamento de residuos da Cataguazes de Papel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pt-BR" sz="3200" spc="-1" strike="noStrike">
                <a:solidFill>
                  <a:srgbClr val="006666"/>
                </a:solidFill>
                <a:latin typeface="Arial"/>
              </a:rPr>
              <a:t>Um Futuro Possível a Curto Praz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500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Populações em áreas de risco: informados, preparados, cobrando e colaborando com o poder público, participando das ações locais de prevenção e resposta rápida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"/>
              </a:rPr>
              <a:t>Competências e Competições a Resolver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SISNAMA: referência desde 1981, sem instrumentos práticos. Iniciativas dispersas no IBAMA e no MMA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Órgãos estaduais de meio ambiente: preparo empírico mas disperso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Municípios: defesa civil, empresas e suas instalaçõ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Atores recentes: ANA, SRH, CNRH, CERHs, Condemas etc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Verdana"/>
              </a:rPr>
              <a:t>Um Caminho: enfoques orientados para soluçõ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Arial"/>
              </a:rPr>
              <a:t>Principais tipos de emergência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Transporte e Transbordo: probabilidade alta, dano local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Depósito in situ: probabilidade baixa, dano local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Depósito ex situ: probabilidade alta, dano local ou regional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Depósitos órfãos: probabilidade alta (crescente), dano regional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6666"/>
                </a:solidFill>
                <a:latin typeface="Arial"/>
              </a:rPr>
              <a:t>Algumas Características do Sistema Desejado</a:t>
            </a:r>
            <a:endParaRPr b="0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Recursos Financeiros: do setor privado (transporte e transbordo, depósitos in situ e ex situ) e do setor público (depósitos órfãos). Financiamento Externo em complemento a recursos próprios e de terceir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Preparação contínua a partir de um centro de referência nacion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Monitoramento (geomático) centralizado e aberto a todos os níve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Identificação das instalações e das populações sob risco, simultaneament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Verdana"/>
              </a:rPr>
              <a:t>Articulação de alto nível e operacional entre IBAMA e AN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Arial"/>
              </a:rPr>
              <a:t>Alguns Componentes do Sistema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Sala de Situação no IBAMA, que “enfeixe” ANA, Petrobrás e outro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Telefone Nacional para Emergências Ambientais por Produtos Químicos Perigoso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Programa Nacional de Identificação e Atualização de Instalações e Populações sob risco de Emergências com Produtos Químicos Perigoso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Programa de Treinamento e Aperfeiçoamento de Agentes e Populações para a P2R2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Verdana"/>
              </a:rPr>
              <a:t>Acordos Operacionais entre Agentes do SISNAMA e ANA e outros para P2R2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Centro de Referência para diagnóstico/tratamento de sítios e populações contaminadas, Fundo de Remediação de Áreas Contaminadas (Superfund/USA), Linha de Financiamento BNDES para passivos ambientai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006666"/>
                </a:solidFill>
                <a:latin typeface="Arial"/>
              </a:rPr>
              <a:t>Próximos Passos</a:t>
            </a:r>
            <a:endParaRPr b="0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MMA define prazos e momentos – chave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MMA organiza seminário com Secretários Estaduais e dirigentes de OEMAs sobre P2R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006666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000000"/>
                </a:solidFill>
                <a:latin typeface="Verdana"/>
              </a:rPr>
              <a:t>Seminário permite identificar Grupos de Trabalho para implantação do Sistema Nacional de P2R2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berto Isao Kishinami</cp:lastModifiedBy>
  <dcterms:modified xsi:type="dcterms:W3CDTF">2003-07-10T12:32:41Z</dcterms:modified>
  <cp:revision>14</cp:revision>
  <dc:subject/>
  <dc:title>PowerPoint Presentation</dc:title>
</cp:coreProperties>
</file>