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F13-56E5-418C-A8C9-459406DE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61B-2B73-46B7-8D4C-0BF1859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BBB-E7CF-4548-816B-3C1E59AD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A50-0343-4986-B0BC-C8B8D914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D635-E986-4F04-BCDB-D1E65987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6EB5-FF00-44A4-A317-369FA2D8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81DE-888F-4231-ABA8-05C8FA4B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9ABA-A5CF-48C3-B531-2921C35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EB34-BE8C-42EC-A867-10C937BE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75BD-23F5-4888-8C0E-0280C6BD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75DD-F393-4720-B6E8-DC6BA335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6EF-2E5B-44F3-9292-0C7CA238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E986-B5E6-48F7-9FC9-1634FA20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AD41-F103-4CA8-B7D9-CCCCB602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5FFE-60B0-433B-9573-DC4F7D81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0A80-05F3-4212-90D2-8DA23011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9A11-8402-4C19-86FF-3E9EC1DD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197-ED7E-4A51-8B92-A04284F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62F-644F-4FDA-B1C9-F140C52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4A4-8F2C-4DC3-95EF-04178289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E9E-3051-4CEF-AB0A-A879A34B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FE6-623C-47FC-B058-5E05C0BC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4B9B-48B3-4787-A884-55CBA5A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9AD-8D25-4733-90B2-5FE86F60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1435-C6AD-453C-8F72-A30CC5821DD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C255-8733-43E4-BA21-EC259E1B3EF0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Sistema Nacional de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Prevenção, Preparação e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esposta Rápida a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Emergências Ambientais (P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338360"/>
            <a:ext cx="72392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Julho 200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eparação é a Cha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É preciso estar preparado pa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evenir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sponder rapidament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dentificar as situações de emergência antes que transformem-se em desastr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 preparação é a única ação que não depende de fatos extern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Preparação = treinamento, simulação, compartilhar inform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97600" y="5738760"/>
          <a:ext cx="357804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0" y="5738760"/>
                    <a:ext cx="35780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Cataguazes de Papel / 200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Isso não teria acontecido se aqueles pescadores tivessem sido ouvidos e levados em consideraçã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arina Silva, Ministra do Meio Amb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Vamos sair daqui porque essa sujeira toda vai é descer rio abaix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orador a jusante da lagoa de armazenamento de residuos da Cataguazes de Pap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Um Futuro Possível a Curto Praz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0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Populações em áreas de risco: informados, preparados, cobrando e colaborando com o poder público, participando das ações locais de prevenção e resposta ráp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Competências e Competições a Resolv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SISNAMA: referência desde 1981, sem instrumentos práticos. Iniciativas dispersas no IBAMA e no M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Órgãos estaduais de meio ambiente: preparo empírico mas disper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Municípios: defesa civil, empresas e suas instal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tores recentes: ANA, SRH, CNRH, CERHs, Condemas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Um Caminho: enfoques orientados para solu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incipais tipos de emerg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Transporte e Transbordo: probabilidade alt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in situ: probabilidade baix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ex situ: probabilidade alta, dano local ou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s órfãos: probabilidade alta (crescente), dano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Algumas Características do Sistema Desejad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rsos Financeiros: do setor privado (transporte e transbordo, depósitos in situ e ex situ) e do setor público (depósitos órfãos). Financiamento Externo em complemento a recursos próprios e de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eparação contínua a partir de um centro de referência na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nitoramento (geomático) centralizado e aberto a todos os ní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ção das instalações e das populações sob risco, simultanea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ticulação de alto nível e operacional entre IBAMA e 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Alguns Componentes do Siste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Sala de Situação no IBAMA, que “enfeixe” ANA, Petrobrás e outr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elefone Nacional para Emergências Ambientais por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Nacional de Identificação e Atualização de Instalações e Populações sob risco de Emergências com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de Treinamento e Aperfeiçoamento de Agentes e Populações para 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cordos Operacionais entre Agentes do SISNAMA e ANA e outros par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entro de Referência para diagnóstico/tratamento de sítios e populações contaminadas, Fundo de Remediação de Áreas Contaminadas (Superfund/USA), Linha de Financiamento BNDES para passivos ambienta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óximos Pas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define prazos e momentos – c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organiza seminário com Secretários Estaduais e dirigentes de OEMAs sobr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eminário permite identificar Grupos de Trabalho para implantação do Sistema Nacional d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o Isao Kishinami</cp:lastModifiedBy>
  <dcterms:modified xsi:type="dcterms:W3CDTF">2003-07-10T12:32:41Z</dcterms:modified>
  <cp:revision>14</cp:revision>
  <dc:subject/>
  <dc:title>PowerPoint Presentation</dc:title>
</cp:coreProperties>
</file>