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42-CA62-4B9F-82F9-B9F4FF03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F3A-20C8-4F1F-9281-8097816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FDD-A5FC-48AA-9B1A-9980ECB0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A0C-520A-4C80-A3D7-D07553A4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2DF-CFD8-4A10-A601-976CD15B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6F6-4406-430E-A846-D4CE883C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CF4-EB77-4F4D-A464-53E68C34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003-FC23-4DFC-B9D8-307B7660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717-92F0-4B2D-A837-CE7A12B9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DCB-48B8-4003-92DC-1DFF431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BBF-B322-486D-8934-D7451E1F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CA1-BA15-44BD-8FFB-C1B64BF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EF3-68F3-4854-87E2-72851F22C3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ovo%20logo%20âncor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a de Gu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água mais valiosa é a que aparamos, d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a de lob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 a moring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inho e o Beija-f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e está o homem, está o uso inadequado da terra, que faz evaporar a água antes de atingir o seu dest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viabilizar as ações de preservaçã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s fon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s recursos hídricos, se essas origens estão ou passam pela casa impenetrável de cada um de nós??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Ovo ou a Galin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da fonte a exaure?   (3/4 do Plane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r a predação sem consu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onsumo pode ser racionalizado, racionado, restringido, até impor limites de nata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lo estado de necessidade da 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desabastecimento é a exaustão sem provei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 predação, como evit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água, é o fim antes do prin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te do rio antes de sua form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gua é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ovia é o rio que an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idrelétrica é o rio que ilum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rrigação é o rio que alimen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ede, o rio satisfa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é Intoc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itigar a culpa contra os danos sobre os direitos difusos, enquanto dependente de recursos hídric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Não É Nos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nave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erando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irrig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e banh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dando de be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beb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r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o Molhar a Vida Sem Secar o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bendo sem embriagar-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para irri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gando só a pla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elé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ndo energias altern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ndo obras hidroviá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egue que pouco con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va os Projetos para a Ág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obras que implicam na utilização de recursos hídricos viabilizam as medidas mitigadoras e compensatórias do meio ambiente aquá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incentivá-las, para obter os recursos financeiros de empreendimentos que usam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 assim, a água terá a proteção custeada para  saciar a sede de sua preservação, quantitativa e qualita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ão Tire o Sofá da Sa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itudes fiscais devem propugnar a exigência de medidas mitigadoras e compensatórias dos impactos ambi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contra o melhor meio de transporte é uma atitude retrógrada, que trabalha pelo atraso da nação brasileira, em detrimento do desenvolvimento susten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festo do Jacaré Ingênu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Hidrovia Tocantins Aragua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às Hidrovias, mundialmente reconhecidas como o transporte mais favorável ao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aixo a miopia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meio ambiente saudável, com hidrov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o Direito d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va a ordem ambiental com o progress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acab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cesso de água está mat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deve vir da f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 vem da enxur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descontrol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equilíbrio deve ser con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imento Sinc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imigos do Brasil, a expressão do Pavilh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inocentes úteis, a lástima de não saberem a serviço de quem estão oper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s ambientalistas o nosso apoio para aperfeiçoar o EIA/RIMA da Hidro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a e E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diamos visceralmente a oposição ao caminho das águas para o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não rasga o campo, não tem acostamento nem postos de gasolina ou moté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podemos preterir o melhor meio de transporte para o meio ambiente e para os bolsões de misé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ão combater o bem pelo medo do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vio não Caça nem P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o caminho menos agressivo para o homem trilhar o sert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vegação comercial não propicia devastação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oio não garimpa nem faz safár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EIA / R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ivos para impedir que a hidrovia prejudique 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mos nos mobilizar para defender a flora, a fauna, em especial a ictiofauna 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ncipalmente (como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 meio antrópico indíg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jamos atuantes para que o EIA/RIMA possua todos os mecanismos e instrumentos necess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s que os poss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upar para não Entr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imprescindível ocupar o território nacional, organizada e racionalmente, para impedir o extrativismo descontrolado das zonas desurbaniz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 ilusão pensar que as áreas se eternizariam despovoadas indefinidamente, sem ocupação por tercei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gumentos Contrár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gastar dinheiro com estudos 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etência do Marajó é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Eclusa não faz parte da U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IA / RIMA é fal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viável mas os impactos indiretos a inviabil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ciedade não tem discern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ns ou Bic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Índio não quer Ap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índios da região não são silvícolas selvagens, despreparados para a civil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pessoas como a gente, que desejam continuar pescando e caçando, mas sobretudo que merecem sua inserção na sociedade civil, como população economicamente ativa, com todos os direitos do cidadão, principalmente saúde, educação e trabal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jeans, tênis, coke, hamburger, pizza e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os Judici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ia 1997.36.00.003107-4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7.01.001435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1999.35.00.019369-3 GO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rdinária 1999.36.00.008015-7 MT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0.37.01.000654-7 MA, EIA/R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CP 2001.43.00.000161-5 TO, Laj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9-0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20659-7 TO, Lajead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1999.01.00.101960-2, EIA/RIMA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0512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S 2001.01.00.0196605-8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utelar 2081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S 783/99, EIA/RIMA, S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27768-3, Per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i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086144-6, MA, EIA/RIMA, TR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042-7, GO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1999.01.00.100601-3, MT, EIA/RIM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0.01.00.095466-0, Monitoramento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g 2001.01.00.018897-2, Araguaiana, T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  CDP / AH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mpreendedor é um Órgão sem interesse em explorar a Hidrovia mas totalmente empenhado em presenteá-la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 único interesse é cumprir sua função pública de atender o interesse coletivo da nação, de possuir a melhor matriz de transporte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Água dos 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sec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assore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polu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desv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esprai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rios estão transborda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onde vai a água dos ri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ão Jurídica do Licenci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stão jurídica da Hidrovia é relativa ao seu EIA/RIMA, que foi considerado fraudulento pelo MP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riedades que o viciem, podem apenas ensejar sua complementação e aperfeiçoa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ras iniciativas, sob diferentes pretextos, têm sido tomadas para impedir a naveg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titudes Chiit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ONGs, o MPF, a Imprensa, e os segmentos formadores de opinião, por desinformação, falta de coordenação ou descontrole, e  outros motivos, perdem o norte da razoabilidade na defesa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tude Recomend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utores das ações deveriam preocupar-se no APERFEIÇOAMENTO DO EIA/RIMA, para garantir as vantagens da Hidrovia, somadas às medidas compensatórias e mitig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ais deveriam servir de instrumento para atrasar a integração e o progresso sócio-econômico do paí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estão é Polí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xiste questão jurídica, pois a Lei permite que o Órgão Ambiental determine a adequação das deficiências encontradas no EIA/RIMA, no curso do licenci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eriorização ou Faveliz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studo de impacto ambiental, o órgão estadual competente ... fixará as diretrizes adicionais que, pelas peculiaridades do projeto e características ambientais da área, forem julgadas necessárias... (Art.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1, de 23.01.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determinar a execução do EIA e apresentação do RIMA, o órgão ... competente (IBAMA) determinará o prazo para recebimento dos comentários a serem feitos pelos órgãos públicos e demais interessados (Art. 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s. CONAMA 237, de 19.12.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Órgão ambiental poderá estabelecer ... a formulação de exigências complementares (para a aprovação de cada modalidade de licença – LP, LI e LO).  (Art. 14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. CONAMA nº 9, de 03.12.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ão anexadas à ata (da Audiência Pública) todos os documentos escritos e assinados que forem entregues ao presidente dos trabalhos durante a s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a da audiência pública e seus anexos, servirão de base, juntamente com o RIMA, para análise e parecer final do licenciador quanto à aprovação ou não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abilidade Inquestioná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a navegável é a estrada natural de mercadorias que andam no ritmo do me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as obras visam robustecer o rio.  Não podem lhe causar 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drovia Tocantins Araguaia atende a grande parte dos objetivos nacionais perman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aminho da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uso racional não depre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e de sua capac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atinge toda a água sadia e robu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atender todo um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consumo sem parar para pens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incipal D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sas hidrovias não danificam o 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zela ambiental que assola o país é a miséria catalisada pelas Metrópoles, por falta de condições nos pólos agrícolas, em razão da precariedade de vias de transportes, que inviabilizam o produto nacional export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ge a Hidro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a Hidrovia é a ansiedade secular de quem conhece a região e precisa de liberdade, direito apenas exercido pelo transporte, para sobreviver com dign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dir com a Socie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exercício democrático e de cidadania exige o direito que tem a sociedade de participar ativamente do processo de licenciamento da Hidrovia, mediante a realização das Audiências Públ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a água, na quantidade de semp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ão perdendo o controle sobre 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água está perdendo a sua quali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respeitar a natureza 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mos aperfeiçoar as formas de sua utiliz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amos garantir um ciclo saudável de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der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homem vem intervindo profundamente nos recursos naturais renováve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pode mais parar de fazê-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 uso ou sem uso, a água segue seu caminho inexorável, para renovar o ciclo da vida, na atmo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tervenção sobre os recursos hídricos não pode ser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i de Lavois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 vida nada se cria nada se perde.  Tudo se estraga ou se aproveita, ao transformar-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Ambientalistas Mere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mananc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primeiros pas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as matas c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ção dos reservatórios natu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bição eficaz de intervenção negativa, junto às fontes naturais de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edade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proveitamento racional da água para múltiplo u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iliação das diversas fina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menosprezar nenhum tipo de uti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veitar os empreendimentos para tirar proveito em favor dos recursos hídr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atureza Não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desperdício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 que agridam os recursos hídr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endimentos sem viabilidade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ota Mer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 algn="just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utilização máxima dos recursos hídricos, até a última gota, antes que ela se evapore, se infiltre ou atinja os ocean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perd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blema é a mortalidade infan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água, que não alc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onde ela mal emerg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rio da esper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 o lar de qualquer bar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asil Quer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drovia é a estrada do homem sem c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homem sem sa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d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tende ao i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atriota que defende seu terri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rasileiro que ama o seu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ior C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al está diluído na cegue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 olhos d’água, em cada gota nascen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não encontra o caminho da mi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tributário capilar de córre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abastecem os afluentes dos 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ionais brasilei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Contribuição Despre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samos de obras hidroviárias para restabelecer a precária saúde de noss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s obras terão sua viabilidade financeira antecipada, se forem promovidas em concurso com os outros setores que utilizam o uso múltiplo dos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 um trabalho for responsável, todas as obras hidroviárias serão positivas para os 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bendo Usar não Vai Falt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bra e Água fres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be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escar e de pla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 água de nave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e energia g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i de sede o desperd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descaminho para o des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todas as águas a ma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pr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res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é o su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va ou Camada de Ozô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que abriga o b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a a água que cont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o homem intervé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éu desaba també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43:01Z</dcterms:created>
  <dc:creator>Benjamin Gallotti Beserra</dc:creator>
  <dc:description/>
  <dc:language>en-US</dc:language>
  <cp:lastModifiedBy>GALLOTTI</cp:lastModifiedBy>
  <dcterms:modified xsi:type="dcterms:W3CDTF">2002-12-17T18:14:03Z</dcterms:modified>
  <cp:revision>16</cp:revision>
  <dc:subject/>
  <dc:title>Apresentação do PowerPoint</dc:title>
</cp:coreProperties>
</file>