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FB1A-DC87-43C4-8D8C-1023B129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17C-1CE8-4762-9BC1-2571B355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511-7A1A-4178-A3DF-5EEEDCDB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35E-03B3-46FB-A995-EB0BA45E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ADC-7B07-44E9-ADA5-0F22B09E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8CE-F2F1-4A8B-8175-F13B72DB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FB6-8598-43E6-B2D5-58171B1E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733-99A3-40FF-8E71-2C27468E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103-D8BB-40DE-8E28-330CD976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912-E81B-4CA9-8A16-B86756FB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719-924D-475E-9100-1CFE3C0C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952-A668-4525-A1C2-705FB768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C630-9F63-4F30-98BB-3496218C7D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ovo%20logo%20âncor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a de Guer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icla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água mais valiosa é a que aparamos, da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a de lob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 a moring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inho e o Beija-f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e está o homem, está o uso inadequado da terra, que faz evaporar a água antes de atingir o seu dest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viabilizar as ações de preservaçã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s fon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s recursos hídricos, se essas origens estão ou passam pela casa impenetrável de cada um de nós??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Ovo ou a Galin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nsumo da fonte a exaure?   (3/4 do Plane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or a predação sem co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nsumo pode ser racionalizado, racionado, restringido, até impor limites de natal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o estado de necessidade da mor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desabastecimento é a exaustão sem provei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 predação, como evit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água, é o fim antes do princí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te do rio antes de sua form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gua é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idrovia é o rio que an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idrelétrica é o rio que ilum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irrigação é o rio que alimen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ede, o rio satisfa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é Intoc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o mitigar a culpa contra os danos sobre os direitos difusos, enquanto dependente de recursos hídric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Não É Nos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nave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gerando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irri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e banh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dando de b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beb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r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o Molhar a Vida Sem Secar o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bendo sem embriagar-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para irri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gando só a pla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hidrelé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ando energias altern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hidroviá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egue que pouco con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va os Projetos para a Á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bras que implicam na utilização de recursos hídricos viabilizam as medidas mitigadoras e compensatórias do meio ambiente aquá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mos incentivá-las, para obter os recursos financeiros de empreendimentos que usam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 assim, a água terá a proteção custeada para  saciar a sede de sua preservação, quantitativa e qualitati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ão Tire o Sofá da Sa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titudes fiscais devem propugnar a exigência de medidas mitigadoras e compensatórias dos impactos ambient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 contra o melhor meio de transporte é uma atitude retrógrada, que trabalha pelo atraso da nação brasileira, em detrimento do desenvolvimento susten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festo do Jacaré Ingên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a Hidrovia Tocantins Aragua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às Hidrovias, mundialmente reconhecidas como o transporte mais favorável ao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aixo a miopia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o meio ambiente saudável, com hidrov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o Direito d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a ordem ambiental com o progresso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ble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acab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cesso de água está mat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deve vir da fo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 vem da enxur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descontrol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desequilíbrio deve ser con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imento Sin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inimigos do Brasil, a expressão do Pavilh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inocentes úteis, a lástima de não saberem a serviço de quem estão oper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ambientalistas o nosso apoio para aperfeiçoar o EIA/RIMA da Hidro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a e Efe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diamos visceralmente a oposição ao caminho das águas para o desenvolv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drovia não rasga o campo, não tem acostamento nem postos de gasolina ou moté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podemos preterir o melhor meio de transporte para o meio ambiente e para os bolsões de misé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combater o bem pelo medo do 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vio não Caça nem Pe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o caminho menos agressivo para o homem trilhar o sert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vegação comercial não propicia devastação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oio não garimpa nem faz safár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EIA / R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jamos ativos para impedir que a hidrovia prejudique 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mos nos mobilizar para defender a flora, a fauna, em especial a ictiofauna 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ncipalmente (como?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 meio antrópico indíg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jamos atuantes para que o EIA/RIMA possua todos os mecanismos e instrumentos necessá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s que os poss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upar para não Entr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imprescindível ocupar o território nacional, organizada e racionalmente, para impedir o extrativismo descontrolado das zonas desurbaniz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 ilusão pensar que as áreas se eternizariam despovoadas indefinidamente, sem ocupação por tercei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gumentos Contrár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gastar dinheiro com estudos 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etência do Marajó é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clusa não faz parte da U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IA / RIMA é fal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viável mas os impactos indiretos a inviabiliz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ciedade não tem discern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ns ou Bic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ercício democrático e de cidadania exige o direito que tem a sociedade de participar ativamente do processo de licenciamento da Hidrovia, mediante a realização das Audiência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Índio não quer Ap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índios da região não são silvícolas selvagens, despreparados para a civi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ão pessoas como a gente, que desejam continuar pescando e caçando, mas sobretudo que merecem sua inserção na sociedade civil, como população economicamente ativa, com todos os direitos do cidadão, principalmente saúde, educação e trabal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jeans, tênis, coke, hamburger, pizza e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os Judic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os Judic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0512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rdin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ia 1997.36.00.003107-4 MT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1999.37.01.001435-7 MA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1999.35.00.019369-3 GO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rdinária 1999.36.00.008015-7 MT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2000.37.01.000654-7 MA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2001.43.00.000161-5 TO, Laj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18899-0 TO, Lajead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20659-7 TO, Lajead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S 1999.01.00.101960-2, EIA/RIMA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0512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S 2001.01.00.0196605-8, Araguaian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utelar 2081, EIA/RIMA, S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S 783/99, EIA/RIMA, S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027768-3, Per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i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086144-6, MA, EIA/RIMA, TR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100042-7, GO, EIA/RIM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100601-3, MT, EIA/RIM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0.01.00.095466-0, Monitorament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18897-2, Araguaian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  CDP / AHI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mpreendedor é um Órgão sem interesse em explorar a Hidrovia mas totalmente empenhado em presenteá-la à Socie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 único interesse é cumprir sua função pública de atender o interesse coletivo da nação, de possuir a melhor matriz de transporte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dos 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sec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assore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polu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desvi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esprai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transbord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onde vai a água dos ri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ão Jurídica do Licenci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estão jurídica da Hidrovia é relativa ao seu EIA/RIMA, que foi considerado fraudulento pelo MP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priedades que o viciem, podem apenas ensejar sua complementação e aperfeiço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ras iniciativas, sob diferentes pretextos, têm sido tomadas para impedir a naveg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itudes Chiit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ONGs, o MPF, a Imprensa, e os segmentos formadores de opinião, por desinformação, falta de coordenação ou descontrole, e  outros motivos, perdem o norte da razoabilidade na defesa d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itude Recomend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utores das ações deveriam preocupar-se no APERFEIÇOAMENTO DO EIA/RIMA, para garantir as vantagens da Hidrovia, somadas às medidas compensatórias e mitig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ais deveriam servir de instrumento para atrasar a integração e o progresso sócio-econômico do paí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Questão é Po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xiste questão jurídica, pois a Lei permite que o Órgão Ambiental determine a adequação das deficiências encontradas no EIA/RIMA, no curso do licenci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eriorização ou Faveliz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sas hidrovias não danificam o 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zela ambiental que assola o país é a miséria catalisada pelas Metrópoles, por falta de condições nos pólos agrícolas, em razão da precariedade de vias de transportes, que inviabilizam o produto nacional expor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. CONAMA 1, de 23.01.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determinar a execução do estudo de impacto ambiental, o órgão estadual competente ... fixará as diretrizes adicionais que, pelas peculiaridades do projeto e características ambientais da área, forem julgadas necessárias... (Art.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. CONAMA 1, de 23.01.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determinar a execução do EIA e apresentação do RIMA, o órgão ... competente (IBAMA) determinará o prazo para recebimento dos comentários a serem feitos pelos órgãos públicos e demais interessados (Art. 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. CONAMA 237, de 19.12.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Órgão ambiental poderá estabelecer ... a formulação de exigências complementares (para a aprovação de cada modalidade de licença – LP, LI e LO).  (Art. 1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. CONAMA nº 9, de 03.12.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ão anexadas à ata (da Audiência Pública) todos os documentos escritos e assinados que forem entregues ao presidente dos trabalhos durante a se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ta da audiência pública e seus anexos, servirão de base, juntamente com o RIMA, para análise e parecer final do licenciador quanto à aprovação ou não d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abilidade Inquestion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a navegável é a estrada natural de mercadorias que andam no ritmo d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as obras visam robustecer o rio.  Não podem lhe causar 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drovia Tocantins Araguaia atende a grande parte dos objetivos nacionais perma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aminho da Ág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uso racional não depre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imite de sua capac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atinge toda a água sadia e robu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atender todo um 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onsumo sem parar para pens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rincipal D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sas hidrovias não danificam o 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zela ambiental que assola o país é a miséria catalisada pelas Metrópoles, por falta de condições nos pólos agrícolas, em razão da precariedade de vias de transportes, que inviabilizam o produto nacional expor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ge a Hidro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r a Hidrovia é a ansiedade secular de quem conhece a região e precisa de liberdade, direito apenas exercido pelo transporte, para sobreviver com dign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ir com a Socie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ercício democrático e de cidadania exige o direito que tem a sociedade de participar ativamente do processo de licenciamento da Hidrovia, mediante a realização das Audiência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a água, na quantidade de semp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ão perdendo o controle sobre 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perdendo a sua qual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amos respeitar a natureza d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mos aperfeiçoar as formas de sua utiliz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amos garantir um ciclo saudável de ger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nder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homem vem intervindo profundamente nos recursos naturais renováve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pode mais parar de fazê-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 uso ou sem uso, a água segue seu caminho inexorável, para renovar o ciclo da vida, na atmosf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intervenção sobre os recursos hídricos não pode ser neg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i de Lavois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 vida nada se cria nada se perde.  Tudo se estraga ou se aproveita, ao transformar-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 Ambientalistas Merec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mananc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primeiros pas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as matas cili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reservatórios natur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bição eficaz de intervenção negativa, junto às fontes naturais de recursos híd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ociedade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aproveitamento racional da água para múltiplo u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iliação das diversas fina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menosprezar nenhum tipo de uti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veitar os empreendimentos para tirar proveito em favor dos recursos híd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atureza Não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desperdício de 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s que agridam os recursos hídr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endimentos sem viabilidade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iota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 algn="just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utilização máxima dos recursos hídricos, até a última gota, antes que ela se evapore, se infiltre ou atinja os ocean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perdí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roblema é a mortalidade infan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água, que não alc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onde ela mal emerg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o rio da esper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o lar de qualquer barr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asil Quer Camin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a estrada do homem sem c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homem sem sa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do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que atende ao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patriota que defende seu territó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que ama o seu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ior C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al está diluído na cegue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 olhos d’água, em cada gota nascen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não encontra o caminho da min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tributário capilar de córre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abastecem os afluentes dos 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ionais brasilei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a Contribuição Desprez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samos de obras hidroviárias para restabelecer a precária saúde de nossos 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as obras terão sua viabilidade financeira antecipada, se forem promovidas em concurso com os outros setores que utilizam o uso múltiplo dos recursos híd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 um trabalho for responsável, todas as obras hidroviárias serão positivas para os 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bendo Usar não Vai Falt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bra e Água fre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 água de be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escar e de plan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 água de nave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e energia g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ai de sede o desperdí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descaminho para o des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todas as águas a ma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pre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res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é o su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va ou Camada de Ozô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céu que abriga o be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a a água que conté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o homem intervé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céu desaba també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43:01Z</dcterms:created>
  <dc:creator>Benjamin Gallotti Beserra</dc:creator>
  <dc:description/>
  <dc:language>en-US</dc:language>
  <cp:lastModifiedBy>GALLOTTI</cp:lastModifiedBy>
  <dcterms:modified xsi:type="dcterms:W3CDTF">2002-12-17T18:14:03Z</dcterms:modified>
  <cp:revision>16</cp:revision>
  <dc:subject/>
  <dc:title>Apresentação do PowerPoint</dc:title>
</cp:coreProperties>
</file>