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FC9-7C37-4B06-95C3-960CED92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B35-5024-496A-BD2B-282E7F9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DD4-AE61-444E-AD32-5EA382B8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9C1-468F-45B5-B69B-8B17013C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044-C5D3-4A50-8480-3CDFDEB7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DE1-0301-4947-94E5-F729DFA9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C6D-03B2-43EA-9F1A-F335D9DE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B85-BDDE-4D9E-A52A-4DF2D51E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725-640C-4756-BA06-EE8AD91C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1D8-8B89-4B87-A25A-F8C33AF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F63-F8F4-4BDD-8F97-C114F32F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069-4150-4A38-AE70-E2E7B84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7FA0-AEC6-460D-9D55-E321381A5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480"/>
            <a:ext cx="8686440" cy="6248160"/>
            <a:chOff x="0" y="609480"/>
            <a:chExt cx="8686440" cy="6248160"/>
          </a:xfrm>
        </p:grpSpPr>
        <p:sp>
          <p:nvSpPr>
            <p:cNvPr id="6" name=""/>
            <p:cNvSpPr/>
            <p:nvPr/>
          </p:nvSpPr>
          <p:spPr>
            <a:xfrm flipH="1">
              <a:off x="304560" y="6094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dr_roberto" descr=""/>
            <p:cNvPicPr/>
            <p:nvPr/>
          </p:nvPicPr>
          <p:blipFill>
            <a:blip r:embed="rId2"/>
            <a:stretch/>
          </p:blipFill>
          <p:spPr>
            <a:xfrm>
              <a:off x="0" y="609480"/>
              <a:ext cx="1808280" cy="6248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desdert" descr=""/>
          <p:cNvPicPr/>
          <p:nvPr/>
        </p:nvPicPr>
        <p:blipFill>
          <a:blip r:embed="rId2"/>
          <a:srcRect l="2495" t="0" r="0" b="0"/>
          <a:stretch/>
        </p:blipFill>
        <p:spPr>
          <a:xfrm>
            <a:off x="0" y="1911240"/>
            <a:ext cx="9144000" cy="494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retari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rasília, dezembro d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b80f"/>
                </a:solidFill>
                <a:latin typeface="Arial Black"/>
              </a:rPr>
              <a:t>Informe Nacional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05120" y="1295280"/>
            <a:ext cx="723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 Infra-estrutur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tem a finalidade, por meio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Água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a Integração Nacional, de melhorar as condições socioeconômicas da população nordestina por meio da geração de empregos, aumento da renda e da oferta de serviços sociais, o aproveitamento racional dos recursos naturais e a recuperação dos sistemas ambientais degrad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ProÁgua-Gest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Ministério do Meio Ambiente, é implementado pela Agência Nacional de Águas - ANA, tendo no seu escopo medidas de combate à desertificação no semi-árido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Estudos para a Disponibilização de Água Bruta no Semi-Árid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utro Programa implementado pela Agência Nacional de Águas é 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grama Águas do Brasi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, através da açã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s para Minimização dos Impactos de Seca e Combate da Desertific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1080" y="685800"/>
            <a:ext cx="693432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Programa de Expansão e Consolidação do Conhecimento Científico e Tecnológico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envolvido pelo Ministério da Ciência e Tecnologia, tem por objetivo, por meio do Projeto Xingó, apoiar o desenvolvimento da região do Xingó através de transferências de tecnologia para as áreas de emprego e renda, preservação ambiental, recursos hídricos e energéticos e atividades cultur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jeto Desenvolvimento Sustentável para Assentamentos de Reforma Agrária no Semi-Árido do Nordeste, Projeto Dom Helder Câmara -  PDHC,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a promover o desenvolvimento sustentável para os assentamentos da reforma agrária no semi-árido do Nordeste e contribuir para a melhoria da qualidade de vida dos produtores de base familiar e dos assentados da reforma agrária. Conta como parceiros o Ministério do Meio Ambiente, a EMBRAPA, a Universidade de Pernambuco, o SEBRAE, e outros Centros Universitários e de Pesquisa, a CONTAG, uma série de ONGs, AS-PTA, Diaconia, Caatinga, Casa da Mulher do Nordeste, IRPAA e a AS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52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05120" y="1143000"/>
            <a:ext cx="7238880" cy="54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antamento das Áreas Susceptíveis e Afetadas pela Desertificaçã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o Nacional de Combate à Desertificação (PNC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ações implementadas no âmbito do Ministério do Meio Ambiente tiveram de início seu desenvolvimento atrelado ao acordo internacional firmado com o Programa das Nações Unidas para o Desenvolvimento - PNUD, instituição internacional que teve papel importante no estímulo aos governos nacionais para a adoção da temática em suas políticas públicas, incentivando a inclusão do tema nas prioridades das agendas nacionais. No ano de 1993, as ações contra a desertificação foram abrigadas no projeto BRA 93/036, acordo de cooperação com o PN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57640" y="152280"/>
            <a:ext cx="52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Medidas Institucionais par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Implementação da Conve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520" y="1522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sultados Gerais Alcanç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76212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retrizes para a Política Nacional de Controle da Desertificação, documento aprovado pelo Conselho Nacional do Meio Ambiente - CONAMA, resolução nº238 de 22 de dezembro de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agnóstico - mapas de susceptibilidade e ocorrência, área e população atingi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cumento com avaliação de toda a produção acadêmica sobre o assunto (estudos e dados existentes sobre desertificação no Brasil)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dição brasileira da Convenção das Nações Unidas de Luta contra a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ais da I Conferência Latino-americana da Desertificação - CONSLAD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rtilha sobre Desertificação;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6765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Programa de Ação Nacional - PAN, em fase de estruturação, é resultante da necessidade de uma nova etapa no processo de implementação da CCD, e dá continuidade às atividades do Projeto 93/036 anteriormente citado, em consonância com a orientação da política brasileira a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990720"/>
            <a:ext cx="716292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jetivando solucionar esses problemas o Ponto Focal está reestruturando e direcionando as atividades do antigo PNCD para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rograma de Ação Nacional – PA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A responsabilidade da coordenação da implementação da CCD continua sendo da Secretaria de Recursos Hídricos do Ministério do Meio Ambiente e, neste sentido, foi criado o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Grupo de Trabalho de Desertificaçã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a Câmara Técnica de Análise de Projetos do Conselho Nacional de Recursos Hídricos - CNRH.  Espera-se com a formação do GT garantir o acompanhamento sistemático das atividades do Ponto Focal, além da necessária colaboração na elaboração do PAN e na abertura de canais de comunicação com os diversos atores envolvidos no processo de implementação da CCD, do combate à desertificação e da mitigação dos efeitos da sec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838080"/>
            <a:ext cx="7086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resultados e o estágio atual de implementação da Convenção e do Programa Nacional exigem novas estratégias e ações para garantir um conjunto consistente e efetivo de resultados de curto, médio e longo prazos. Os principais elementos dessa nova estratégia são os segui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com as ações de combate aos efeitos da seca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Brasil dispõe de importante experiência no tratamento das questões relativas à seca. No entanto, essa experiência tem tido um enfoque emergencial mais forte do que um enfoque preventivo e de planejamento, tanto que sua vinculação institucional tem sido com a Defesa Civil. Adequar o enfoque da seca numa perspectiva econômica e ambiental deve ser prioridade para uma ação de governo consistente de longo pra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1143000"/>
            <a:ext cx="716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ordenação das ações de controle da desertificaçã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as ações e atividades resultantes dos consensos estaduais e regionais fruto dos debates já realizados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 serão consolidadas na Agenda 21 Brasilei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orientação da atuação dos órgãos federais responsáveis pela implementação da Convenção 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da a necessidade de incorporar a temática da desertificação nas políticas públicas nacionais necessita-se observar as seguintes diretriz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1219320"/>
            <a:ext cx="716292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hecimento das ações desenvolvidas por órgão federais, estaduais e municipais, assim como por órgão de pesquisa e pelas organizações não-governamentais no escopo da CC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armonização das políticas públicas e parceria com as O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laboração de programas de desenvolvimento, treinamento e capacitação nos núcleos desertifica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s estados e municípios à implementação de suas políticas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ímulo ao desenvolvimento de tecnologias apropriadas à Região do semi-ári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609480"/>
            <a:ext cx="7010280" cy="59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ímulo ao financiamento de programas que colaborem com a preservação ambiental e com a contenção do processo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álise econômica dos impactos da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ação efetiva da incipiente rede institucional de combate à desertificação, para inter-relação dos atores envolvidos no proces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ação de um Sistema Nacional de Combate à Desertific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idade no estabelecimento de parcerias nacionais e internacionai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5120" y="1522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b80f"/>
                </a:solidFill>
                <a:uFillTx/>
                <a:latin typeface="Arial Black"/>
              </a:rPr>
              <a:t>Estruturação do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if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undoeq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845820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bb80f"/>
                </a:solidFill>
                <a:latin typeface="Arial Black"/>
              </a:rPr>
              <a:t>Desertif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esertificação,  é um processo de degradação do ambiente em zonas áridas, semi-áridas e sub-úmidas secas devido a ações antróp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ntende-se por degradação do ambiente a degradação do solo, da flora, da fauna, dos recursos hídricos bem como a degradação social, com o conseqüente aumento da pobr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160020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ados do Nordeste estão em diferentes níveis no que diz respeito à implementação das ações de combate à desertificação. Contudo, as iniciativas estaduais ainda se acham muito heterogêneas como podemos constatar no quadro abaixo, considerando diferentes indica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ções de implementação da convenção em nível sub-regional (Estado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28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b80f"/>
                </a:solidFill>
                <a:latin typeface="Arial Black"/>
              </a:rPr>
              <a:t>Status da implementação da Convenção n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762120"/>
            <a:ext cx="9143640" cy="4114800"/>
            <a:chOff x="0" y="762120"/>
            <a:chExt cx="9143640" cy="4114800"/>
          </a:xfrm>
        </p:grpSpPr>
        <p:grpSp>
          <p:nvGrpSpPr>
            <p:cNvPr id="94" name=""/>
            <p:cNvGrpSpPr/>
            <p:nvPr/>
          </p:nvGrpSpPr>
          <p:grpSpPr>
            <a:xfrm>
              <a:off x="6480" y="763920"/>
              <a:ext cx="9129600" cy="4111200"/>
              <a:chOff x="6480" y="763920"/>
              <a:chExt cx="9129600" cy="4111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6480" y="763920"/>
                <a:ext cx="1938240" cy="241560"/>
                <a:chOff x="6480" y="763920"/>
                <a:chExt cx="1938240" cy="2415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480" y="7639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945080" y="763920"/>
                <a:ext cx="803160" cy="241560"/>
                <a:chOff x="1945080" y="763920"/>
                <a:chExt cx="803160" cy="2415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945080" y="7639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48600" y="763920"/>
                <a:ext cx="983880" cy="241560"/>
                <a:chOff x="2748600" y="763920"/>
                <a:chExt cx="983880" cy="2415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48600" y="7639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733200" y="763920"/>
                <a:ext cx="803520" cy="241560"/>
                <a:chOff x="3733200" y="763920"/>
                <a:chExt cx="803520" cy="2415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733200" y="7639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537440" y="763920"/>
                <a:ext cx="1034640" cy="241560"/>
                <a:chOff x="4537440" y="763920"/>
                <a:chExt cx="1034640" cy="2415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B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537440" y="7639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572440" y="763920"/>
                <a:ext cx="969120" cy="241560"/>
                <a:chOff x="5572440" y="763920"/>
                <a:chExt cx="969120" cy="2415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57244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541920" y="763920"/>
                <a:ext cx="787680" cy="241560"/>
                <a:chOff x="6541920" y="763920"/>
                <a:chExt cx="787680" cy="2415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41920" y="7639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330320" y="763920"/>
                <a:ext cx="969120" cy="241560"/>
                <a:chOff x="7330320" y="763920"/>
                <a:chExt cx="969120" cy="2415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30320" y="7639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99800" y="763920"/>
                <a:ext cx="836280" cy="241560"/>
                <a:chOff x="8299800" y="763920"/>
                <a:chExt cx="836280" cy="241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99800" y="7639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80" y="1005480"/>
                <a:ext cx="1938240" cy="241920"/>
                <a:chOff x="6480" y="1005480"/>
                <a:chExt cx="1938240" cy="241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ítica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80" y="1005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45080" y="1005480"/>
                <a:ext cx="803160" cy="241920"/>
                <a:chOff x="1945080" y="1005480"/>
                <a:chExt cx="803160" cy="241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45080" y="1005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748600" y="1005480"/>
                <a:ext cx="983880" cy="241920"/>
                <a:chOff x="2748600" y="1005480"/>
                <a:chExt cx="983880" cy="241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748600" y="1005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733200" y="1005480"/>
                <a:ext cx="803520" cy="241920"/>
                <a:chOff x="3733200" y="1005480"/>
                <a:chExt cx="803520" cy="241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733200" y="1005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537440" y="1005480"/>
                <a:ext cx="1034640" cy="241920"/>
                <a:chOff x="4537440" y="1005480"/>
                <a:chExt cx="1034640" cy="241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37440" y="1005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572440" y="1005480"/>
                <a:ext cx="969120" cy="241920"/>
                <a:chOff x="5572440" y="1005480"/>
                <a:chExt cx="969120" cy="2419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57244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541920" y="1005480"/>
                <a:ext cx="787680" cy="241920"/>
                <a:chOff x="6541920" y="1005480"/>
                <a:chExt cx="787680" cy="2419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41920" y="1005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30320" y="1005480"/>
                <a:ext cx="969120" cy="241920"/>
                <a:chOff x="7330320" y="1005480"/>
                <a:chExt cx="969120" cy="241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330320" y="1005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299800" y="1005480"/>
                <a:ext cx="836280" cy="241920"/>
                <a:chOff x="8299800" y="1005480"/>
                <a:chExt cx="836280" cy="2419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299800" y="1005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480" y="1247400"/>
                <a:ext cx="1938240" cy="241560"/>
                <a:chOff x="6480" y="1247400"/>
                <a:chExt cx="1938240" cy="241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an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80" y="1247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1945080" y="1247400"/>
                <a:ext cx="803160" cy="241560"/>
                <a:chOff x="1945080" y="1247400"/>
                <a:chExt cx="803160" cy="241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45080" y="1247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748600" y="1247400"/>
                <a:ext cx="983880" cy="241560"/>
                <a:chOff x="2748600" y="1247400"/>
                <a:chExt cx="983880" cy="241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748600" y="1247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733200" y="1247400"/>
                <a:ext cx="803520" cy="241560"/>
                <a:chOff x="3733200" y="1247400"/>
                <a:chExt cx="803520" cy="241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3200" y="1247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537440" y="1247400"/>
                <a:ext cx="1034640" cy="241560"/>
                <a:chOff x="4537440" y="1247400"/>
                <a:chExt cx="1034640" cy="2415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37440" y="1247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572440" y="1247400"/>
                <a:ext cx="969120" cy="241560"/>
                <a:chOff x="5572440" y="1247400"/>
                <a:chExt cx="969120" cy="241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57244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541920" y="1247400"/>
                <a:ext cx="787680" cy="241560"/>
                <a:chOff x="6541920" y="1247400"/>
                <a:chExt cx="787680" cy="241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41920" y="1247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330320" y="1247400"/>
                <a:ext cx="969120" cy="241560"/>
                <a:chOff x="7330320" y="1247400"/>
                <a:chExt cx="969120" cy="2415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330320" y="1247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8299800" y="1247400"/>
                <a:ext cx="836280" cy="241560"/>
                <a:chOff x="8299800" y="1247400"/>
                <a:chExt cx="836280" cy="2415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299800" y="1247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480" y="1489320"/>
                <a:ext cx="1938240" cy="302040"/>
                <a:chOff x="6480" y="1489320"/>
                <a:chExt cx="1938240" cy="302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ordena-ção Estad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80" y="1489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945080" y="1489320"/>
                <a:ext cx="803160" cy="302040"/>
                <a:chOff x="1945080" y="1489320"/>
                <a:chExt cx="803160" cy="302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945080" y="1489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748600" y="1489320"/>
                <a:ext cx="983880" cy="302040"/>
                <a:chOff x="2748600" y="1489320"/>
                <a:chExt cx="983880" cy="302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8600" y="1489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733200" y="1489320"/>
                <a:ext cx="803520" cy="302040"/>
                <a:chOff x="3733200" y="1489320"/>
                <a:chExt cx="803520" cy="302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733200" y="1489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537440" y="1489320"/>
                <a:ext cx="1034640" cy="302040"/>
                <a:chOff x="4537440" y="1489320"/>
                <a:chExt cx="1034640" cy="3020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37440" y="1489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572440" y="1489320"/>
                <a:ext cx="969120" cy="302040"/>
                <a:chOff x="5572440" y="1489320"/>
                <a:chExt cx="969120" cy="3020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57244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541920" y="1489320"/>
                <a:ext cx="787680" cy="302040"/>
                <a:chOff x="6541920" y="1489320"/>
                <a:chExt cx="787680" cy="3020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41920" y="1489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330320" y="1489320"/>
                <a:ext cx="969120" cy="302040"/>
                <a:chOff x="7330320" y="1489320"/>
                <a:chExt cx="969120" cy="302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30320" y="1489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8299800" y="1489320"/>
                <a:ext cx="836280" cy="302040"/>
                <a:chOff x="8299800" y="1489320"/>
                <a:chExt cx="836280" cy="3020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99800" y="1489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480" y="1791720"/>
                <a:ext cx="1938240" cy="302040"/>
                <a:chOff x="6480" y="1791720"/>
                <a:chExt cx="1938240" cy="3020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inculação Institucional*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480" y="17917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45080" y="1791720"/>
                <a:ext cx="803160" cy="302040"/>
                <a:chOff x="1945080" y="1791720"/>
                <a:chExt cx="803160" cy="3020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45080" y="17917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748600" y="1791720"/>
                <a:ext cx="983880" cy="302040"/>
                <a:chOff x="2748600" y="1791720"/>
                <a:chExt cx="983880" cy="302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M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48600" y="17917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733200" y="1791720"/>
                <a:ext cx="803520" cy="302040"/>
                <a:chOff x="3733200" y="1791720"/>
                <a:chExt cx="803520" cy="302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733200" y="17917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537440" y="1791720"/>
                <a:ext cx="1034640" cy="302040"/>
                <a:chOff x="4537440" y="1791720"/>
                <a:chExt cx="1034640" cy="302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537440" y="17917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572440" y="1791720"/>
                <a:ext cx="969120" cy="302040"/>
                <a:chOff x="5572440" y="1791720"/>
                <a:chExt cx="969120" cy="3020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CT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7244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541920" y="1791720"/>
                <a:ext cx="787680" cy="302040"/>
                <a:chOff x="6541920" y="1791720"/>
                <a:chExt cx="787680" cy="3020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RHI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541920" y="17917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330320" y="1791720"/>
                <a:ext cx="969120" cy="302040"/>
                <a:chOff x="7330320" y="1791720"/>
                <a:chExt cx="969120" cy="302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DEM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30320" y="17917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299800" y="1791720"/>
                <a:ext cx="836280" cy="302040"/>
                <a:chOff x="8299800" y="1791720"/>
                <a:chExt cx="836280" cy="302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PLANTE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99800" y="17917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80" y="2093760"/>
                <a:ext cx="1938240" cy="241920"/>
                <a:chOff x="6480" y="2093760"/>
                <a:chExt cx="1938240" cy="241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quipe Técn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80" y="209376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1945080" y="2093760"/>
                <a:ext cx="803160" cy="241920"/>
                <a:chOff x="1945080" y="2093760"/>
                <a:chExt cx="803160" cy="24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945080" y="209376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748600" y="2093760"/>
                <a:ext cx="983880" cy="241920"/>
                <a:chOff x="2748600" y="2093760"/>
                <a:chExt cx="983880" cy="241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48600" y="209376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733200" y="2093760"/>
                <a:ext cx="803520" cy="241920"/>
                <a:chOff x="3733200" y="2093760"/>
                <a:chExt cx="803520" cy="2419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733200" y="209376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537440" y="2093760"/>
                <a:ext cx="1034640" cy="241920"/>
                <a:chOff x="4537440" y="2093760"/>
                <a:chExt cx="1034640" cy="241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37440" y="209376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572440" y="2093760"/>
                <a:ext cx="969120" cy="241920"/>
                <a:chOff x="5572440" y="2093760"/>
                <a:chExt cx="969120" cy="24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7244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541920" y="2093760"/>
                <a:ext cx="787680" cy="241920"/>
                <a:chOff x="6541920" y="2093760"/>
                <a:chExt cx="787680" cy="241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41920" y="209376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330320" y="2093760"/>
                <a:ext cx="969120" cy="241920"/>
                <a:chOff x="7330320" y="2093760"/>
                <a:chExt cx="969120" cy="2419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30320" y="209376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299800" y="2093760"/>
                <a:ext cx="836280" cy="241920"/>
                <a:chOff x="8299800" y="2093760"/>
                <a:chExt cx="836280" cy="24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299800" y="209376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480" y="2335680"/>
                <a:ext cx="1938240" cy="241560"/>
                <a:chOff x="6480" y="2335680"/>
                <a:chExt cx="1938240" cy="2415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480" y="23356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945080" y="2335680"/>
                <a:ext cx="803160" cy="241560"/>
                <a:chOff x="1945080" y="2335680"/>
                <a:chExt cx="803160" cy="241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945080" y="23356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748600" y="2335680"/>
                <a:ext cx="983880" cy="241560"/>
                <a:chOff x="2748600" y="2335680"/>
                <a:chExt cx="983880" cy="2415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748600" y="23356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733200" y="2335680"/>
                <a:ext cx="803520" cy="241560"/>
                <a:chOff x="3733200" y="2335680"/>
                <a:chExt cx="803520" cy="2415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33200" y="23356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537440" y="2335680"/>
                <a:ext cx="1034640" cy="241560"/>
                <a:chOff x="4537440" y="2335680"/>
                <a:chExt cx="1034640" cy="2415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37440" y="23356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572440" y="2335680"/>
                <a:ext cx="969120" cy="241560"/>
                <a:chOff x="5572440" y="2335680"/>
                <a:chExt cx="969120" cy="2415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57244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41920" y="2335680"/>
                <a:ext cx="787680" cy="241560"/>
                <a:chOff x="6541920" y="2335680"/>
                <a:chExt cx="787680" cy="2415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541920" y="23356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330320" y="2335680"/>
                <a:ext cx="969120" cy="241560"/>
                <a:chOff x="7330320" y="2335680"/>
                <a:chExt cx="969120" cy="241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30320" y="23356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8299800" y="2335680"/>
                <a:ext cx="836280" cy="241560"/>
                <a:chOff x="8299800" y="2335680"/>
                <a:chExt cx="836280" cy="2415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99800" y="23356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480" y="2577600"/>
                <a:ext cx="1938240" cy="241560"/>
                <a:chOff x="6480" y="2577600"/>
                <a:chExt cx="1938240" cy="241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je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80" y="25776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945080" y="2577600"/>
                <a:ext cx="803160" cy="241560"/>
                <a:chOff x="1945080" y="2577600"/>
                <a:chExt cx="803160" cy="241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45080" y="25776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748600" y="2577600"/>
                <a:ext cx="983880" cy="241560"/>
                <a:chOff x="2748600" y="2577600"/>
                <a:chExt cx="983880" cy="241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748600" y="25776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33200" y="2577600"/>
                <a:ext cx="803520" cy="241560"/>
                <a:chOff x="3733200" y="2577600"/>
                <a:chExt cx="803520" cy="2415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33200" y="25776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537440" y="2577600"/>
                <a:ext cx="1034640" cy="241560"/>
                <a:chOff x="4537440" y="2577600"/>
                <a:chExt cx="1034640" cy="2415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37440" y="25776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72440" y="2577600"/>
                <a:ext cx="969120" cy="241560"/>
                <a:chOff x="5572440" y="2577600"/>
                <a:chExt cx="969120" cy="241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7244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41920" y="2577600"/>
                <a:ext cx="787680" cy="241560"/>
                <a:chOff x="6541920" y="2577600"/>
                <a:chExt cx="787680" cy="2415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41920" y="25776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30320" y="2577600"/>
                <a:ext cx="969120" cy="241560"/>
                <a:chOff x="7330320" y="2577600"/>
                <a:chExt cx="969120" cy="241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30320" y="25776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8299800" y="2577600"/>
                <a:ext cx="836280" cy="241560"/>
                <a:chOff x="8299800" y="2577600"/>
                <a:chExt cx="836280" cy="241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299800" y="25776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480" y="2819520"/>
                <a:ext cx="1938240" cy="302040"/>
                <a:chOff x="6480" y="2819520"/>
                <a:chExt cx="1938240" cy="302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Orçamentári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480" y="28195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945080" y="2819520"/>
                <a:ext cx="803160" cy="302040"/>
                <a:chOff x="1945080" y="2819520"/>
                <a:chExt cx="803160" cy="3020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45080" y="28195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748600" y="2819520"/>
                <a:ext cx="983880" cy="302040"/>
                <a:chOff x="2748600" y="2819520"/>
                <a:chExt cx="983880" cy="302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48600" y="28195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33200" y="2819520"/>
                <a:ext cx="803520" cy="302040"/>
                <a:chOff x="3733200" y="2819520"/>
                <a:chExt cx="803520" cy="3020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733200" y="28195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537440" y="2819520"/>
                <a:ext cx="1034640" cy="302040"/>
                <a:chOff x="4537440" y="2819520"/>
                <a:chExt cx="1034640" cy="3020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37440" y="28195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572440" y="2819520"/>
                <a:ext cx="969120" cy="302040"/>
                <a:chOff x="5572440" y="2819520"/>
                <a:chExt cx="969120" cy="3020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57244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41920" y="2819520"/>
                <a:ext cx="787680" cy="302040"/>
                <a:chOff x="6541920" y="2819520"/>
                <a:chExt cx="787680" cy="3020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41920" y="28195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330320" y="2819520"/>
                <a:ext cx="969120" cy="302040"/>
                <a:chOff x="7330320" y="2819520"/>
                <a:chExt cx="969120" cy="3020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30320" y="28195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299800" y="2819520"/>
                <a:ext cx="836280" cy="302040"/>
                <a:chOff x="8299800" y="2819520"/>
                <a:chExt cx="836280" cy="302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299800" y="28195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480" y="3121560"/>
                <a:ext cx="1938240" cy="241560"/>
                <a:chOff x="6480" y="3121560"/>
                <a:chExt cx="1938240" cy="241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Aplicad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480" y="312156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1945080" y="3121560"/>
                <a:ext cx="803160" cy="241560"/>
                <a:chOff x="1945080" y="3121560"/>
                <a:chExt cx="803160" cy="241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945080" y="312156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748600" y="3121560"/>
                <a:ext cx="983880" cy="241560"/>
                <a:chOff x="2748600" y="3121560"/>
                <a:chExt cx="983880" cy="241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48600" y="312156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33200" y="3121560"/>
                <a:ext cx="803520" cy="241560"/>
                <a:chOff x="3733200" y="3121560"/>
                <a:chExt cx="803520" cy="24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733200" y="312156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537440" y="3121560"/>
                <a:ext cx="1034640" cy="241560"/>
                <a:chOff x="4537440" y="3121560"/>
                <a:chExt cx="1034640" cy="2415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537440" y="312156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572440" y="3121560"/>
                <a:ext cx="969120" cy="241560"/>
                <a:chOff x="5572440" y="3121560"/>
                <a:chExt cx="969120" cy="2415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57244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541920" y="3121560"/>
                <a:ext cx="787680" cy="241560"/>
                <a:chOff x="6541920" y="3121560"/>
                <a:chExt cx="787680" cy="2415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541920" y="312156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7330320" y="3121560"/>
                <a:ext cx="969120" cy="241560"/>
                <a:chOff x="7330320" y="3121560"/>
                <a:chExt cx="969120" cy="2415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330320" y="312156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8299800" y="3121560"/>
                <a:ext cx="836280" cy="241560"/>
                <a:chOff x="8299800" y="3121560"/>
                <a:chExt cx="836280" cy="241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99800" y="312156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480" y="3363480"/>
                <a:ext cx="1938240" cy="241920"/>
                <a:chOff x="6480" y="3363480"/>
                <a:chExt cx="1938240" cy="241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O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80" y="336348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945080" y="3363480"/>
                <a:ext cx="803160" cy="241920"/>
                <a:chOff x="1945080" y="3363480"/>
                <a:chExt cx="803160" cy="2419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945080" y="336348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748600" y="3363480"/>
                <a:ext cx="983880" cy="241920"/>
                <a:chOff x="2748600" y="3363480"/>
                <a:chExt cx="983880" cy="2419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748600" y="336348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33200" y="3363480"/>
                <a:ext cx="803520" cy="241920"/>
                <a:chOff x="3733200" y="3363480"/>
                <a:chExt cx="803520" cy="241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733200" y="336348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537440" y="3363480"/>
                <a:ext cx="1034640" cy="241920"/>
                <a:chOff x="4537440" y="3363480"/>
                <a:chExt cx="1034640" cy="241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37440" y="336348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572440" y="3363480"/>
                <a:ext cx="969120" cy="241920"/>
                <a:chOff x="5572440" y="3363480"/>
                <a:chExt cx="969120" cy="2419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7244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6541920" y="3363480"/>
                <a:ext cx="787680" cy="241920"/>
                <a:chOff x="6541920" y="3363480"/>
                <a:chExt cx="787680" cy="241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541920" y="336348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7330320" y="3363480"/>
                <a:ext cx="969120" cy="241920"/>
                <a:chOff x="7330320" y="3363480"/>
                <a:chExt cx="969120" cy="2419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330320" y="336348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8299800" y="3363480"/>
                <a:ext cx="836280" cy="241920"/>
                <a:chOff x="8299800" y="3363480"/>
                <a:chExt cx="836280" cy="241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299800" y="336348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480" y="3605400"/>
                <a:ext cx="1938240" cy="241560"/>
                <a:chOff x="6480" y="3605400"/>
                <a:chExt cx="1938240" cy="2415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rticipação/Gêner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80" y="360540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1945080" y="3605400"/>
                <a:ext cx="803160" cy="241560"/>
                <a:chOff x="1945080" y="3605400"/>
                <a:chExt cx="803160" cy="241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945080" y="360540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748600" y="3605400"/>
                <a:ext cx="983880" cy="241560"/>
                <a:chOff x="2748600" y="3605400"/>
                <a:chExt cx="983880" cy="24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748600" y="360540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33200" y="3605400"/>
                <a:ext cx="803520" cy="241560"/>
                <a:chOff x="3733200" y="3605400"/>
                <a:chExt cx="803520" cy="241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733200" y="360540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537440" y="3605400"/>
                <a:ext cx="1034640" cy="241560"/>
                <a:chOff x="4537440" y="3605400"/>
                <a:chExt cx="1034640" cy="2415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537440" y="360540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5572440" y="3605400"/>
                <a:ext cx="969120" cy="241560"/>
                <a:chOff x="5572440" y="3605400"/>
                <a:chExt cx="969120" cy="2415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57244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541920" y="3605400"/>
                <a:ext cx="787680" cy="241560"/>
                <a:chOff x="6541920" y="3605400"/>
                <a:chExt cx="787680" cy="2415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41920" y="360540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7330320" y="3605400"/>
                <a:ext cx="969120" cy="241560"/>
                <a:chOff x="7330320" y="3605400"/>
                <a:chExt cx="969120" cy="2415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330320" y="360540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8299800" y="3605400"/>
                <a:ext cx="836280" cy="241560"/>
                <a:chOff x="8299800" y="3605400"/>
                <a:chExt cx="836280" cy="24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99800" y="360540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480" y="3847320"/>
                <a:ext cx="1938240" cy="302040"/>
                <a:chOff x="6480" y="3847320"/>
                <a:chExt cx="1938240" cy="3020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amento Exter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480" y="3847320"/>
                  <a:ext cx="19382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945080" y="3847320"/>
                <a:ext cx="803160" cy="302040"/>
                <a:chOff x="1945080" y="3847320"/>
                <a:chExt cx="803160" cy="302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945080" y="3847320"/>
                  <a:ext cx="80316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748600" y="3847320"/>
                <a:ext cx="983880" cy="302040"/>
                <a:chOff x="2748600" y="3847320"/>
                <a:chExt cx="983880" cy="302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748600" y="3847320"/>
                  <a:ext cx="9838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33200" y="3847320"/>
                <a:ext cx="803520" cy="302040"/>
                <a:chOff x="3733200" y="3847320"/>
                <a:chExt cx="803520" cy="30204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733200" y="3847320"/>
                  <a:ext cx="8035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537440" y="3847320"/>
                <a:ext cx="1034640" cy="302040"/>
                <a:chOff x="4537440" y="3847320"/>
                <a:chExt cx="1034640" cy="302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37440" y="3847320"/>
                  <a:ext cx="103464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72440" y="3847320"/>
                <a:ext cx="969120" cy="302040"/>
                <a:chOff x="5572440" y="3847320"/>
                <a:chExt cx="969120" cy="3020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7244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41920" y="3847320"/>
                <a:ext cx="787680" cy="302040"/>
                <a:chOff x="6541920" y="3847320"/>
                <a:chExt cx="787680" cy="302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541920" y="3847320"/>
                  <a:ext cx="7876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330320" y="3847320"/>
                <a:ext cx="969120" cy="302040"/>
                <a:chOff x="7330320" y="3847320"/>
                <a:chExt cx="969120" cy="3020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330320" y="3847320"/>
                  <a:ext cx="96912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8299800" y="3847320"/>
                <a:ext cx="836280" cy="302040"/>
                <a:chOff x="8299800" y="3847320"/>
                <a:chExt cx="836280" cy="3020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299800" y="3847320"/>
                  <a:ext cx="836280" cy="30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6480" y="4149720"/>
                <a:ext cx="1938240" cy="241560"/>
                <a:chOff x="6480" y="4149720"/>
                <a:chExt cx="1938240" cy="24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ção Municip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80" y="414972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945080" y="4149720"/>
                <a:ext cx="803160" cy="241560"/>
                <a:chOff x="1945080" y="4149720"/>
                <a:chExt cx="803160" cy="241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45080" y="414972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748600" y="4149720"/>
                <a:ext cx="983880" cy="241560"/>
                <a:chOff x="2748600" y="4149720"/>
                <a:chExt cx="983880" cy="241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48600" y="414972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33200" y="4149720"/>
                <a:ext cx="803520" cy="241560"/>
                <a:chOff x="3733200" y="4149720"/>
                <a:chExt cx="803520" cy="2415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733200" y="414972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537440" y="4149720"/>
                <a:ext cx="1034640" cy="241560"/>
                <a:chOff x="4537440" y="4149720"/>
                <a:chExt cx="1034640" cy="2415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37440" y="414972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572440" y="4149720"/>
                <a:ext cx="969120" cy="241560"/>
                <a:chOff x="5572440" y="4149720"/>
                <a:chExt cx="969120" cy="241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7244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6541920" y="4149720"/>
                <a:ext cx="787680" cy="241560"/>
                <a:chOff x="6541920" y="4149720"/>
                <a:chExt cx="787680" cy="2415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541920" y="414972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7330320" y="4149720"/>
                <a:ext cx="969120" cy="241560"/>
                <a:chOff x="7330320" y="4149720"/>
                <a:chExt cx="969120" cy="241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330320" y="414972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8299800" y="4149720"/>
                <a:ext cx="836280" cy="241560"/>
                <a:chOff x="8299800" y="4149720"/>
                <a:chExt cx="836280" cy="2415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299800" y="414972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480" y="4391280"/>
                <a:ext cx="1938240" cy="241560"/>
                <a:chOff x="6480" y="4391280"/>
                <a:chExt cx="1938240" cy="241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istema de Alert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480" y="4391280"/>
                  <a:ext cx="19382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1945080" y="4391280"/>
                <a:ext cx="803160" cy="241560"/>
                <a:chOff x="1945080" y="4391280"/>
                <a:chExt cx="803160" cy="241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945080" y="4391280"/>
                  <a:ext cx="80316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748600" y="4391280"/>
                <a:ext cx="983880" cy="241560"/>
                <a:chOff x="2748600" y="4391280"/>
                <a:chExt cx="983880" cy="24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748600" y="4391280"/>
                  <a:ext cx="9838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33200" y="4391280"/>
                <a:ext cx="803520" cy="241560"/>
                <a:chOff x="3733200" y="4391280"/>
                <a:chExt cx="803520" cy="2415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733200" y="4391280"/>
                  <a:ext cx="8035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537440" y="4391280"/>
                <a:ext cx="1034640" cy="241560"/>
                <a:chOff x="4537440" y="4391280"/>
                <a:chExt cx="1034640" cy="2415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37440" y="4391280"/>
                  <a:ext cx="103464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572440" y="4391280"/>
                <a:ext cx="969120" cy="241560"/>
                <a:chOff x="5572440" y="4391280"/>
                <a:chExt cx="969120" cy="2415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57244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6541920" y="4391280"/>
                <a:ext cx="787680" cy="241560"/>
                <a:chOff x="6541920" y="4391280"/>
                <a:chExt cx="787680" cy="2415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6541920" y="4391280"/>
                  <a:ext cx="7876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330320" y="4391280"/>
                <a:ext cx="969120" cy="241560"/>
                <a:chOff x="7330320" y="4391280"/>
                <a:chExt cx="969120" cy="2415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330320" y="4391280"/>
                  <a:ext cx="96912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299800" y="4391280"/>
                <a:ext cx="836280" cy="241560"/>
                <a:chOff x="8299800" y="4391280"/>
                <a:chExt cx="836280" cy="2415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299800" y="4391280"/>
                  <a:ext cx="836280" cy="241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480" y="4633200"/>
                <a:ext cx="1938240" cy="241920"/>
                <a:chOff x="6480" y="4633200"/>
                <a:chExt cx="1938240" cy="241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valiaçã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80" y="4633200"/>
                  <a:ext cx="19382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1945080" y="4633200"/>
                <a:ext cx="803160" cy="241920"/>
                <a:chOff x="1945080" y="4633200"/>
                <a:chExt cx="803160" cy="241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945080" y="4633200"/>
                  <a:ext cx="80316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748600" y="4633200"/>
                <a:ext cx="983880" cy="241920"/>
                <a:chOff x="2748600" y="4633200"/>
                <a:chExt cx="983880" cy="2419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48600" y="4633200"/>
                  <a:ext cx="9838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3733200" y="4633200"/>
                <a:ext cx="803520" cy="241920"/>
                <a:chOff x="3733200" y="4633200"/>
                <a:chExt cx="803520" cy="2419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733200" y="4633200"/>
                  <a:ext cx="8035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537440" y="4633200"/>
                <a:ext cx="1034640" cy="241920"/>
                <a:chOff x="4537440" y="4633200"/>
                <a:chExt cx="1034640" cy="241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537440" y="4633200"/>
                  <a:ext cx="103464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572440" y="4633200"/>
                <a:ext cx="969120" cy="241920"/>
                <a:chOff x="5572440" y="4633200"/>
                <a:chExt cx="969120" cy="2419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7244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6541920" y="4633200"/>
                <a:ext cx="787680" cy="241920"/>
                <a:chOff x="6541920" y="4633200"/>
                <a:chExt cx="787680" cy="2419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541920" y="4633200"/>
                  <a:ext cx="7876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330320" y="4633200"/>
                <a:ext cx="969120" cy="241920"/>
                <a:chOff x="7330320" y="4633200"/>
                <a:chExt cx="969120" cy="2419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30320" y="4633200"/>
                  <a:ext cx="96912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8299800" y="4633200"/>
                <a:ext cx="836280" cy="241920"/>
                <a:chOff x="8299800" y="4633200"/>
                <a:chExt cx="836280" cy="2419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299800" y="4633200"/>
                  <a:ext cx="836280" cy="2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0" y="762120"/>
              <a:ext cx="9143640" cy="411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4876920"/>
            <a:ext cx="9144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= Sim / N = Nã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Vínculos Institucionai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auí (PI) – Secretaria de Meio Ambiente e Recursos Hídricos – SEM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ará (CE) – Superintendência Estadual de Meio Ambiente – SEM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o Grande do Norte (RN) – Instituto de Desenvolvimento do Meio Ambiente – I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íba (PB) – Superintendência de Administração do Meio Ambiente - SU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nambuco (PE) – Secretaria de Ciência, Tecnologia e Meio Ambiente – SECT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agoas (AL) – Secretaria de Recursos Hídricos e Irrigação – SERH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gipe (SE) – Administração Estadual do Meio Ambiente – ADEM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hia (BA) – Secretaria de Planejamento, Ciência e Tecnologia – SEPLANT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81080" y="1066680"/>
            <a:ext cx="71629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 preparativos para a elaboração do Plano Nacional de Combate à Desertificação - PNCD se iniciaram em fevereiro de 1995 por meio do Projeto BRA-93/036, acordo de cooperação com o PNUD. O processo envolveu a comunidade localizada nas regiões afetadas e adotou duas vertentes de trabalh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envolvimento de um processo de capacitação e sensibilização em relação ao assunto  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abelecimento do processo de elaboração da primeira versão do Plano Nacion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1114560"/>
            <a:ext cx="7238880" cy="65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cernente à realização no Brasil, em 1999, da Terceira Conferência das Partes da Convenção de Combate à Desertificação - COP III, ressaltar-se o intenso processo preparatório que envolveu o setor governamental, universidades, ONGs e OCBs. As atividades e a cobertura maciça da imprensa, evidenciaram a conferência no cenário nacional, ajudando na sensibilização e no envolvimento das entidades responsávei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Fórum Paralelo da Sociedade Civil, durante a COP 3, reuniu setores acadêmicos, prefeituras e mais de 140 ONGs e OCBs, constituindo, também, um importante momento para a participação e integração dos atores nacionais do combate à desertificaçã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057400" y="1143000"/>
            <a:ext cx="678168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realização do Informe Nacional de 2000 o Ponto Focal recebeu a contribuição do Ministério da Integração Nacional, por meio da SUDENE. Aquele documento serviu como importante subsídio para elaboração desse Informe 2002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m 2001 foi realizado curso pelo FNMA destindo capacitar os interessados na apresentação de projetos de combate à desertificação àquele órgão, quando do lançamento do seu Edital 08/2001.</a:t>
            </a: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a elaboração do presente Informe Nacional 2002, contou-se com uma intensa participação de diversas instituições, abaixo relaciona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685800"/>
            <a:ext cx="73152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A - Articulação do Semi-Á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GEB - Fundação Grupo Esq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áritas Brasile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jeto Dom Helder Câm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dação Joaquim Nabu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to De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PT Nacional - Comissão Pastoral d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TZ - Cooperação Técnica Alem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Desenvolvimento Agrário - M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Educação - MEC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a Saúde - M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o Meio Ambiente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Integração Nacional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nistério de Ciência e Tecnologia - M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INEP - Financiadora de Estudos e Projet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GEE - Centro de Gestão e Estudos Estratégicos - MC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SR - Centro de Sensoriamento Remoto - IBAMA/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EA - Fundação Instituto de Pesquisa Econômica Aplicada - MP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emi-Árido 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Meio Norte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Solos - CNP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Caprinos- Ministério da Agricultura - 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BRAPA Piauí- Ministério da Agricultura -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33720" y="685800"/>
            <a:ext cx="70102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Ru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dade Federal do Pia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o do Meio Ambiente do Estado de Alago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, Ciência e Tecnologia do Estado da Bah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Recursos Hídricos do Estado do Ceará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Espírito San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Meio Ambiente e Desenvolvimento Sustentável do Estado de Minas Gera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Extraordinária do Meio Ambiente dos Recursos Hídricos e Minerais do Estado da Paraíb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o Piauí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Ciência, Tecnologia e Meio Ambiente do Estado de Pernambu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e Finanças do Estado do Rio Grande do Nor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e Planejamento do Estado de Sergi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ção Estadual do Meio Ambiente do Estado de 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aria dos Recursos Hídricos do Estado do Cear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05120" y="83808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ituições com as quais foram realizadas reuniões e entregues em mão o questionár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A - Ministério do Meio ambiente - Francisca Menezes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A - Agência Nacional de Águas - MMA - Joaquim Gondim / Dalvino Trocolli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BAMA - Instituto Brasileiro de Meio Ambiente e Recursos Naturais Renovaves - MMA - Edgar Fagundes/ Miriam Laila Absy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S - Ministério da Saúde - Denise Costa Coitinho / Ângela Peroc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DA - Ministério do Desenvolvimento Agrário - Reinaldo Pena Lope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C - Ministério da Educação e Cultura - Floriano Pesaro /Regina Esteves / Rosilea Vill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I - Ministério da Integração Nacional - Sebastião Jander de Siqueira/Demétrius/Eldan Velo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DEVASF - Companhia de Desenvolvimento do Vale do São Francisco - MI - Rui de Carvalho Junqueir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CT- Ministério de Ciência e Tecnologia - Lélio Fellows Filho/ João Evangelista / Fernando André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PO - Ministério do Planejamento, Orçamento e Gestão - Luis Gustavo Vieira Martins / Eduardo Magalhães Lor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133720" y="1066680"/>
            <a:ext cx="701028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ambém foram enviados e-mails aos Deputados Federais dos Estados que possuem áreas susceptíveis ao processo de desertificação, solicitando informações sobre os Projetos de Lei relacionados ao tema que tramitam no Congress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inalmente, cabe salientar a ambiência propícia ao estabelecimento de parcerias entre o governo e diversas entidades atuantes no combate à desertificação, entre as quais pode-se mencionar a Articulação do Semi-Árido - ASA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000.000 de cis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cesso Particip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52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Recursos Orçamentários 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05120" y="1295280"/>
            <a:ext cx="7238520" cy="5105520"/>
            <a:chOff x="1905120" y="1295280"/>
            <a:chExt cx="7238520" cy="5105520"/>
          </a:xfrm>
        </p:grpSpPr>
        <p:grpSp>
          <p:nvGrpSpPr>
            <p:cNvPr id="545" name=""/>
            <p:cNvGrpSpPr/>
            <p:nvPr/>
          </p:nvGrpSpPr>
          <p:grpSpPr>
            <a:xfrm>
              <a:off x="1909800" y="1299600"/>
              <a:ext cx="7228080" cy="5096160"/>
              <a:chOff x="1909800" y="1299600"/>
              <a:chExt cx="7228080" cy="509616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909800" y="1299600"/>
                <a:ext cx="2255040" cy="873360"/>
                <a:chOff x="1909800" y="1299600"/>
                <a:chExt cx="2255040" cy="873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 PPA 2000-200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09800" y="1299600"/>
                  <a:ext cx="225504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165200" y="1299600"/>
                <a:ext cx="1657080" cy="873360"/>
                <a:chOff x="4165200" y="1299600"/>
                <a:chExt cx="1657080" cy="8733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0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652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5823000" y="1299600"/>
                <a:ext cx="1657080" cy="873360"/>
                <a:chOff x="5823000" y="1299600"/>
                <a:chExt cx="1657080" cy="87336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230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480800" y="1299600"/>
                <a:ext cx="1657080" cy="873360"/>
                <a:chOff x="7480800" y="1299600"/>
                <a:chExt cx="1657080" cy="8733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tação LOA/Previsto 200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x 1.000.00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80800" y="1299600"/>
                  <a:ext cx="1657080" cy="87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909800" y="2172960"/>
                <a:ext cx="2255040" cy="582120"/>
                <a:chOff x="1909800" y="2172960"/>
                <a:chExt cx="2255040" cy="582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Infra-estrutu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09800" y="217296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165200" y="2172960"/>
                <a:ext cx="1657080" cy="582120"/>
                <a:chOff x="4165200" y="2172960"/>
                <a:chExt cx="1657080" cy="582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2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652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5823000" y="2172960"/>
                <a:ext cx="1657080" cy="582120"/>
                <a:chOff x="5823000" y="2172960"/>
                <a:chExt cx="1657080" cy="582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18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8230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480800" y="2172960"/>
                <a:ext cx="1657080" cy="582120"/>
                <a:chOff x="7480800" y="2172960"/>
                <a:chExt cx="1657080" cy="582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344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480800" y="217296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909800" y="2755440"/>
                <a:ext cx="2255040" cy="582480"/>
                <a:chOff x="1909800" y="2755440"/>
                <a:chExt cx="2255040" cy="58248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rigação e Drenagem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09800" y="27554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165200" y="2755440"/>
                <a:ext cx="1657080" cy="582480"/>
                <a:chOff x="4165200" y="2755440"/>
                <a:chExt cx="1657080" cy="5824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7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1652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5823000" y="2755440"/>
                <a:ext cx="1657080" cy="582480"/>
                <a:chOff x="5823000" y="2755440"/>
                <a:chExt cx="1657080" cy="58248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8230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480800" y="2755440"/>
                <a:ext cx="1657080" cy="582480"/>
                <a:chOff x="7480800" y="2755440"/>
                <a:chExt cx="1657080" cy="5824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480800" y="27554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909800" y="3338280"/>
                <a:ext cx="2255040" cy="727560"/>
                <a:chOff x="1909800" y="3338280"/>
                <a:chExt cx="2255040" cy="7275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posição das Águas do São Francis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909800" y="3338280"/>
                  <a:ext cx="225504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165200" y="3338280"/>
                <a:ext cx="1657080" cy="727560"/>
                <a:chOff x="4165200" y="3338280"/>
                <a:chExt cx="1657080" cy="7275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652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5823000" y="3338280"/>
                <a:ext cx="1657080" cy="727560"/>
                <a:chOff x="5823000" y="3338280"/>
                <a:chExt cx="1657080" cy="7275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30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480800" y="3338280"/>
                <a:ext cx="1657080" cy="727560"/>
                <a:chOff x="7480800" y="3338280"/>
                <a:chExt cx="1657080" cy="727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480800" y="3338280"/>
                  <a:ext cx="1657080" cy="72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909800" y="4065840"/>
                <a:ext cx="2255040" cy="582480"/>
                <a:chOff x="1909800" y="4065840"/>
                <a:chExt cx="2255040" cy="582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Qualidade Ambiental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909800" y="406584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165200" y="4065840"/>
                <a:ext cx="1657080" cy="582480"/>
                <a:chOff x="4165200" y="4065840"/>
                <a:chExt cx="1657080" cy="582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652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823000" y="4065840"/>
                <a:ext cx="1657080" cy="582480"/>
                <a:chOff x="5823000" y="4065840"/>
                <a:chExt cx="1657080" cy="5824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7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30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7480800" y="4065840"/>
                <a:ext cx="1657080" cy="582480"/>
                <a:chOff x="7480800" y="4065840"/>
                <a:chExt cx="1657080" cy="5824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7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7480800" y="406584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909800" y="4648680"/>
                <a:ext cx="2255040" cy="582120"/>
                <a:chOff x="1909800" y="4648680"/>
                <a:chExt cx="2255040" cy="5821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restas Sustentávei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909800" y="464868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165200" y="4648680"/>
                <a:ext cx="1657080" cy="582120"/>
                <a:chOff x="4165200" y="4648680"/>
                <a:chExt cx="1657080" cy="5821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1652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823000" y="4648680"/>
                <a:ext cx="1657080" cy="582120"/>
                <a:chOff x="5823000" y="4648680"/>
                <a:chExt cx="1657080" cy="582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8230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7480800" y="4648680"/>
                <a:ext cx="1657080" cy="582120"/>
                <a:chOff x="7480800" y="4648680"/>
                <a:chExt cx="1657080" cy="582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,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480800" y="464868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1909800" y="5230800"/>
                <a:ext cx="2255040" cy="582120"/>
                <a:chOff x="1909800" y="5230800"/>
                <a:chExt cx="2255040" cy="582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ssos Rios: São Francis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909800" y="5230800"/>
                  <a:ext cx="225504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65200" y="5230800"/>
                <a:ext cx="1657080" cy="582120"/>
                <a:chOff x="4165200" y="5230800"/>
                <a:chExt cx="1657080" cy="582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652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5823000" y="5230800"/>
                <a:ext cx="1657080" cy="582120"/>
                <a:chOff x="5823000" y="5230800"/>
                <a:chExt cx="1657080" cy="58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230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480800" y="5230800"/>
                <a:ext cx="1657080" cy="582120"/>
                <a:chOff x="7480800" y="5230800"/>
                <a:chExt cx="1657080" cy="5821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480800" y="5230800"/>
                  <a:ext cx="1657080" cy="58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1909800" y="5813280"/>
                <a:ext cx="2255040" cy="582480"/>
                <a:chOff x="1909800" y="5813280"/>
                <a:chExt cx="2255040" cy="58248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água Gest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909800" y="5813280"/>
                  <a:ext cx="2255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165200" y="5813280"/>
                <a:ext cx="1657080" cy="582480"/>
                <a:chOff x="4165200" y="5813280"/>
                <a:chExt cx="1657080" cy="58248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652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823000" y="5813280"/>
                <a:ext cx="1657080" cy="582480"/>
                <a:chOff x="5823000" y="5813280"/>
                <a:chExt cx="1657080" cy="58248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8230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480800" y="5813280"/>
                <a:ext cx="1657080" cy="582480"/>
                <a:chOff x="7480800" y="5813280"/>
                <a:chExt cx="1657080" cy="5824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480800" y="5813280"/>
                  <a:ext cx="165708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1905120" y="1295280"/>
              <a:ext cx="7238520" cy="51055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45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Desertificação 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066680"/>
            <a:ext cx="71629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áreas enquadradas no conceito de desertificação aceito pelas Nações Unidas são aquelas localizadas na região do semi-á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endem uma área aproximada de 1.000.000 km2 distribuídos em oito estados do Nordeste e municípios do norte de Minas Gerais e Espírito Sa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 acordo com o Censo de 1991 17,8 milhões de pessoas vivem na região do semi-árido. Esse valor representa 42% do total da população da Região Nordeste e 11% da população do Brasil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819520" y="2819520"/>
            <a:ext cx="5181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mbient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ócio -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Ger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124080" y="1981080"/>
            <a:ext cx="63248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Precipitação Pluvio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                                                                                    super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ponibilidade de água         subterrâ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Qualidade das á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vapotranspiraçã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7720" y="64818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O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166200" y="2362320"/>
            <a:ext cx="5692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enção da Umidade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mper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o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midade Relativa do 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o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Hidrológicos e Climát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514600" y="2057400"/>
            <a:ext cx="6248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rosão E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da de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c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calinidade do S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bertura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86000" y="243828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Índice de Vege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aminação Bio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nativ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pécies animais exóticas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ariação no t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Ambientai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lo – Flora - Fa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0" y="20574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erta de Ens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sã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oveitamento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trícula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fabe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828800" y="198108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scimento Popu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talidade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enças de Maior Incid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Profissionais de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úmero de Leitos Hospita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So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Cult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ltiv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Irrigad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52480" y="213372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828800" y="220968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Área de Reba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po de Reba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esert-bras" descr=""/>
          <p:cNvPicPr/>
          <p:nvPr/>
        </p:nvPicPr>
        <p:blipFill>
          <a:blip r:embed="rId1"/>
          <a:stretch/>
        </p:blipFill>
        <p:spPr>
          <a:xfrm>
            <a:off x="685800" y="46080"/>
            <a:ext cx="784872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133720"/>
            <a:ext cx="73152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rativismo M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Área de Explo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érios Expl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or da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752480" y="2057400"/>
            <a:ext cx="739152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Indicadores Sócio-Econômicos</a:t>
            </a:r>
            <a:br>
              <a:rPr sz="3200"/>
            </a:b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2133720"/>
            <a:ext cx="7315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nda Per ca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istribuição de R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-330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400" y="762120"/>
            <a:ext cx="64771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evidente o esforço do governo brasileiro na implementação de programas permanentes no semi-árido nordestino, contudo a necessidade de projetos emergenciais ainda é muito forte perante a necessidade mitigação dos efeitos da sec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 ONGs têm conseguido um padrão organizacional que possibilita parceria definitiva em auxílio à comunidade de base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elaboração deste relatório permitiu constatar que a eficiência das ações de implementação da Convenção no Brasil passa necessariamente pela consolidação de um sistema de consulta nacional de caráter permanente composta pelos diferentes setores do Governo e da sociedade civil organizada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1800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470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4387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5057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6975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7645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983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10506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113284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-5889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211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881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4799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46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7386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247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1091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981080" y="838080"/>
            <a:ext cx="71629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tou-se também a necessidade de alocação de recursos financeiros adicionais, nacionais e internacionais, para o cumprimento dos objetivos e metas estabelecidos pela Convenção e pelo PA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ém admitir que a grande maioria dos municípios brasileiros enfrenta dificuldades para exercer novas e crescentes funções de planejamento, gestão do desenvolvimento e condução de políticas públicas, com eficácia e justiça socia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luí-se, finalmente que o rumo para a implementação da Convenção no Brasil está traçado. Falta um esforço para finalizar a reestruturação do Programa de Ação Nacional e o processo de consulta nacional, voltado para a identificação de novas estratégias de participação da sociedade, com vistas ao estabelecimento de condições adequadas para sua implementação, em nível institucional, humano e financei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45200" y="10620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80f"/>
                </a:solidFill>
                <a:latin typeface="Arial Black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295280"/>
            <a:ext cx="7162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3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É competência comum da União, dos Estados, do Distrito Federal e dos municíp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 –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teger o meio ambiente e combater a poluição em qualquer de suas for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VII–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servar as florestas, a fauna e fl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Verdana"/>
              </a:rPr>
              <a:t>Constituição Federal, Art. 225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- Todos têm direito ao meio ambiente ecologicamente equilibrado, bem de uso comum do povo e essencial à sadia qualidade de vida, impondo-se ao Poder Público e à coletividade o dever de defendê-lo e preservá-lo para as presentes e futuras gerações. 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05120" y="1203480"/>
            <a:ext cx="72388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1.3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0 de fevereiro de 1951 – Dispõe sobre os limites do Polígono das Secas 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° 6.93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31 de agosto de 1981 - Dispõe sobre a Política Nacional do Meio Ambiente, seus fins e mecanismos de formulação e aplicação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4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8 de janeiro de 1997 - Institui a Política Nacional de Recursos Hídricos, cria o Sistema Nacional de Gerenciamento de Recursos Hídricos, regulamenta o inciso XIX do art. 21 da Constituição Federal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9.605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12 de fevereiro de 1998 – Dispõe sobre as sanções penais e administrativas derivadas de condutas e atividades lesivas ao meio ambiente, e dá outras providênc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 Nº 9.7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 27 de abril de 1999 - Dispõe sobre a educação ambiental, institui a Política Nacional de Educação Ambiental e dá outras providê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lanos e Políticas de Desenvolvimento Sustentá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524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PA 2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67652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i criado em 2000 o Programa Avança Brasil, baseado no estudo dos Eixos Nacionais de Integração e Desenvolvimento. A regionalização do programa para implementação de políticas públicas é dada por vários critério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ias hidrográfic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ev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ltur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238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Programa Alimentação Saud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Ministério da Saúde consiste de um mecanismo que abrange todo o território nacional na elaboração, implementação e avaliação do impacto das atividades das condições nutricionais da população brasileira, em conjunto com a Política Nacional de Alimentação e Nutriçã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âmbi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Ministério da Educação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atuação em 1.143 municípios castigados pela seca, é implement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Educação de Jovens e Adulto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 Desenvolvimento da Região Norde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Ministério da Integração Nacional, é oriundo da reformul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ao Pequeno Produtor Rural (PAPP)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gente de 1986 a 1993, que veio a ser subdividido e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Apoio Comunitário - PAC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do Municipal de Apoio Comunitário – FUM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524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80f"/>
                </a:solidFill>
                <a:latin typeface="Arial Black"/>
              </a:rPr>
              <a:t>Programas Relevantes ao Combate à Desertificação no P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7162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Jovem Empreended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, objetiva a organização e a capacitação do jovem rural, por meio d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jeto Amanhã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a CODEVASF , onde mais de 7.000 jovens já foram capacitados em atividades profissionais e educação ambi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s de Desenvolvimento Sustentável das Mesorregiõe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ferenciad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Integração Nacional. Aplicáveis em mesorregiões, considerando as atividades produtivas e de cooperação e com o objetivo do desenvolvimento regional com eqüidade e sustentabili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grama Desenvolvimento da Fruticultura – PROFRU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do Ministério da Agricultura, Pecuária e Abastecimento objetiva, através da açã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ovação Tecnológica para a Fruticultura Irrigada no Semi-árido Nordestin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a geração de inovações tecnológicas que promovam o aumento da produtividade e da competitividade da fruticultura irrigada do semi-ári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2:44:02Z</dcterms:created>
  <dc:creator>Ricardo Crema</dc:creator>
  <dc:description/>
  <dc:language>en-US</dc:language>
  <cp:lastModifiedBy>Ricardo Crema</cp:lastModifiedBy>
  <dcterms:modified xsi:type="dcterms:W3CDTF">2002-12-18T13:48:48Z</dcterms:modified>
  <cp:revision>227</cp:revision>
  <dc:subject/>
  <dc:title>INDICADORES DE DESERTIFICAÇÃO</dc:title>
</cp:coreProperties>
</file>