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231-6137-4084-BA5B-921831AE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705-62C6-49DA-B4A2-50AF0CC6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A08-09BF-4DCF-8734-D9FB3E23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5FA-F0B2-4205-ABEA-0D086816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C2E-9F2B-408F-8ED5-B8C98714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710F-7C5A-44AC-AEC9-9C488A8B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2414-5F2C-4B9C-BF18-72FF2EBA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D16B-D450-48C4-8DB8-C0400BE4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439A-1101-4CDB-A67E-CB1BC8AF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D3CF-D764-476F-8EAE-025E26B7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C261-5C96-4803-8266-75EB277E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B7B-A8E0-44B1-8935-60A3BF45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C005-E8A0-4208-841A-F6EAED11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E202-40FC-4710-8412-9ABCD7D0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B804-D996-46A6-B7C1-11BF7633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22D0-83B2-40C9-A389-28D12D51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22A8-8C96-4D2F-8A43-34739033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277-064B-43A8-98FD-028EEE44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672-F2D5-43F3-9968-519A590A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59C-0656-4EA5-B29A-429D730A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F4F-4AA2-43B3-B8F1-EA95CA32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F68-DF79-4AB5-8263-9143B32A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CD6-3B42-44EE-A2B9-9650AA8D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4E6-21ED-4B2E-8F72-D18451A3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7493-43B0-4A1E-BF28-E139F60DEE9F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2947-EFDC-4ABE-942B-E1B88C958D66}" type="slidenum"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33"/>
                </a:solidFill>
                <a:latin typeface="CG Omega"/>
              </a:rPr>
              <a:t>	</a:t>
            </a:r>
            <a:r>
              <a:rPr b="1" lang="pt-BR" sz="4000" spc="-1" strike="noStrike">
                <a:solidFill>
                  <a:srgbClr val="333333"/>
                </a:solidFill>
                <a:latin typeface="CG Omega"/>
              </a:rPr>
              <a:t>DESERTIFICAÇÃO </a:t>
            </a:r>
            <a:br>
              <a:rPr sz="4000"/>
            </a:br>
            <a:r>
              <a:rPr b="1" lang="pt-BR" sz="3600" spc="-1" strike="noStrike">
                <a:solidFill>
                  <a:srgbClr val="333333"/>
                </a:solidFill>
                <a:latin typeface="CG Omega"/>
              </a:rPr>
              <a:t>INFORME NACIONAL 200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Estímulo da ONU a implementação da CC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GRULA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Reuniões Regionais – AL e 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Ps – Conferência da Par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mitês – C&amp;T, CRI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gramas econômicos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Desenvolvimento da Região Nordeste – provimento de infraestrutura, mecanização agrícola e equipamentos de uso coletiv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Jovem Empreendedor – organização e capacitação do jovem rur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Naciona de Fortalecimento da Agricultura – PRONAF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Seguro Renda – R$90,00/mê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gramas de Infraestrutur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Água Infraestrutura – ProÁgua Semi-árido – CODEVAS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Água Gestão – MM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Águas do Brasil – Projeto para Minimização dos Impactos da Seca e Combate da Desertificação ??A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--------------------------------------------------------------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Comissão Setorial Extraordinária de Convívio com a Seca e Inclusão Social - 200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edidas institucionais para a implementação da CC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Brasil assinou a CCD em 1994 e ratificou em 199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No Brasil foram realizadas duas reuniões CONSLAD e ..., condicionais para a aprovação do capítulo 12 da Agenda 21 e da organização necessária para negociação da CCD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Na I Reunião Regional apresentou a REDESERT, e já tinha liderança na área de desenvolvimento de indicador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m 1995 por meio do Projeto BRA 93/036 deu início as atividades do Plano Nacional de Combate à Desertificação – PN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m 1999 hospedou a COP III em Recife, P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O Ponto Foca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 Ponto Focal Nacional, situado na SRH tem a responsabilidade de articular e mobilizar as instituições envolvidas com ações e atividades pertinentes ao controle do processo da desertificação, estimular a participação da sociedade civil envolvida, divulgar as decisões da ONU e levar a ONU as posições nacionais, é também o responsável pela elaboração do PAN – Programa de Ação Nacional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sultados alcançados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retrizes para a Política Nacional de Controle da Desertificação, documento aprovado pelo Conselho Nacional do Meio Ambiente - CONAMA, resolução nº238 de 22 de dezembro de 199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Capacitação institucional e técn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aterial de sensibilização e capacitaçã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Acordos e convêni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Estudos básic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studos básic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udos Básico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agnóstico - mapas de susceptibilidade e ocorrência, área e população atingida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ocumento com avaliação de toda a produção acadêmica sobre o assunto (estudos e dados existentes sobre desertificação no Brasil);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agnóstico Ambiental das áreas susceptíveis à desertificação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Avaliação geral do sistema de conservação no Semi-Árido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dentificação e avaliação das experiências bem-sucedidas de gerenciamento da seca, manejo e conservação de recursos naturais e produção agropecuária sustentável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uia metodológico para o desenvolvimento sustentável no Semi-Árido (Manual de Planejamento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posta de Sistema integrado de monitoramento do processo de desertificaçã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CG Omega"/>
              </a:rPr>
              <a:t>Capacitação institucional e técnic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Foram realizadas reuniões nos Estados da Bahia, Sergipe, Alagoas, Paraíba e Ceará, contando com a participação das Secretarias de Meio Ambiente, Recursos Hídricos, Agricultura e Planejamento, visando à formulação de uma estratégia comum de atuação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a elaboração do Plano Estadual de Combate à Desertificação dos Estados do Ceará e Bahia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apacitação Técnica, com cursos de capacitação para técnicos em diferentes estados e diferentes níveis.</a:t>
            </a:r>
            <a:r>
              <a:rPr b="0" lang="pt-BR" sz="2400" spc="-1" strike="noStrike">
                <a:solidFill>
                  <a:srgbClr val="333333"/>
                </a:solidFill>
                <a:latin typeface="CG Omega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aterial de sensibilização e capacitaçã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dição brasileira da Convenção das Nações Unidas de Luta contra a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nais da I Conferência Latino-americana da Desertificação – CONSLA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Desertificação: Caracterização e Impacto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artilha sobre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Fold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Diretrizes para a Política Nacional de Controle da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dição de Selo Comemorativo ao Dia Mundial de Luta contra a Desertifica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Acordos e convêni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o Banco do Nordeste, para o desenvolvimento de ações de capacitação e sensibilização de pessoal técnico e agricultores no Manejo Sustentável da Caating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o Ministério da Educação e Cultura, para distribuição nas escolas técnicas e universidades do material de sensibilização e capacitação do projet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a Superintendência de Desenvolvimento do Nordeste - SUDENE -, para a incorporação da temática da desertificação nos seus projetos de desenvolvim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Outras iniciativa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Workshop sobre Desertificação e Gênero, realizado em Recife em 15 e 16 setembro de 1998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à criação de Comissões Municipais de Meio Ambien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criação do Grupo de Estudos sobre a Desertificação em áreas afetadas por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ções de sensibilização de agricultore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os projetos de difusão de tecnologias alternativas de convivência com a sec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o desenvolvimento de ações nos núcleos desertificados</a:t>
            </a: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Fluxo de Informaç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228600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Secretaria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da UNC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124080"/>
            <a:ext cx="190512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Organism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Internacion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5880"/>
            <a:ext cx="190512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munida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9528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ONG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20040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49528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Órgão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Governament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2952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5812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Times New Roman"/>
              </a:rPr>
              <a:t>Ponto Focal Nacion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Iniciativas mais recent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1 – FNMA – edital nº8 financiamento de projetos de combate à desertific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2 – GT desertificação da Câmara Técnica de Análise de Projetos do CNR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Articulação com muitos atores envolvidos com ações e atividades concernentes ao controle da desertificação e mitigação dos efeitos da se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sultados não alcançad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Documento do P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missão Nacion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Divulgação Efetiva da CC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Harmonização de Polític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Inserção do PAN no Orçament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Fontes de Financiament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 </a:t>
            </a: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FNMA –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CT – Fundo Setorial de Recursos Hídric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DA – Crédito Fundiário e Combate a Pobreza rur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Contribuiç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Banco do Nordes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SUDE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Fundação Esqu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stituto Dese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overno de Estad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stituições de Pesqui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Ministéri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NU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FA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TZ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Mecanismo Mundi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aíses do Reino Unid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m que tempo estamos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stribuição do Infor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rganização para a elaboração do P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ímulo ao funcionamento do G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rganização de sistema de informação para articulação com as partes envolvid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ímulo ao financiamento de projetos de combate à desertific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teração nacional mais efetiva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teração internacional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Histórico Inform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4 – negociada a CC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6 – 1a. Reunião Region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9 – 4a. R. Regional (Peru) – Guia para AL e 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6 – Reunião de ONGs Ica – Pe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9 – III COP – Brasil – Informes Áfr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0 – IV COP – Bohn – Informes AL e 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1 – reestruturação do Infor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2 – Informe Nacional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etodologia utilizad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 </a:t>
            </a: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No Informe 2000 não constaram muitas ações de governo que contribuíram para o controle das causas da desertificação e mitigação dos efeitos da se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Coletar informações dos agentes envolvidos com o processo de controle da desertificação, via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Correio - Questionários – Ministérios (MCT, MS, MEC, MDA, MI, MA), Secretarias de Estado do Nordest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Entrevistas com coordenadores de projeto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E-mail – Questionários – Deputados, Senadores, e para as ONG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Reunião com o Ministério do Planejamento e com o GT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Itemização (obrigatória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Índi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Sumár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stratégias e prioridades – Planos e Políticas de Desenvolvimento Sustentá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Medidas institucionais para Implementação da C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rocesso participativo - P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rocesso consultivo – P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Medidas adotadas no PAN, avaliação e monitor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Recursos orçamentais nacion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Indicadores para medida do progresso na implementa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ferências e equipe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Informe 2000, Contribuição da SUDENE, Tese de Doutorado de Nádima Paiva, documentos da SR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Roberto Coimbra, Marco Neves, Nádima Paiva, Geraldo Figueiredo, Flávio de Novaes, Rosângela de Souza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stratégias e Prioridad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543800" cy="335268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Meio Ambiente-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     </a:t>
            </a: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SISNAMA-6938 – 8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Recursos Hídricos – 9433 – 9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Lei de Crimes Ambientais – 9605 – 9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Educação Ambiental – 9765 – 9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onstituição Federal  - Arts. 21, 42 e 43 – (calamidades, secas, favorece a região semi-árida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CG Omega"/>
              </a:rPr>
              <a:t>Plano de desenvolvimento nacion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Avança Brasil – programa de governo de 1998 – baseado nos estudos dos Eixos Nacionais de Integração e  Desenvolvim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392 programas, 52 estratégicos definidos no PP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lanos de Ação Integrados – Projeto Alvorada e o Programa de Desenvolvimento Integrado e Sustentável de Mesorregiões Diferenciadas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jetos sociai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Alimentação Saudá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Bolsa alimentação (R$15,00 a R$45,00/mê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Educação de Jovem e Adult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toda Criança na Escol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Bolsa Escola (R$15,00 a R$45,00/mê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7:56:38Z</dcterms:created>
  <dc:creator>SRH</dc:creator>
  <dc:description/>
  <dc:language>en-US</dc:language>
  <cp:lastModifiedBy>SRH</cp:lastModifiedBy>
  <dcterms:modified xsi:type="dcterms:W3CDTF">2002-06-13T16:58:49Z</dcterms:modified>
  <cp:revision>7</cp:revision>
  <dc:subject/>
  <dc:title> DESERTIFICAÇÃO  INFORME NACIONAL 2002</dc:title>
</cp:coreProperties>
</file>