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0BCA-1EA2-4A22-BA12-49D6DD09A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125D-A199-4EDF-9AD5-1EF0E0D77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2A5C-4DE4-4B7E-9442-C959CF075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C97E-7556-4E07-89E8-5D2368F88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FFAE-E7B8-4B1D-88F0-D3EE9DA9A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5096-10E8-4F16-AC07-26FD7B874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1481-47A4-44CC-9176-E267127A7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5F10-8CEA-4743-BE9D-61D47AFEA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9737-D657-4719-8B1D-030254B7C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C665-999B-4A1B-B131-A599A61CC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A871-515E-4BEE-AE87-8EA842B22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8EB9-4275-44F4-9777-01E690D55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BF49-47A6-455D-B68C-57254BC54F30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86" name="Título 1"/>
          <p:cNvSpPr/>
          <p:nvPr/>
        </p:nvSpPr>
        <p:spPr>
          <a:xfrm>
            <a:off x="1908000" y="3003480"/>
            <a:ext cx="62992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e89"/>
                </a:solidFill>
                <a:latin typeface="Calibri"/>
              </a:rPr>
              <a:t>REGULAMENTAÇÃO DA 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e89"/>
                </a:solidFill>
                <a:latin typeface="Calibri"/>
              </a:rPr>
              <a:t>NA 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utubro d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99"/>
                </a:solidFill>
                <a:latin typeface="HelveticaNeue Condensed"/>
              </a:rPr>
              <a:t>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iagrama 1" descr=""/>
          <p:cNvPicPr/>
          <p:nvPr/>
        </p:nvPicPr>
        <p:blipFill>
          <a:blip r:embed="rId1"/>
          <a:stretch/>
        </p:blipFill>
        <p:spPr>
          <a:xfrm>
            <a:off x="1523880" y="1311120"/>
            <a:ext cx="60962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99"/>
                </a:solidFill>
                <a:latin typeface="HelveticaNeue Condensed"/>
              </a:rPr>
              <a:t>PADRONIZAÇÃO DA NOTA TÉC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m 2" descr=""/>
          <p:cNvPicPr/>
          <p:nvPr/>
        </p:nvPicPr>
        <p:blipFill>
          <a:blip r:embed="rId1"/>
          <a:stretch/>
        </p:blipFill>
        <p:spPr>
          <a:xfrm>
            <a:off x="468360" y="1168560"/>
            <a:ext cx="3181320" cy="5370480"/>
          </a:xfrm>
          <a:prstGeom prst="rect">
            <a:avLst/>
          </a:prstGeom>
          <a:ln w="0">
            <a:noFill/>
          </a:ln>
        </p:spPr>
      </p:pic>
      <p:pic>
        <p:nvPicPr>
          <p:cNvPr id="94" name="Imagem 4" descr=""/>
          <p:cNvPicPr/>
          <p:nvPr/>
        </p:nvPicPr>
        <p:blipFill>
          <a:blip r:embed="rId2"/>
          <a:stretch/>
        </p:blipFill>
        <p:spPr>
          <a:xfrm>
            <a:off x="4427640" y="1044720"/>
            <a:ext cx="4343400" cy="5335560"/>
          </a:xfrm>
          <a:prstGeom prst="rect">
            <a:avLst/>
          </a:prstGeom>
          <a:ln w="2232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DBCA-D404-461B-B2E3-E78413D97E2D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00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02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04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m 1" descr=""/>
          <p:cNvPicPr/>
          <p:nvPr/>
        </p:nvPicPr>
        <p:blipFill>
          <a:blip r:embed="rId5"/>
          <a:stretch/>
        </p:blipFill>
        <p:spPr>
          <a:xfrm>
            <a:off x="1981080" y="4919760"/>
            <a:ext cx="55720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Simone Schenkman</cp:lastModifiedBy>
  <cp:lastPrinted>2016-08-25T18:53:16Z</cp:lastPrinted>
  <dcterms:modified xsi:type="dcterms:W3CDTF">2016-09-26T17:39:46Z</dcterms:modified>
  <cp:revision>200</cp:revision>
  <dc:subject/>
  <dc:title>Slide 1</dc:title>
</cp:coreProperties>
</file>