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2785-9ED9-4E71-B080-DAA59F68C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71A0-4509-430E-81AC-1C19151E2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88E9-2C8B-4859-A4C8-0E0B28DD0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5099-EF2F-47EF-84AD-534D0119D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F83B-044A-4CCB-83C4-E41C6A0B9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7BFC1-D331-4652-8E91-CA8B1AE3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E62F9-B350-4464-8430-05D57BC8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A1D69-55C6-4C2E-A14D-17617C9F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81810-8D31-44FE-87FC-616EF6DB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EA9AD-37B0-4891-891B-B5B521D8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7076-C8F1-4BC3-A58C-A2D541C133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EFC36-41F7-49E3-9A45-C274BB52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27950-B561-49AD-B287-31F6D657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89444-76BE-4781-9660-D3DE9C6D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E9246-E2BB-4A66-A21E-1FD7D190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E835E-6EC4-424B-AFA6-39E7D013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3C040-ED59-442F-95B5-EB797E34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40B3D-3F61-4098-B540-2ABA6AF7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D055-B065-49AA-BC26-5242CAEEE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A204-3CB0-43D0-8493-D19039D41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6F26-2E60-4C1B-8FFE-9A53E1C28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2336-1148-40E2-B39D-96B4F1C99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EEE7-CEE6-4B7C-A72B-C2E490783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94D5F-DC2E-4EF3-8629-7CB462AC9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B16C-9C76-4445-A7BF-49C6FE82708F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0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grpSp>
        <p:nvGrpSpPr>
          <p:cNvPr id="41" name="Grupo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tângulo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tângulo 7"/>
            <p:cNvSpPr/>
            <p:nvPr/>
          </p:nvSpPr>
          <p:spPr>
            <a:xfrm>
              <a:off x="1908000" y="907920"/>
              <a:ext cx="6696000" cy="5042160"/>
            </a:xfrm>
            <a:prstGeom prst="rect">
              <a:avLst/>
            </a:prstGeom>
            <a:solidFill>
              <a:srgbClr val="f2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Imagem 2" descr=""/>
            <p:cNvPicPr/>
            <p:nvPr/>
          </p:nvPicPr>
          <p:blipFill>
            <a:blip r:embed="rId4"/>
            <a:stretch/>
          </p:blipFill>
          <p:spPr>
            <a:xfrm>
              <a:off x="6693840" y="1484640"/>
              <a:ext cx="15127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ique para editar o nome do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Clique para editar o cargo do a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que para editar local 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85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6944-1457-47C9-AD74-A6FC1F48216D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rcRect l="0" t="0" r="0" b="2267"/>
          <a:stretch/>
        </p:blipFill>
        <p:spPr>
          <a:xfrm>
            <a:off x="1692360" y="898560"/>
            <a:ext cx="7094520" cy="5122800"/>
          </a:xfrm>
          <a:prstGeom prst="rect">
            <a:avLst/>
          </a:prstGeom>
          <a:ln w="0">
            <a:noFill/>
          </a:ln>
        </p:spPr>
      </p:pic>
      <p:sp>
        <p:nvSpPr>
          <p:cNvPr id="127" name="Título 1"/>
          <p:cNvSpPr/>
          <p:nvPr/>
        </p:nvSpPr>
        <p:spPr>
          <a:xfrm>
            <a:off x="1771560" y="2565360"/>
            <a:ext cx="662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503b"/>
                </a:solidFill>
                <a:latin typeface="Calibri"/>
              </a:rPr>
              <a:t>PROGRAMA DE QUALIFICAÇÃO DE OPERADORAS- IDSS 2016 (ANO BASE 2015) – RESULTADO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EEIQ - D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Setembro/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m 1" descr=""/>
          <p:cNvPicPr/>
          <p:nvPr/>
        </p:nvPicPr>
        <p:blipFill>
          <a:blip r:embed="rId2"/>
          <a:stretch/>
        </p:blipFill>
        <p:spPr>
          <a:xfrm>
            <a:off x="5364000" y="1590840"/>
            <a:ext cx="2868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8AAE-F25F-43B9-B7AD-13C01CD921B2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ítulo 1"/>
          <p:cNvSpPr/>
          <p:nvPr/>
        </p:nvSpPr>
        <p:spPr>
          <a:xfrm>
            <a:off x="0" y="1268280"/>
            <a:ext cx="916776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Obrig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49212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63" name="CaixaDeTexto 1"/>
          <p:cNvSpPr/>
          <p:nvPr/>
        </p:nvSpPr>
        <p:spPr>
          <a:xfrm>
            <a:off x="1069200" y="36450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.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257976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65" name="CaixaDeTexto 12"/>
          <p:cNvSpPr/>
          <p:nvPr/>
        </p:nvSpPr>
        <p:spPr>
          <a:xfrm>
            <a:off x="3103560" y="364644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@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4956120" y="3500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67" name="CaixaDeTexto 3"/>
          <p:cNvSpPr/>
          <p:nvPr/>
        </p:nvSpPr>
        <p:spPr>
          <a:xfrm>
            <a:off x="5522400" y="364824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of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4"/>
          <a:srcRect l="14441" t="16424" r="15237" b="17661"/>
          <a:stretch/>
        </p:blipFill>
        <p:spPr>
          <a:xfrm>
            <a:off x="6948360" y="3500280"/>
            <a:ext cx="679680" cy="636840"/>
          </a:xfrm>
          <a:prstGeom prst="rect">
            <a:avLst/>
          </a:prstGeom>
          <a:ln w="0">
            <a:noFill/>
          </a:ln>
        </p:spPr>
      </p:pic>
      <p:sp>
        <p:nvSpPr>
          <p:cNvPr id="169" name="CaixaDeTexto 1"/>
          <p:cNvSpPr/>
          <p:nvPr/>
        </p:nvSpPr>
        <p:spPr>
          <a:xfrm>
            <a:off x="7558560" y="366084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Imagem 1" descr=""/>
          <p:cNvPicPr/>
          <p:nvPr/>
        </p:nvPicPr>
        <p:blipFill>
          <a:blip r:embed="rId5"/>
          <a:stretch/>
        </p:blipFill>
        <p:spPr>
          <a:xfrm>
            <a:off x="1981080" y="4919760"/>
            <a:ext cx="557208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6c50"/>
                </a:solidFill>
                <a:uFillTx/>
                <a:latin typeface="Calibri"/>
              </a:rPr>
              <a:t>Divulgação dos Resultados Ano-base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417320"/>
            <a:ext cx="82296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Primeiro processamento do Programa restruturado com novas dimens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Divulgação em 20/06/2016 exclusivamente para as 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Prazo de 21 dias para questionamentos via OTRS – sistema desenvolvido pela 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661 solicit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526 questionamen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135 pedidos de esclarecimen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Mais de 5X o total do ano base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Concentração dos questionamentos na dimensão Qualidade em Atenção à Saúde - novos indicadores e problemas operacionais que envolveram a recepção dos dados do SI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c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006c50"/>
                </a:solidFill>
                <a:uFillTx/>
                <a:latin typeface="Calibri"/>
              </a:rPr>
              <a:t>Fase de Questioname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Imagem 5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6697800" cy="212724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6" descr=""/>
          <p:cNvPicPr/>
          <p:nvPr/>
        </p:nvPicPr>
        <p:blipFill>
          <a:blip r:embed="rId2"/>
          <a:stretch/>
        </p:blipFill>
        <p:spPr>
          <a:xfrm>
            <a:off x="250920" y="4292640"/>
            <a:ext cx="7202520" cy="2160720"/>
          </a:xfrm>
          <a:prstGeom prst="rect">
            <a:avLst/>
          </a:prstGeom>
          <a:ln w="0">
            <a:noFill/>
          </a:ln>
        </p:spPr>
      </p:pic>
      <p:sp>
        <p:nvSpPr>
          <p:cNvPr id="136" name="CaixaDeTexto 1"/>
          <p:cNvSpPr/>
          <p:nvPr/>
        </p:nvSpPr>
        <p:spPr>
          <a:xfrm>
            <a:off x="2997360" y="1187280"/>
            <a:ext cx="364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Do total de 661 solicitações</a:t>
            </a:r>
            <a:r>
              <a:rPr b="0" lang="pt-BR" sz="1800" spc="-1" strike="noStrike">
                <a:solidFill>
                  <a:srgbClr val="4f81bd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 u="sng">
                <a:solidFill>
                  <a:srgbClr val="006c50"/>
                </a:solidFill>
                <a:uFillTx/>
                <a:latin typeface="Calibri"/>
              </a:rPr>
              <a:t>Resultados Ano-base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c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c50"/>
                </a:solidFill>
                <a:latin typeface="Calibri"/>
              </a:rPr>
              <a:t>Distribuição das Operadoras por faixas do IDSS em 2016 (ano-base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6c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Imagem 1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6038640" cy="4941720"/>
          </a:xfrm>
          <a:prstGeom prst="rect">
            <a:avLst/>
          </a:prstGeom>
          <a:ln w="0">
            <a:noFill/>
          </a:ln>
        </p:spPr>
      </p:pic>
      <p:sp>
        <p:nvSpPr>
          <p:cNvPr id="140" name="CaixaDeTexto 3"/>
          <p:cNvSpPr/>
          <p:nvPr/>
        </p:nvSpPr>
        <p:spPr>
          <a:xfrm>
            <a:off x="6730920" y="2276640"/>
            <a:ext cx="1955880" cy="19191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6c50"/>
                </a:solidFill>
                <a:latin typeface="Calibri"/>
              </a:rPr>
              <a:t>Foram retiradas as 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6c50"/>
                </a:solidFill>
                <a:latin typeface="Calibri"/>
              </a:rPr>
              <a:t>em Direção Fiscal, em Direção Técnica, canceladas ou em processo de cancel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6c50"/>
                </a:solidFill>
                <a:latin typeface="Calibri"/>
              </a:rPr>
              <a:t>Número de ops com IDSS: 1.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6c50"/>
                </a:solidFill>
                <a:latin typeface="Calibri"/>
              </a:rPr>
              <a:t>Retiradas: 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6c50"/>
                </a:solidFill>
                <a:latin typeface="Calibri"/>
              </a:rPr>
              <a:t>Total: 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 u="sng">
                <a:solidFill>
                  <a:srgbClr val="006c50"/>
                </a:solidFill>
                <a:uFillTx/>
                <a:latin typeface="Calibri"/>
              </a:rPr>
              <a:t>Resultados Ano-base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c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c50"/>
                </a:solidFill>
                <a:latin typeface="Calibri"/>
              </a:rPr>
              <a:t>Porcentagem de beneficiários segundo o IDSS das Operadoras, por segmento, segundo as faixas do IDSS em 2016 (ano-base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6c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ângulo 5"/>
          <p:cNvSpPr/>
          <p:nvPr/>
        </p:nvSpPr>
        <p:spPr>
          <a:xfrm>
            <a:off x="900000" y="5373720"/>
            <a:ext cx="75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c50"/>
                </a:solidFill>
                <a:latin typeface="Calibri"/>
              </a:rPr>
              <a:t>Mais de 90% (50,3% + 44,3%) dos beneficiários da saúde suplementar estão em OPS classificadas nas melhores faixas do ID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áfico 9" descr=""/>
          <p:cNvPicPr/>
          <p:nvPr/>
        </p:nvPicPr>
        <p:blipFill>
          <a:blip r:embed="rId1"/>
          <a:stretch/>
        </p:blipFill>
        <p:spPr>
          <a:xfrm>
            <a:off x="420840" y="1987560"/>
            <a:ext cx="80406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 u="sng">
                <a:solidFill>
                  <a:srgbClr val="006c50"/>
                </a:solidFill>
                <a:uFillTx/>
                <a:latin typeface="Calibri"/>
              </a:rPr>
              <a:t>Resultados Ano-base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c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c50"/>
                </a:solidFill>
                <a:latin typeface="Calibri"/>
              </a:rPr>
              <a:t>Evolução das operadoras nas faixas do IDSS entre o ano base 2014 e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Gráfico 5" descr=""/>
          <p:cNvPicPr/>
          <p:nvPr/>
        </p:nvPicPr>
        <p:blipFill>
          <a:blip r:embed="rId1"/>
          <a:stretch/>
        </p:blipFill>
        <p:spPr>
          <a:xfrm>
            <a:off x="609480" y="1987560"/>
            <a:ext cx="799164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 u="sng">
                <a:solidFill>
                  <a:srgbClr val="006c50"/>
                </a:solidFill>
                <a:uFillTx/>
                <a:latin typeface="Calibri"/>
              </a:rPr>
              <a:t>Resultados Ano-base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aixaDeTexto 8"/>
          <p:cNvSpPr/>
          <p:nvPr/>
        </p:nvSpPr>
        <p:spPr>
          <a:xfrm>
            <a:off x="6006960" y="1557360"/>
            <a:ext cx="313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ixaDeTexto 1"/>
          <p:cNvSpPr/>
          <p:nvPr/>
        </p:nvSpPr>
        <p:spPr>
          <a:xfrm>
            <a:off x="608040" y="5541840"/>
            <a:ext cx="619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Obs. Em 2015 considerou-se apenas as operadoras que não estão em Direção Fiscal, Direção Técnica e em processo de cancelament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aixaDeTexto 3"/>
          <p:cNvSpPr/>
          <p:nvPr/>
        </p:nvSpPr>
        <p:spPr>
          <a:xfrm>
            <a:off x="250920" y="5916600"/>
            <a:ext cx="828180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c50"/>
                </a:solidFill>
                <a:latin typeface="Calibri"/>
              </a:rPr>
              <a:t>Elevação da média ponderada do IDSS do setor em função do crescimento do IDSS de grandes operadoras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Gráfico 8" descr=""/>
          <p:cNvPicPr/>
          <p:nvPr/>
        </p:nvPicPr>
        <p:blipFill>
          <a:blip r:embed="rId1"/>
          <a:stretch/>
        </p:blipFill>
        <p:spPr>
          <a:xfrm>
            <a:off x="244440" y="1262160"/>
            <a:ext cx="8077320" cy="2030400"/>
          </a:xfrm>
          <a:prstGeom prst="rect">
            <a:avLst/>
          </a:prstGeom>
          <a:ln w="0">
            <a:noFill/>
          </a:ln>
        </p:spPr>
      </p:pic>
      <p:pic>
        <p:nvPicPr>
          <p:cNvPr id="153" name="Gráfico 10" descr=""/>
          <p:cNvPicPr/>
          <p:nvPr/>
        </p:nvPicPr>
        <p:blipFill>
          <a:blip r:embed="rId2"/>
          <a:stretch/>
        </p:blipFill>
        <p:spPr>
          <a:xfrm>
            <a:off x="201600" y="3425760"/>
            <a:ext cx="812016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 u="sng">
                <a:solidFill>
                  <a:srgbClr val="006c50"/>
                </a:solidFill>
                <a:uFillTx/>
                <a:latin typeface="Calibri"/>
              </a:rPr>
              <a:t>Resultados Ano-base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c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c50"/>
                </a:solidFill>
                <a:latin typeface="Calibri"/>
              </a:rPr>
              <a:t>Evolução da média ponderada do IDSS das operadoras com acreditação em setembro de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Imagem 3" descr=""/>
          <p:cNvPicPr/>
          <p:nvPr/>
        </p:nvPicPr>
        <p:blipFill>
          <a:blip r:embed="rId1"/>
          <a:stretch/>
        </p:blipFill>
        <p:spPr>
          <a:xfrm>
            <a:off x="973080" y="2230560"/>
            <a:ext cx="7197840" cy="2243160"/>
          </a:xfrm>
          <a:prstGeom prst="rect">
            <a:avLst/>
          </a:prstGeom>
          <a:ln w="0">
            <a:noFill/>
          </a:ln>
        </p:spPr>
      </p:pic>
      <p:sp>
        <p:nvSpPr>
          <p:cNvPr id="157" name="Retângulo 5"/>
          <p:cNvSpPr/>
          <p:nvPr/>
        </p:nvSpPr>
        <p:spPr>
          <a:xfrm>
            <a:off x="900000" y="4941720"/>
            <a:ext cx="75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c50"/>
                </a:solidFill>
                <a:latin typeface="Calibri"/>
              </a:rPr>
              <a:t>Há uma relação entre acreditação e IDSS em faixas sup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c50"/>
                </a:solidFill>
                <a:latin typeface="Calibri"/>
              </a:rPr>
              <a:t>Demonstra harmonia entre diferentes medidas de qualificação das operadoras desenvolvidas pela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 u="sng">
                <a:solidFill>
                  <a:srgbClr val="006c50"/>
                </a:solidFill>
                <a:uFillTx/>
                <a:latin typeface="Calibri"/>
              </a:rPr>
              <a:t>Próximos Pas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CaixaDeTexto 2"/>
          <p:cNvSpPr/>
          <p:nvPr/>
        </p:nvSpPr>
        <p:spPr>
          <a:xfrm>
            <a:off x="287280" y="1989000"/>
            <a:ext cx="885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Divulgação dos Resultados no Portal da ANS n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  <a:ea typeface="Arial"/>
              </a:rPr>
              <a:t>Início da fase recursal dos resultados ano-base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  <a:ea typeface="Arial"/>
              </a:rPr>
              <a:t>Definição dos indicadores para o ano-bas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  <a:ea typeface="Arial"/>
              </a:rPr>
              <a:t>Divulgação da proposta do ano-base 2017 aos representantes do mercado até dezembro de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c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Ana Paula Silva Cavalcante</cp:lastModifiedBy>
  <dcterms:modified xsi:type="dcterms:W3CDTF">2016-09-19T16:43:12Z</dcterms:modified>
  <cp:revision>134</cp:revision>
  <dc:subject/>
  <dc:title>Slide 1</dc:title>
</cp:coreProperties>
</file>