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CD4A-C7A8-47AF-BD7A-B4A174168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6887-16C5-4141-947A-3D55A7254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CEEC-6293-4BCC-9B6A-00635D1E7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9D0D-FBBB-4711-A06C-8D58B3C68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2B02-6C60-4D8A-8E7E-08FF127FE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E1E6-CE9A-4D61-9EDC-EA0870705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B9A7-8E45-4023-A18F-DF3444220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C4B8-5914-4531-BAAE-673CB0701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58BA-2F73-495F-8205-0D2B1DBF4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536F-4082-4C0D-8E37-DDD213E5C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D659-9A09-4095-BB51-618A1297D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3573-6139-4317-AAA9-F63CE5292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FE9-050D-47B4-AFBA-D1D806B5E393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86" name="Título 1"/>
          <p:cNvSpPr/>
          <p:nvPr/>
        </p:nvSpPr>
        <p:spPr>
          <a:xfrm>
            <a:off x="1908000" y="3003480"/>
            <a:ext cx="62992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PDI-GEQIN-GGDIN-DI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io de Janeiro, 01 de junh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B6FB-A539-4BB7-8F14-E669B1C4CE18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4360" y="1197000"/>
          <a:ext cx="7343640" cy="5278320"/>
        </p:xfrm>
        <a:graphic>
          <a:graphicData uri="http://schemas.openxmlformats.org/drawingml/2006/table">
            <a:tbl>
              <a:tblPr/>
              <a:tblGrid>
                <a:gridCol w="2592360"/>
                <a:gridCol w="2374920"/>
                <a:gridCol w="2376360"/>
              </a:tblGrid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grupamento de Contra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companhamento Econômico-Financeiro da Operad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ministradora de Planos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normalidades Administrativas e Assistenciais Gra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dministradora de Benefí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utogestão não Patrocin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uto de Infr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lienação Parcial de Cart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utogestão Patrocin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rta de Informação à Gesta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Área de Atuação do Prod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âmara téc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ertidão de Acredit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Área Geográfica de Abra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nsulta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ertificado de Entidade Acreditad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tendimento Identifi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entros Colabor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ódigo de Controle Oper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tivos Garanti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ordenador Médico de Infomação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mitê de Padronização das Informações em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utogest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pendência Oper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mitê Permanente de Regulação da Atenção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viso de Beneficiário Identifi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undo Dedicado ao Setor de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mitê Técnico de Avaliação da Qualidade Seto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au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undo Garantidor do Segmento de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ntrato de Orige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heque cau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vre Escolha do Prest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ntratualização (prestador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operativa méd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a Técnica de Ris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ntribuição para fins de Exercício do Direito de Aposentados e Pensionis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operativa Odontoló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úcleo Regional de Atendimento e Fisca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87A1-0D45-4A20-91B8-A0D72F152996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4360" y="1039680"/>
          <a:ext cx="7343640" cy="5415120"/>
        </p:xfrm>
        <a:graphic>
          <a:graphicData uri="http://schemas.openxmlformats.org/drawingml/2006/table">
            <a:tbl>
              <a:tblPr/>
              <a:tblGrid>
                <a:gridCol w="2592360"/>
                <a:gridCol w="2376360"/>
                <a:gridCol w="2374920"/>
              </a:tblGrid>
              <a:tr h="5475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ados Integrados da Qua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or Técn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articipante de Plano Privado de Assistência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sponibilidade de Serviços Par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oria de Fisca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olítica de Qualificação d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sponibilidade de Serviços 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oria de Normas e Habilitação de Operado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rograma Olho v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Entendimento DIF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rizes Clín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gistro provisório de Prod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Extensão de 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que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paração Espontânea e imedia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ator Qua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ilantrop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ol de Procedimentos Médicos e Odontológ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arantia de Atendi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mpugnação ao 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egur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omolog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Medicina de Gru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stema de Avaliação de Desempenho Individual da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dentificação Padrão d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Nota Técnica de Registro de Prod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abela de Cus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móvel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Núcleos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ipo Compatí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móvel Oper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Odontologia de Gru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isita Téc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Índice de Reajus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adrão de Troca de Informações em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Índice de Reajuste Definido pela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lano de Recuper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A7A2-42EC-417E-A78C-78E176330DD0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907920"/>
          <a:ext cx="7343640" cy="5616720"/>
        </p:xfrm>
        <a:graphic>
          <a:graphicData uri="http://schemas.openxmlformats.org/drawingml/2006/table">
            <a:tbl>
              <a:tblPr/>
              <a:tblGrid>
                <a:gridCol w="2592360"/>
                <a:gridCol w="2519280"/>
                <a:gridCol w="2232000"/>
              </a:tblGrid>
              <a:tr h="4813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266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Odontologia de Gru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evantamento Parcial de 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adrão de Troca de Informação em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evantamento Total de 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lano de Recuper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iquidante Extrajudi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lano de Recuperação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argem de Solv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grama de Monitoramento da Qualidade dos Prestadores de Serviços n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onitoramento do Risco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grama de Qualificação d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unicípio de Deman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visões Técn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unicípio de Atendimento do Beneficiá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cursos Próprios Mínim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unicípio do Beneficiá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embolso de Despesa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otificação de intermediação Preliminar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gião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otificação de Intermediação Preliminar não Assi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gime Especial de Liquidação 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Extrajudi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otificação Eletrônica de 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paração Voluntária e Efica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arto Adequ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presentação Contra a Operad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3F12-0264-4C36-AC85-A8B429A77F1B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1004760"/>
          <a:ext cx="7343640" cy="5408640"/>
        </p:xfrm>
        <a:graphic>
          <a:graphicData uri="http://schemas.openxmlformats.org/drawingml/2006/table">
            <a:tbl>
              <a:tblPr/>
              <a:tblGrid>
                <a:gridCol w="2952720"/>
                <a:gridCol w="2303280"/>
                <a:gridCol w="2087640"/>
              </a:tblGrid>
              <a:tr h="561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208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atrimônio Mínimo ajust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lano de Contas Padrão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eguradora especializada em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estador de Serviço de Assistência á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istema de informação de produ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cedimentos de Adequação Econômico-Financei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istema de informação de beneficiár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grama de Acreditação de Operadoras de Planos Privados de Assistência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axa de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grama de Saneamento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gramas para Promoção da Saúde e Prevenção de Riscos e Doenças n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moção da Saúde e Prevenção de Riscos e Doenças n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tocolo de Uti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tocolo Eletrônico de 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para Eventos/sinistros a Liquid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 de Eventos/sinistros ocorridos e não Avis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para remiss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F137-731B-49F1-9C7A-10B064EB6C6A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039680"/>
          <a:ext cx="7343640" cy="5626080"/>
        </p:xfrm>
        <a:graphic>
          <a:graphicData uri="http://schemas.openxmlformats.org/drawingml/2006/table">
            <a:tbl>
              <a:tblPr/>
              <a:tblGrid>
                <a:gridCol w="2592360"/>
                <a:gridCol w="2376360"/>
                <a:gridCol w="2374920"/>
              </a:tblGrid>
              <a:tr h="525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para Prêmios ou Contraprestações não Ganh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ede Contratualizada Dir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ede Contratualizada Indir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edimensionamento da Rede Hospitalar por Redu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istema Integrado de Fisca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ubstituição de Entidade Hospital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uspensão Temporária do Atendimento Hospital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Termo de Compromisso de Ajuste de Cond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Víncu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itu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ditação de Prestadors por Acreditação de Operadoras de Planos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ficação de investigação preliminar por Notificação de intermediação prelimi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07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07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3024-F1BF-4D4C-A290-EA391B9C89BE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ROPOSTA PARA O GLOSSÁRIO NO SITE DA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73AA-BABC-40A5-95CB-A0BFE4C10D4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ROPOSTA PARA O GLOSSÁRIO NO SITE DA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m 2" descr=""/>
          <p:cNvPicPr/>
          <p:nvPr/>
        </p:nvPicPr>
        <p:blipFill>
          <a:blip r:embed="rId1"/>
          <a:stretch/>
        </p:blipFill>
        <p:spPr>
          <a:xfrm>
            <a:off x="0" y="1044720"/>
            <a:ext cx="914400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06B0-B2CC-4667-AFC0-DE69039B8C09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15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21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agem 1" descr=""/>
          <p:cNvPicPr/>
          <p:nvPr/>
        </p:nvPicPr>
        <p:blipFill>
          <a:blip r:embed="rId5"/>
          <a:stretch/>
        </p:blipFill>
        <p:spPr>
          <a:xfrm>
            <a:off x="1903320" y="5145120"/>
            <a:ext cx="530244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Carla Valeria Cazarim Godoy</cp:lastModifiedBy>
  <cp:lastPrinted>2016-05-25T19:41:00Z</cp:lastPrinted>
  <dcterms:modified xsi:type="dcterms:W3CDTF">2016-05-25T19:41:49Z</dcterms:modified>
  <cp:revision>108</cp:revision>
  <dc:subject/>
  <dc:title>Slide 1</dc:title>
</cp:coreProperties>
</file>