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84963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c"/>
            </a:gs>
            <a:gs pos="100000">
              <a:srgbClr val="2e2eb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172200"/>
            <a:ext cx="784872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99"/>
                </a:solidFill>
                <a:latin typeface="Times New Roman"/>
              </a:rPr>
              <a:t>Ulhôa Canto, Rezende e Guerra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 -</a:t>
            </a:r>
            <a:r>
              <a:rPr b="0" i="1" lang="pt-BR" sz="2000" spc="-1" strike="noStrike">
                <a:solidFill>
                  <a:srgbClr val="ffff99"/>
                </a:solidFill>
                <a:latin typeface="Times New Roman"/>
              </a:rPr>
              <a:t> Advog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c"/>
            </a:gs>
            <a:gs pos="100000">
              <a:srgbClr val="2e2eb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95280" y="144792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EGULAMENTAÇÃO DO TRANSPORTE DE GÁS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990720" y="4114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ÊNCIA PÚBLICA - ANP - 04.12.20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c"/>
            </a:gs>
            <a:gs pos="100000">
              <a:srgbClr val="2e2eb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0492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spcBef>
                <a:spcPts val="1500"/>
              </a:spcBef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ÓPICOS PARA REFLEX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1258920"/>
            <a:ext cx="8382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ípio da estabilidade das reg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401920"/>
            <a:ext cx="8382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ípio da seguranç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3544920"/>
            <a:ext cx="8382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cariedade das normas infra-leg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687920"/>
            <a:ext cx="8382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stema Brasileiro de Defesa da Concor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3:51:53Z</dcterms:created>
  <dc:creator>UCRG</dc:creator>
  <dc:description/>
  <dc:language>en-US</dc:language>
  <cp:lastModifiedBy>eliana</cp:lastModifiedBy>
  <cp:lastPrinted>2003-12-02T17:57:12Z</cp:lastPrinted>
  <dcterms:modified xsi:type="dcterms:W3CDTF">2003-12-03T10:13:12Z</dcterms:modified>
  <cp:revision>215</cp:revision>
  <dc:subject/>
  <dc:title>ASPECTOS REGULATÓRIOS DO “DOWNSTREAM”</dc:title>
</cp:coreProperties>
</file>