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5943600" cy="7772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6920"/>
            <a:ext cx="822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692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692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692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692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692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59280" y="-100080"/>
            <a:ext cx="6084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692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692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6920"/>
            <a:ext cx="822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6920"/>
            <a:ext cx="822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692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692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692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692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6920"/>
            <a:ext cx="264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59280" y="-100080"/>
            <a:ext cx="6084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692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692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920"/>
            <a:ext cx="8229600" cy="2094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0" y="-82440"/>
            <a:ext cx="9386640" cy="7014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-10008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ás Natural – Livre Acesso a Gasod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3429000"/>
            <a:ext cx="179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-108000" y="476280"/>
            <a:ext cx="9433080" cy="604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spcBef>
                <a:spcPts val="524"/>
              </a:spcBef>
              <a:buClr>
                <a:srgbClr val="32503d"/>
              </a:buClr>
              <a:buFont typeface="WP MathA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50880" indent="-250920">
              <a:spcBef>
                <a:spcPts val="451"/>
              </a:spcBef>
              <a:buClr>
                <a:srgbClr val="32503d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1880" indent="-200160">
              <a:spcBef>
                <a:spcPts val="400"/>
              </a:spcBef>
              <a:buClr>
                <a:srgbClr val="32503d"/>
              </a:buClr>
              <a:buFont typeface="Wingdings" charset="2"/>
              <a:buChar char="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03280" indent="-201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6360" y="-8244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spcBef>
                <a:spcPts val="524"/>
              </a:spcBef>
              <a:buClr>
                <a:srgbClr val="000000"/>
              </a:buClr>
              <a:buFont typeface="WP MathA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1400" indent="-300240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3351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3333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3333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3333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604360" y="5877000"/>
          <a:ext cx="46044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04360" y="5877000"/>
                    <a:ext cx="4604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79280" y="5951520"/>
            <a:ext cx="1152720" cy="39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0" t="0" r="10782" b="0"/>
          <a:stretch/>
        </p:blipFill>
        <p:spPr>
          <a:xfrm>
            <a:off x="-88920" y="-171360"/>
            <a:ext cx="3148200" cy="12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E a atual “Política de Preços” para o GN?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508720" cy="4753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reflexo desta situação já se faz por sentir no presente, já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eço do gás boliviano contratado é muito mais alto que contratos recentes na própria Bolívia, além da distorcida cláusula “Take or Pa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rifa de transporte praticada pela TBG, surpreendentemente equivalente à commodity e onerada por “Ship or Pay”, clama urgentemente por uma reengenharia financeira para diminuir o impacto do custo de ca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Gás Natural brasileiro (associado) tem seu preço na boca do poço fixado em nível cerca de 70% superior ao praticado na Argentina (não associado), por exemplo.  Difícil entender-se esta sit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1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592360" cy="17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O Acesso Não Discriminatório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6240" cy="496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ei 9487/97 viabilizou condições para concorrência e abertura ao investimento privado nos diferentes e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rtaria 169/98 regulamentou o livre acesso e foi revogada em abril de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ropostas atuais introduzem períodos de moratória ao acesso li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o aprovadas, constituem-se em volta clara a situação de monopólio anterior e renúncia do País em promover uma sadia competição neste se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3960720" cy="43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O Mercado para o Gás Natura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8000"/>
          </a:bodyPr>
          <a:p>
            <a:pPr marL="31428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reservas de Gás Natural, com a recente descoberta da Petrobrás, projetam um futuro tranqüilo de disponibilidade deste energé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o litoral brasileiro está sendo objeto de significativo esforço exploratório, é inevitável que novas reservas se agreguem às exist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que a produção nestas bacias seja possível é indispensável que seja criado um mercado para o gás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427640" cy="30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O Transporte ao Mercado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5041800" cy="4176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senvolver o mercado, há necessidade de se ampliar a malha de transporte de gás.  Neste contexto, a Petrobrás anuncia seu ambicioso “Projeto Malh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esta implantação, seu domínio sobre o transporte será absoluto e somada à ausência do Livre Acesso nos primeiros anos resultará em eliminação de qualquer possibilidade de concorrência futura e também na retração de investimentos independentes na exploração e prod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35560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onclusão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465440" cy="4392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7000"/>
          </a:bodyPr>
          <a:p>
            <a:pPr marL="31104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dição de provedor quase único é conseqüência de pesados investimentos efetuados pela Petrobrás e estes investimentos precisam obviamente ter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é aceitável nem sadio, no entanto, que a eliminação da concorrência seja o melhor caminho para assegurar i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icionalmente, este caminho anda na contra mão da eficácia empresarial, da obtenção de preços competitivos e da implantação de uma Política Nacional de Preços para o Gás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4033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roposta FIESP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á uma solução que atende aos investidores, aos consumidores e ao desenvolvimento e competitividade da econom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Livre Acesso fica mantido, sem períodos de moratória, porém com limit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empreendedor, durante o período do projeto, tem assegurado até no máximo 50% da capacidade de transp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50% restantes continuam com Acesso Não Discriminado e Livre, limitando-se a participação individual de cada interessado para permitir o acesso de vários proponentes, tudo regulado e administrado pela AN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usta remuneração pelo uso dos dutos de transporte fica assegurada para garantir o retorno dos investimentos do empreende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eríodo de amortização dos empreendimentos não devem ser inferiores a 20 anos para não onerar demasiadamente a parcela de custo do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7777440" cy="35290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esente apresentação objetiva dar uma visão geral e sumária da posição da FIESP com relação à questão do Livre Acesso a Gasodutos de Gás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ão abordados os seguintes aspec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ções Ge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76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51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51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2232000" cy="1484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580000" y="4005360"/>
            <a:ext cx="2232000" cy="1487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2232000" cy="14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onsiderações Gera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setores de Infra-Estrutura, tais como Energia Elétrica, Petróleo, Transporte, Telecomunicações, Saneamento e Gás Natural, entre outros, são capital intensivos e exigem escala para se viabiliza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m a se constituir em monopólios naturais na região em que são implementados e requerem, portanto, ação regulatória por parte do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s fatos não significam, no entanto, que não deva haver concorr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95640" y="4076640"/>
            <a:ext cx="525780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O Caso do Gás Natura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5627520" cy="4392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aso do gás natural, a concorrência numa região deveria vir pela opção de supridores da commodity e por outras alternativas energéticas como os combustíveis derivados líquidos do Petról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rasil, nenhuma destas condições se apresenta resultando, na prática, numa quase total falta de opções do consumidor que tem que se conformar em atuar num mercado geralmente competitivo e globalizado, mas comprar e pagar energia sob condições impostas e pouco administr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365880" y="1557360"/>
            <a:ext cx="267012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O Principal Agent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3960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 dúvida, a presença dominante é da Petrobrás atuando majoritariamente em todos os elos da cadeia, desde a exploração e produção no Brasil e exterior, na importação, no transporte por gasodutos e na distribuição f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rticalização de atuação também ocorre em outros países, porém não com domínio integrado em todos os elos.  Nos casos em que há ação verticalizada, o transporte fica excluído e é desempenhado por terceiros independ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o assegura que qualquer empreendedor que tenha descoberto uma nova bacia produtora pode colocar o gás no mercado e não tenha como única opção a de “vendê-lo” para um único comp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O Porque do Livre Acesso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5410080" cy="4176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único instrumenta que assegura um estímulo ao aumento de empresas interessadas em contratar risco exploratório  é a possibilidade de comercializar o gás pela melhor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isto, precisa contar com um sistema de transporte ao qual tenha direito de acesso, sem o que não conseguirá monetizar suas reservas de g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tor de Petróleo há sempre o recurso de exportar sua produção (Shell) o que, para o Gás Natural, é muito mais comple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78600" y="1413000"/>
            <a:ext cx="28861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 Ação do Estado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8600" cy="4680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nte de uma posição dominadora da Petrobrás e considerando ainda tratar-se de uma empresa extremamente competente na gestão desta situação é inevitável que seus dirigentes eficazmente defendam interesses corpor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e claramente ao Estado regular e limitar o poder que permite a um agente transformar sua atividade numa condição de quase ausência de concorr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bém pouco interessa à sociedade esta situação.  Eventuais concorrentes não investem a menos de que sejam sócios do agente dominador, o papel do consumidor é de pagar a conta, a produção é onerada e a sociedade paga mais caro pelos produtos, o País perde competitividade, o Governo prejudica o crescimento econômico, há perda de competitividade para exportação, os investimentos que promovem o desenvolvimento diminuem, perde-se oportunidades de criar empregos e, em última análise, as receitas do Governo sof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E as Alternativas ao Gás Natura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5985000" cy="4895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á ainda o argumento que o consumidor insatisfeito pode optar por uma alternativa energé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 os processos produtivos concentram sua tecnologia moderna em Derivados, Gás e Energia Elétrica.  Caso o consumidor opte por permanecer ou voltar ao uso de derivados líquidos, ele se defrontará novamente com a presença igualmente preponderante da Petrobrás na exploração e produção, no transporte, no refino e na distribuição neste setor.  A energia elétrica não é geralmente competitiva nestas aplicações e tende a se tornar ainda menos no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1400" indent="0">
              <a:spcBef>
                <a:spcPts val="400"/>
              </a:spcBef>
              <a:buNone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32720" y="1484280"/>
            <a:ext cx="2160360" cy="43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-100080"/>
            <a:ext cx="6084720" cy="549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E a atual “Política de Preços” para o GN?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546440" cy="3528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20760" indent="-320760"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o receio de concorrênc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a falta levará, inevitavelmente a um nível crescente de ineficiência empresarial da própria Petrobrás e é inaceitável para os consum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01"/>
              </a:spcBef>
              <a:buClr>
                <a:srgbClr val="000000"/>
              </a:buClr>
              <a:buFont typeface="WP MathA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resultados da Petrobrás, recentemente publicados, também não parecem indicar nenhum constrangimento concorrencial que “demande” uma proteção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1400" indent="0">
              <a:spcBef>
                <a:spcPts val="400"/>
              </a:spcBef>
              <a:buNone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35640" y="1541520"/>
            <a:ext cx="345744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21:22:51Z</dcterms:created>
  <dc:creator>Pedro Krepel</dc:creator>
  <dc:description/>
  <dc:language>en-US</dc:language>
  <cp:lastModifiedBy>eliana</cp:lastModifiedBy>
  <cp:lastPrinted>2003-04-14T13:45:01Z</cp:lastPrinted>
  <dcterms:modified xsi:type="dcterms:W3CDTF">2003-12-03T11:57:01Z</dcterms:modified>
  <cp:revision>9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0840410</vt:r8>
  </property>
  <property fmtid="{D5CDD505-2E9C-101B-9397-08002B2CF9AE}" pid="3" name="_AuthorEmail">
    <vt:lpwstr>krepel@terra.com.br</vt:lpwstr>
  </property>
  <property fmtid="{D5CDD505-2E9C-101B-9397-08002B2CF9AE}" pid="4" name="_AuthorEmailDisplayName">
    <vt:lpwstr>Pedro Krepel</vt:lpwstr>
  </property>
  <property fmtid="{D5CDD505-2E9C-101B-9397-08002B2CF9AE}" pid="5" name="_EmailSubject">
    <vt:lpwstr>Gás Natural e o Acesso Livre</vt:lpwstr>
  </property>
</Properties>
</file>