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0600" y="1511280"/>
            <a:ext cx="87123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0600" y="3972240"/>
            <a:ext cx="87123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0600" y="151128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51128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0600" y="397224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97224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0600" y="1511280"/>
            <a:ext cx="280512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6480" y="1511280"/>
            <a:ext cx="280512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511280"/>
            <a:ext cx="280512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0600" y="3972240"/>
            <a:ext cx="280512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6480" y="3972240"/>
            <a:ext cx="280512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972240"/>
            <a:ext cx="280512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0600" y="1511280"/>
            <a:ext cx="87123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0600" y="1511280"/>
            <a:ext cx="87123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0600" y="1511280"/>
            <a:ext cx="4251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511280"/>
            <a:ext cx="4251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0600" y="228600"/>
            <a:ext cx="8712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0600" y="151128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511280"/>
            <a:ext cx="4251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0600" y="397224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0600" y="1511280"/>
            <a:ext cx="4251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51128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97224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0600" y="151128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511280"/>
            <a:ext cx="42516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0600" y="3972240"/>
            <a:ext cx="87123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600" y="1511280"/>
            <a:ext cx="87123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SzPct val="8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046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6280" indent="-2840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SzPct val="8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2286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2286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2286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03880" y="6529320"/>
            <a:ext cx="33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6000" y="190440"/>
            <a:ext cx="87120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5880"/>
            <a:ext cx="8667720" cy="72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Estrategia &amp; Valor</a:t>
            </a:r>
            <a:r>
              <a:rPr b="1" lang="pt-BR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   </a:t>
            </a:r>
            <a:br>
              <a:rPr sz="2000"/>
            </a:br>
            <a:r>
              <a:rPr b="1" lang="pt-BR" sz="1800" spc="-1" strike="noStrike">
                <a:solidFill>
                  <a:srgbClr val="333399"/>
                </a:solidFill>
                <a:latin typeface="Garamond"/>
                <a:ea typeface="Times New Roman"/>
              </a:rPr>
              <a:t>Consultores associado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600" y="1701720"/>
            <a:ext cx="871236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0" algn="ctr">
              <a:lnSpc>
                <a:spcPct val="90000"/>
              </a:lnSpc>
              <a:spcBef>
                <a:spcPts val="9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gência Nacional do Petróleo - A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 algn="ctr">
              <a:lnSpc>
                <a:spcPct val="90000"/>
              </a:lnSpc>
              <a:spcBef>
                <a:spcPts val="10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Audiência Pública: A nova regulamentação do Acesso Li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0" algn="ctr">
              <a:lnSpc>
                <a:spcPct val="90000"/>
              </a:lnSpc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Rio de Janeiro, 04 de Dezembro d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Principais comentários à Consulta Pública;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0600" y="1827000"/>
            <a:ext cx="8712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SzPct val="8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Proposta é um retrocesso no processo de aber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leta mudança de regr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radição ao acervo de experiências e princíp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paração atividades monopolisticas e concorr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lhas de redacão em prejuízo da operacionalizaçã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rceamento à implantação de compet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SzPct val="8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teração que extrapola a regulamentação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SzPct val="8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ão tem amparo leg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05440" y="147600"/>
            <a:ext cx="28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MME reconheceu a necessidade de definir uma política para o gás natural, delineando o processo de revisão do marco legal e regulatório</a:t>
            </a:r>
            <a:r>
              <a:rPr b="1" lang="pt-BR" sz="2600" spc="-1" strike="noStrike">
                <a:solidFill>
                  <a:srgbClr val="000099"/>
                </a:solidFill>
                <a:latin typeface="Verdana"/>
              </a:rPr>
              <a:t>..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0600" y="1674360"/>
            <a:ext cx="87123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SzPct val="8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ortaria MME 432 de 17/11/2003. Estabelecer diretriz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imento do merc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mação de preç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roveitamento das reservas brasileir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pansão da infra-estrutura de transpor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76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equação do marco regulató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SzPct val="8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semelhança do setor elétrico, entendemos que o CNPE deva préviamente aprovar as diretrizes para então  implementar um novo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05440" y="147600"/>
            <a:ext cx="28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600" y="228600"/>
            <a:ext cx="8712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Concluíndo...  Efetividade regulatória é função do marco legal e da credibilidade do regulador</a:t>
            </a:r>
            <a:r>
              <a:rPr b="1" lang="pt-BR" sz="2600" spc="-1" strike="noStrike">
                <a:solidFill>
                  <a:srgbClr val="000099"/>
                </a:solidFill>
                <a:latin typeface="Verdana"/>
              </a:rPr>
              <a:t>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0600" y="1674720"/>
            <a:ext cx="8712360" cy="36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02120" indent="-40212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SzPct val="8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dicionantes Leg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3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itu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3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 - Constitucionai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SzPct val="8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ários desafios a serem super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3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ógica econômica - Competitividade e Invest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3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andas política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SzPct val="8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vo modelo se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3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dade : Abertura e coordenação dos proces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3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ismo do cron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05440" y="147600"/>
            <a:ext cx="28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0600" y="1701720"/>
            <a:ext cx="871236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0" algn="ctr">
              <a:lnSpc>
                <a:spcPct val="90000"/>
              </a:lnSpc>
              <a:spcBef>
                <a:spcPts val="10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0" algn="ctr">
              <a:lnSpc>
                <a:spcPct val="90000"/>
              </a:lnSpc>
              <a:spcBef>
                <a:spcPts val="10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Muito Obrigado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0" algn="ctr">
              <a:lnSpc>
                <a:spcPct val="90000"/>
              </a:lnSpc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fmoreau@attglobal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2:37:25Z</dcterms:created>
  <dc:creator>BZDTP02 BZDTP02</dc:creator>
  <dc:description/>
  <dc:language>en-US</dc:language>
  <cp:lastModifiedBy>eliana</cp:lastModifiedBy>
  <cp:lastPrinted>1999-10-07T19:19:36Z</cp:lastPrinted>
  <dcterms:modified xsi:type="dcterms:W3CDTF">2003-12-03T12:44:00Z</dcterms:modified>
  <cp:revision>25</cp:revision>
  <dc:subject>Template</dc:subject>
  <dc:title>PowerPoint Presentation</dc:title>
</cp:coreProperties>
</file>