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C15-849B-40C5-831F-114B4AF1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C9D-9C81-4D32-A785-AB00034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197-3B7A-4496-B575-55059EFE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34B-13E5-49C3-9A35-C39B0DC4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2FD-3FAD-463F-90B5-CE19B7C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A24-0819-4789-810F-EC612712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132-B1E2-4E41-9686-4BA23658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A4F-7852-4CAC-826A-FED17D73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1519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F53-DE83-410E-A13D-0827C419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A24-2012-435B-8E4D-0022EE8D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9C3-3763-4D4F-A2E8-4B734771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7D9-FDF1-4E77-88CB-E535DF83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5593-9C73-406F-A046-C9777EE2D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890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Rio, 04 de dezembro de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05740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Arial Narrow"/>
              </a:rPr>
              <a:t>Regulamentação do Livre Acesso a Gasodu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Arial Narrow"/>
              </a:rPr>
              <a:t>- AUDIÊNCIA PÚBLICA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583740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intendência de Comercialização e Movimentação de Gás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ência Nacional do Petróleo - A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de Trabalho criado pela Portaria n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432 (19/11/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ordenação: MME e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é estabelecer diretrizes p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envolvimento do merc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gás natural, ampliando sua participação na matriz energét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rmação d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reç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gás natural, considerando os seus competidores de origem fóssil e renováv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roveitamento da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serv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gás natural no Bras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equação d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co regulatóri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a indústria de G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ansão d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fra-estrutu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transporte e distribuição de gás natural, considerando modais alternativos, inclus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ite para participação de outros agentes a critério da Coorden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F, Petrobras, IBP, TBG, TSB, Transpetro, Distribuidoras de GN, Abegás, BNDES, Reguladores Estadu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AZO: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rço/200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120 dia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ESTAL do Banco Mund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 de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ção de problemas regul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talecimento 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co na Relação Gás-Eletricidade -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ita alguns aspect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alta de competição no suprimento de gás prejudicando a introdução da geração tér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ompatibilidade entre compromissos fixos (ToP e SoP) e flexibilidade tér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ração distribuída, cogeração, mercado secund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ticipação cruzada  considerando as 2 indúst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íticas regulatórias e comercias e relação com barreiras e oportunidades para os ag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jetivo: identificar imperfeições de mercado e propor ações de mitig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ros Iten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ção de Base de Dados do Gas Natural no 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ursos de tecnologia da informação para viabilizar elaboração de políticas consisten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peracionalização do C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valiar  arranjo atual e identificar opções de melhoria das estruturas institucionais de su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ndo este contexto, questiona-se a pertinência de publicar as portarias no curto prazo (até 6 meses) antes de se ter propostas estruturais consistentes e a definição de uma política para o gás na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uns comentários recebidos durante o processo de consulta pública afirmam que a publicação de tais regulamentações não seria oportuna nesse mo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33560" y="3504240"/>
            <a:ext cx="4543560" cy="430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AL A OPINIÃO DOS AGENTE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Audiência Pública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i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 manifestações dos expositores seguirão a ordem de inscrição, realizada previament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da exposição estará limitada ao tempo de 10 minut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icialmente será permitida a manifestação de 1 representante de cada entidad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as as manifestações dos expositores inscritos, será permitido, por um período de 30 minut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retorno de expositores para complementar sua manifestação ou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manifestação de outros participantes da audiênci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dos os depoimentos serão gravad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posicionamento da ANP relativo aos questionamentos apresentados será realizado mediante Nota Técnica, disponibilizada aos interessados, após aprovação pela Diretoria Colegiad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90800" y="4869000"/>
            <a:ext cx="5022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ência Nacional do Petróleo – A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an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67200" y="2286000"/>
          <a:ext cx="12081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7200" y="2286000"/>
                    <a:ext cx="1208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82880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Histórico da Regulamentação do          Livre Acesso a Gasodutos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órico da Regulamentação do Artigo 58 da Lei 9.47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05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169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vogada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visão da Portaria ANP 169/98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98/0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Determina o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ncurso Aberto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para oferta e alocação de capacidade decorrente da expansão de gasod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ontexto do racionamento de energia elétrica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254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gulamenta os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procedimentos para resolução de confli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4 portarias: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, cessão de capacidade e informações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001/0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Estabelece os procedimentos para o envio de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informações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ferentes às atividades de transporte e de compra e v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 e cessão de capacidade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udiênci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 e cessão de capac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1905120"/>
            <a:ext cx="2895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6/nov/98 a 19/abr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07/fev/2001 a 09/mar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25/jun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12/set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05/ago/2002 a 20/out/2002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07/jan/2003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19/set/2003 a 19/nov/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4 de dezembro de 2003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Histórico da Regulamentação do          Livre Acesso a Gasodutos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plitude de alternativ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040" y="2703960"/>
            <a:ext cx="29163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LIVRE ACES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86240" y="2666160"/>
            <a:ext cx="56152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curso Aberto p/ Novos Gasodutos  VS.  só p/ Expansã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4800" y="3276000"/>
            <a:ext cx="4268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de STI Limitada   VS.   Sem Restr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4040" y="4244040"/>
            <a:ext cx="29163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CRITÉRIOS TARIFÁRI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85880" y="4266360"/>
            <a:ext cx="35136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Mais Detalhado   VS.   Mais Gené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83360" y="4647600"/>
            <a:ext cx="278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ência com base legal exis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79760" y="5546160"/>
            <a:ext cx="47710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Pública   VS.   Exceções para Cessão Dire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89120" y="2056680"/>
            <a:ext cx="25261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+ Aberto   VS.   + Restrit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195048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íodo de Carência p/ Mercado Emergente e Novas Instal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720" y="5531400"/>
            <a:ext cx="29649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CESSÃO DE CAPACIDA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057400"/>
            <a:ext cx="0" cy="160020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4114800"/>
            <a:ext cx="0" cy="838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5334120"/>
            <a:ext cx="0" cy="838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2800" spc="-1" strike="noStrike">
                <a:solidFill>
                  <a:srgbClr val="006666"/>
                </a:solidFill>
                <a:latin typeface="Arial Narrow"/>
              </a:rPr>
              <a:t>30 Documentos Recebidos</a:t>
            </a:r>
            <a:endParaRPr b="1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sociações de Classe (7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BP, ABEGAS, ABRACE, APINE, FIESP, SINDSAL,  OAB/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presas Transportadoras (4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BG, TSB, Gasocidente, Transp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overno dos Estados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cretaria de Energia, Indústria Naval e Petróleo - R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presas de Petróleo e Energia (8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G, El Paso, Petrobras, Repsol YPF, Shell, Tot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n American, ChevronTexa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tribuidora de Gás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as Brasil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gência Reguladora Estadual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S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ultores (2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BIE, Estratégia &amp; Va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critório de Advocacia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lhôa Canto, Rezende e Guerra Advog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âmara de Comércio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merican Chamber of Comme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soas físicas (4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osé Garcez, Urbano Lopes, Douglas Pedra/ Lúcia Helena Salgado,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Ricardo Vigl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1371600"/>
            <a:ext cx="4724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GUNS PONTOS DE CONSEN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cariedade de se regulamentar por Por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a percepção de risco pelos a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e LEI específica para o Gás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siderando suas especific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manda por atuação mais enfática por parte do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e compatibilizar Regulação do Setor de Infra-estrutura                 com Defesa da Concor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ulamentação pró-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Alguns Resultados </a:t>
            </a:r>
            <a:br>
              <a:rPr sz="2800"/>
            </a:b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azos de Proteção para Novas Instalações e Mercado Emergente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203940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FAVOR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89520" y="20394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CONTR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440" y="3015360"/>
            <a:ext cx="109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oci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9440" y="2057400"/>
            <a:ext cx="0" cy="4267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8160" y="2634480"/>
            <a:ext cx="833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EG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44400" y="2634480"/>
            <a:ext cx="83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3280" y="3382200"/>
            <a:ext cx="40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00600" y="2634480"/>
            <a:ext cx="64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4480" y="3382200"/>
            <a:ext cx="115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Pan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89160" y="2634480"/>
            <a:ext cx="76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OAB/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54160" y="301536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 Brasil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21200" y="338220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B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440" y="3382200"/>
            <a:ext cx="73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93240" y="2634480"/>
            <a:ext cx="872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MC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21000" y="2634480"/>
            <a:ext cx="622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FI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76560" y="338220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9040" y="2863080"/>
            <a:ext cx="435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83440" y="2955240"/>
            <a:ext cx="982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D. Pedra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L. H. Salg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960" y="2634480"/>
            <a:ext cx="50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5400" y="2634480"/>
            <a:ext cx="97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ranspe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6880" y="3428280"/>
            <a:ext cx="1029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99"/>
                </a:solidFill>
                <a:latin typeface="Arial"/>
              </a:rPr>
              <a:t>Repsol Y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78040" y="2634480"/>
            <a:ext cx="48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3320" y="3382200"/>
            <a:ext cx="494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E&amp;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95320" y="3017160"/>
            <a:ext cx="59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S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4062240"/>
            <a:ext cx="434340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amentos quanto à legalidade             (Leis 9478/97 e 8.884/9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patibilidade com princípios que nortearam decisões de investimento no E&amp;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sição à reserva de mercado, impedem a competitividade e a livre concorrênc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orno à situação de monopól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judica o consumidor, impedindo o acesso a alternativas de suprimento / menores preç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064400"/>
            <a:ext cx="35812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nço com relação às propostas anterior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ção, redução da percepção de risco e incentivo a investiment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uns sugerem aumento dos prazos de prote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74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trob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3047400"/>
            <a:ext cx="1396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99"/>
                </a:solidFill>
                <a:latin typeface="Arial"/>
              </a:rPr>
              <a:t>Secr. Energia R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34120" y="342828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Alguns Resultados </a:t>
            </a:r>
            <a:br>
              <a:rPr sz="2800"/>
            </a:b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ão à Oferta de Transporte Interruptível (70% de utilização do d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44600" y="203940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FAVOR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89520" y="20394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CONTR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440" y="3015360"/>
            <a:ext cx="109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oci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9440" y="2057400"/>
            <a:ext cx="0" cy="4267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8160" y="2634480"/>
            <a:ext cx="833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EG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44400" y="2634480"/>
            <a:ext cx="83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3280" y="3382200"/>
            <a:ext cx="40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00600" y="2634480"/>
            <a:ext cx="64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04480" y="3382200"/>
            <a:ext cx="115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Pan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8680" y="378684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89160" y="2634480"/>
            <a:ext cx="76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OAB/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4160" y="301536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 Brasil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1200" y="338220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B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440" y="3382200"/>
            <a:ext cx="73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93240" y="2634480"/>
            <a:ext cx="872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MC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21000" y="2634480"/>
            <a:ext cx="622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FI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6560" y="338220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9040" y="2863080"/>
            <a:ext cx="435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83440" y="2955240"/>
            <a:ext cx="982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D. Pedra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L. H. Salg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160" y="3785400"/>
            <a:ext cx="1029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Repsol Y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43320" y="3382200"/>
            <a:ext cx="494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E&amp;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95320" y="3017160"/>
            <a:ext cx="59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S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211640"/>
            <a:ext cx="43434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tringe a otimização do uso da infra-estrutur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be o desenvolvimento do mercado de gá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omete o objetivo de modicidade tarifár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belece o monopólio de fato da empresa domin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212360"/>
            <a:ext cx="35812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iga riscos dos contratos de compra de gás que permitiram viabilizar à implantação da infra-estrutura de transpor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uns propõem alterar definição de capacidade ociosa, aumentando restri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7960" y="2634480"/>
            <a:ext cx="50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5400" y="2634480"/>
            <a:ext cx="97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ranspe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78040" y="2634480"/>
            <a:ext cx="48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0474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trob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ês projetos de estudo encontram-se em andamento com o objetivo de propor ou definir Diretrizes para uma Política para o Gás Natu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 de consultoria contratado pela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envolvimento do 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upo de Trabalho MME/ANP criado pela Portaria n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432 (19/11/0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participação de outros agentes a critério dos coorden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 do Banco Mundial - ESTAL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Energy Sector Technical Assistance Lo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ás e 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ronogramas não compatíveis para formulação de uma Política consistente e bem fundame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visão de longo prazo, estrutura de mercado, papel dos agentes,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-22860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talhes nos slides seguinte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jeto de consultoria contratado pela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: propor um modelo de desenvolvimento para a indústria de gás natural no Brasil, fornecendo subsídios para a política de gov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ME/SPG está diretamente envolvido no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gentes do mercado são convidados a contribuir através de entrevistas e convidados para workshops de apresentação de relató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267080"/>
            <a:ext cx="1511280" cy="8384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udo da Experiência Intern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256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agnóstico do Setor de Gás  no 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128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enho do Modelo do Se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agem do Mercado de Gás Na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mo Exec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960" y="54100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69160" y="5334120"/>
            <a:ext cx="15264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3640" y="5813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o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45240" y="571500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et/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95680" y="541008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3040" y="581328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z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6:03:43Z</dcterms:created>
  <dc:creator>ANP</dc:creator>
  <dc:description/>
  <dc:language>en-US</dc:language>
  <cp:lastModifiedBy>eliana</cp:lastModifiedBy>
  <cp:lastPrinted>2003-11-24T16:36:24Z</cp:lastPrinted>
  <dcterms:modified xsi:type="dcterms:W3CDTF">2003-12-04T10:16:18Z</dcterms:modified>
  <cp:revision>158</cp:revision>
  <dc:subject/>
  <dc:title>Slide sem título </dc:title>
</cp:coreProperties>
</file>