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50720" y="66027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5F1-51E6-4FA2-AD0C-F8A78A82EE8F}" type="slidenum">
              <a:rPr b="0" lang="en-US" sz="1000" spc="-1" strike="noStrike">
                <a:solidFill>
                  <a:srgbClr val="ffffff"/>
                </a:solidFill>
                <a:latin typeface="Eri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840800" cy="733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9920" y="7920"/>
            <a:ext cx="13082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PAbertBluecóp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60" y="923760"/>
            <a:ext cx="894564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speito aos contratos em vig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Segurança regulató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Não amplia a exposição de risco da TBG, para cumprimento das obrigações financeiras e comerci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23760"/>
            <a:ext cx="894564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tração de Investim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Adequa o arcabouço regulatório às características da indústria –”tropicaliza”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Conceitos de Mercados Emer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Novas Instalações de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rotege e estimula investimentos em mercados em desenvolvimento e gasodutos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arço/2004, TBG deixa de ser Nova Instalação de Transporte e COMGAS e CEG deixam de ser Mercados Emergentes – sinalização de compet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" y="784080"/>
            <a:ext cx="894564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dequação de conceito Capacidade Ociosa de Transpo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Necessidade de ajuste de definição para não haver conflito na aplicação de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odelo já extensivamente debatido pelos agentes – figura seguinte, mais adequ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9520" y="4243320"/>
            <a:ext cx="570708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847800"/>
            <a:ext cx="89456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dução do preço ao consumi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Critério de alocação de capacidade num Concurso Aberto será baseado no menor preço do gás natural ofertado - </a:t>
            </a:r>
            <a:r>
              <a:rPr b="0" i="1" lang="pt-BR" sz="2000" spc="-1" strike="noStrike">
                <a:solidFill>
                  <a:srgbClr val="ffffff"/>
                </a:solidFill>
                <a:latin typeface="Erie"/>
              </a:rPr>
              <a:t>commodity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+ transp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Infere-se que a concorrência por capacidade restringir-se-á ao preço do gás devendo a tarifa de transporte refletir a mínima necessário para remunerar o invest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Busca benefício à socieda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280" y="847800"/>
            <a:ext cx="89456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Tarifas em função do mercado e configuração do proje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Volume/demanda e distância serão considerados no cálculo tarifário (sinalização adequ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ermite que as tarifas levem em consideração os aspectos de competitividade do Transporta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847800"/>
            <a:ext cx="8945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Incentivos aos Transportadores – busca de novos serviç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Repasse de receitas, entendemos que reduzir o repasse de 90% para 75% estimula o Transportador (oportunidades para obtenção de receitas extras com serviços de transpor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Sugerimos estabelecer a inclusão de duas outras alternativas possíveis (STF e outros serviços), bem como o repasse associado de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9:43:49Z</dcterms:created>
  <dc:creator>Transportadora Brasileira Gasoduto Bolívia-Brasil S.A.</dc:creator>
  <dc:description/>
  <dc:language>en-US</dc:language>
  <cp:lastModifiedBy>charles.fernandes</cp:lastModifiedBy>
  <cp:lastPrinted>2001-06-21T20:18:23Z</cp:lastPrinted>
  <dcterms:modified xsi:type="dcterms:W3CDTF">2003-12-04T12:33:11Z</dcterms:modified>
  <cp:revision>346</cp:revision>
  <dc:subject/>
  <dc:title>Slide sem título </dc:title>
</cp:coreProperties>
</file>